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E5A-B876-4846-8D47-4A335AD8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4E4-3500-4BA3-AE3A-A0F67664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C19-268A-4352-B23F-B7810F1F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765-5863-42CB-BA99-DE1B22F0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7B58-3FE2-417D-9898-05ADEFFB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D94D-C33D-4A03-8946-A577F8C5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F7F2-2731-412E-AC9A-B2CE020E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0CDF-0482-47D4-8AF7-BA7FE4E0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5399-EBAE-4F13-8A3E-02A896C2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451B-7727-418E-8A4C-C41B04A1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A183-BFE7-4641-A7FF-66E0A79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373-E8B1-4529-9B61-6EBBAF5A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9BC3-9F51-4394-9E94-A4887BB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B6D3-2AF8-4719-B4E5-D422A3B7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05F3-76C1-40D3-A38E-DB03EF08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36F4-0E7C-49DA-9A7E-0A0C9D29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5E5-07EC-487B-AECD-63F37A7C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D3BFB-6AFA-4535-83F2-8FC4FA9F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1435-7AEC-4FC7-9249-C76EEEB2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44DB-6165-40CD-880B-74A89C45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3B00-04D0-43CE-AF5B-49D61605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81E3-B436-460C-AA5F-5FD95A16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724-39F1-4C2A-97A0-78C9962E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3000-67CB-4411-998F-FCB07069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223B-7B7B-43CC-9703-8F3757F0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10FAB-FE72-42AF-8A4D-7F09E69A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1454-97E7-4508-AEF8-C44536D6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6457-15DE-4308-B2B9-C31A9C31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48A7-69E7-4B89-A5E2-050136C3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778E-2000-4C47-BC78-B4A17F81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C151-6C08-4E53-9ED7-9B894F48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4DC-7999-4740-B9B9-FA6B1AAC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667E-5F6C-4679-864F-BDD31606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531-1098-44BA-BA2E-155BE13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FCA-5300-4879-8868-C63222E3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FA59-E76F-4143-92E7-2C63E93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DB9F-52EF-4E4F-9AD5-CE6EA0A878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8A7C-9CF0-4D58-B6B4-9193772EFF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592B-E58C-4C08-BE8D-85E36204F2C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07920" y="3025800"/>
            <a:ext cx="561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Gestion 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sources Huma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3880" y="47304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III - Chapitr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424240" y="1836720"/>
            <a:ext cx="1141200" cy="244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24240" y="2674800"/>
            <a:ext cx="1404720" cy="23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24240" y="3505320"/>
            <a:ext cx="2271600" cy="244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24240" y="4343400"/>
            <a:ext cx="3573360" cy="244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24240" y="5181480"/>
            <a:ext cx="3375000" cy="23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4240" y="6012000"/>
            <a:ext cx="1744560" cy="244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24240" y="2081160"/>
            <a:ext cx="1649160" cy="23508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24240" y="2909880"/>
            <a:ext cx="1488960" cy="2365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24240" y="3749760"/>
            <a:ext cx="2733480" cy="234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4240" y="4587840"/>
            <a:ext cx="5024160" cy="23508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4240" y="5418000"/>
            <a:ext cx="5665680" cy="23508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24240" y="6256440"/>
            <a:ext cx="2385720" cy="234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1662120"/>
            <a:ext cx="1440" cy="501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78160" y="16621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78160" y="250020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8160" y="33307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78160" y="41688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78160" y="50068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78160" y="583740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78160" y="667548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39240" y="1774800"/>
            <a:ext cx="554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0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04560" y="2612880"/>
            <a:ext cx="554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4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71800" y="3452760"/>
            <a:ext cx="829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1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71760" y="4290840"/>
            <a:ext cx="829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88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74840" y="5121360"/>
            <a:ext cx="829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78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42600" y="5950080"/>
            <a:ext cx="554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49000" y="2019240"/>
            <a:ext cx="554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7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88800" y="2849400"/>
            <a:ext cx="554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33680" y="3687840"/>
            <a:ext cx="829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44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24360" y="4525920"/>
            <a:ext cx="829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65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65520" y="5356080"/>
            <a:ext cx="829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99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84480" y="6194520"/>
            <a:ext cx="829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26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07720" y="1905120"/>
            <a:ext cx="125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v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2680" y="274320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760" y="3384720"/>
            <a:ext cx="1744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é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28400" y="4419720"/>
            <a:ext cx="10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87400" y="5029200"/>
            <a:ext cx="1474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2680" y="608976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1828800"/>
            <a:ext cx="3049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5040" y="1768320"/>
            <a:ext cx="123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2286000"/>
            <a:ext cx="304920" cy="3049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35040" y="2225520"/>
            <a:ext cx="128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7000" y="76320"/>
            <a:ext cx="5993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aires nets mensuels en F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€ tout temps de travail confond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nées 2001, hors fonction pu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2400" y="182880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6080" y="2666880"/>
            <a:ext cx="637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18280" y="350532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2400" y="434340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181480"/>
            <a:ext cx="793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37400" y="601992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0880" y="380880"/>
            <a:ext cx="54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salaire se compose 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2133720"/>
            <a:ext cx="7291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aire de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ation pour heures supplément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ntages e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urbo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02560" y="198360"/>
            <a:ext cx="62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. La gestion des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des carriè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0120" y="2340000"/>
            <a:ext cx="69350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ser, entretenir et dévelop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ompétences dont l’entreprise a bes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ermettant au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 ’évoluer à travers différents po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niveaux hiérarch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65640" y="3808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plan de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280" y="3740040"/>
            <a:ext cx="148680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o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0600" y="2057400"/>
            <a:ext cx="166500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 salar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4480" y="5264280"/>
            <a:ext cx="150372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45120" y="1600200"/>
            <a:ext cx="286920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verture cultur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 intellec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2200" y="1600200"/>
            <a:ext cx="349560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remise à niveau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quisition connaiss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59960" y="2590920"/>
            <a:ext cx="265860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illeure maîtr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63120" y="4952880"/>
            <a:ext cx="28508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 nouv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9440" y="3962520"/>
            <a:ext cx="291780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us de rendement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illeure flex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02360" y="5937120"/>
            <a:ext cx="276552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ation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é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34800" y="3352680"/>
            <a:ext cx="333396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perfectionnem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etien ou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2840" y="5162400"/>
            <a:ext cx="27561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de pré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76640" y="5940360"/>
            <a:ext cx="310392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 de reconver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reclass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15" idx="0"/>
            <a:endCxn id="216" idx="2"/>
          </p:cNvCxnSpPr>
          <p:nvPr/>
        </p:nvCxnSpPr>
        <p:spPr>
          <a:xfrm flipV="1">
            <a:off x="779040" y="2908080"/>
            <a:ext cx="44532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5" idx="2"/>
            <a:endCxn id="217" idx="0"/>
          </p:cNvCxnSpPr>
          <p:nvPr/>
        </p:nvCxnSpPr>
        <p:spPr>
          <a:xfrm>
            <a:off x="779400" y="4590720"/>
            <a:ext cx="448560" cy="664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6" idx="3"/>
            <a:endCxn id="218" idx="1"/>
          </p:cNvCxnSpPr>
          <p:nvPr/>
        </p:nvCxnSpPr>
        <p:spPr>
          <a:xfrm flipV="1">
            <a:off x="2074680" y="2020680"/>
            <a:ext cx="354600" cy="457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6" idx="3"/>
            <a:endCxn id="220" idx="1"/>
          </p:cNvCxnSpPr>
          <p:nvPr/>
        </p:nvCxnSpPr>
        <p:spPr>
          <a:xfrm>
            <a:off x="2074680" y="2477880"/>
            <a:ext cx="470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7" idx="3"/>
            <a:endCxn id="222" idx="1"/>
          </p:cNvCxnSpPr>
          <p:nvPr/>
        </p:nvCxnSpPr>
        <p:spPr>
          <a:xfrm flipV="1">
            <a:off x="1996920" y="4382640"/>
            <a:ext cx="434160" cy="1302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17" idx="3"/>
            <a:endCxn id="221" idx="1"/>
          </p:cNvCxnSpPr>
          <p:nvPr/>
        </p:nvCxnSpPr>
        <p:spPr>
          <a:xfrm flipV="1">
            <a:off x="1996920" y="5373360"/>
            <a:ext cx="448560" cy="311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17" idx="3"/>
            <a:endCxn id="223" idx="1"/>
          </p:cNvCxnSpPr>
          <p:nvPr/>
        </p:nvCxnSpPr>
        <p:spPr>
          <a:xfrm>
            <a:off x="1996920" y="5684760"/>
            <a:ext cx="486720" cy="673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8" idx="3"/>
            <a:endCxn id="219" idx="1"/>
          </p:cNvCxnSpPr>
          <p:nvPr/>
        </p:nvCxnSpPr>
        <p:spPr>
          <a:xfrm>
            <a:off x="5330520" y="2020680"/>
            <a:ext cx="2833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0" idx="3"/>
            <a:endCxn id="224" idx="1"/>
          </p:cNvCxnSpPr>
          <p:nvPr/>
        </p:nvCxnSpPr>
        <p:spPr>
          <a:xfrm>
            <a:off x="5234040" y="3011040"/>
            <a:ext cx="483120" cy="762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2" idx="3"/>
            <a:endCxn id="224" idx="1"/>
          </p:cNvCxnSpPr>
          <p:nvPr/>
        </p:nvCxnSpPr>
        <p:spPr>
          <a:xfrm flipV="1">
            <a:off x="5385960" y="3772800"/>
            <a:ext cx="330840" cy="610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1" idx="3"/>
            <a:endCxn id="225" idx="1"/>
          </p:cNvCxnSpPr>
          <p:nvPr/>
        </p:nvCxnSpPr>
        <p:spPr>
          <a:xfrm>
            <a:off x="5332320" y="5373360"/>
            <a:ext cx="721440" cy="27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3" idx="3"/>
            <a:endCxn id="226" idx="1"/>
          </p:cNvCxnSpPr>
          <p:nvPr/>
        </p:nvCxnSpPr>
        <p:spPr>
          <a:xfrm>
            <a:off x="5287680" y="6357600"/>
            <a:ext cx="570600" cy="3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57680" y="1411200"/>
            <a:ext cx="608004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57680" y="1411200"/>
            <a:ext cx="6080040" cy="5448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57680" y="2355840"/>
            <a:ext cx="4268520" cy="222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57680" y="3133800"/>
            <a:ext cx="1314360" cy="222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57680" y="3911760"/>
            <a:ext cx="996840" cy="2235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57680" y="4691160"/>
            <a:ext cx="1544400" cy="222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57680" y="5468760"/>
            <a:ext cx="876240" cy="2239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57680" y="6246720"/>
            <a:ext cx="1400040" cy="222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57680" y="1800360"/>
            <a:ext cx="5435280" cy="22212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57680" y="2577960"/>
            <a:ext cx="5059080" cy="2224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57680" y="3355920"/>
            <a:ext cx="4062240" cy="2224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57680" y="4135320"/>
            <a:ext cx="2384280" cy="2224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57680" y="4913280"/>
            <a:ext cx="2261880" cy="22212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57680" y="5692680"/>
            <a:ext cx="1033200" cy="2206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57680" y="6469200"/>
            <a:ext cx="4049640" cy="22212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57680" y="1411200"/>
            <a:ext cx="1440" cy="544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1411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21906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967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7465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45244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53038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608004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685944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08160" y="1447920"/>
            <a:ext cx="44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92800" y="229248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38640" y="306864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20760" y="384984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68680" y="462744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0160" y="540720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24320" y="618480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61360" y="173664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85160" y="251460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1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86520" y="329256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8560" y="407196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86520" y="484992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57480" y="5627520"/>
            <a:ext cx="424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73920" y="6407280"/>
            <a:ext cx="59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7760" y="1727280"/>
            <a:ext cx="103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160" y="2209680"/>
            <a:ext cx="2085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édi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1720" y="2971800"/>
            <a:ext cx="210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40" y="3870360"/>
            <a:ext cx="3186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rce e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6440" y="4724280"/>
            <a:ext cx="2577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vriers qualif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7320" y="5410080"/>
            <a:ext cx="188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v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qualif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46360" y="6264360"/>
            <a:ext cx="143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e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4880" y="5133960"/>
            <a:ext cx="272880" cy="289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360" y="5057640"/>
            <a:ext cx="198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s diplô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4880" y="5532480"/>
            <a:ext cx="272880" cy="287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6200" y="5502240"/>
            <a:ext cx="198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c diplô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81760" y="168120"/>
            <a:ext cx="61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ux d ’accès à la 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ée par l ’employeur en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88120" y="3138480"/>
            <a:ext cx="38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. La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44160" y="3124080"/>
            <a:ext cx="670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. La gestion des conflits soci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2596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97200" y="45720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instances légales du dialogue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47960" y="407880"/>
            <a:ext cx="88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principaux organes syndicaux en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6800" y="2157480"/>
            <a:ext cx="75369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Confédération Générale du Travail (189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Confédération française des travailleu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étiens (19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D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nfédération Française Démocrat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 Travail (196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Force Ouvrière (194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Confédération Générale des Cadres (194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3320" y="411120"/>
            <a:ext cx="88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gestion des ressources humaines c ’es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160" y="2340000"/>
            <a:ext cx="8059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antir au moindre coût une adéquation 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sources et besoins de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 le plan quantitatif et qualit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ur obtenir une mobilisation du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 les objectifs de l 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19520" y="4111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recherche de flexibil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83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17240" y="411120"/>
            <a:ext cx="81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stion Prévisionnelle de l ’Emploi (G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040" y="1413000"/>
            <a:ext cx="39571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pectives straté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 ’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040" y="2732040"/>
            <a:ext cx="394056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 des empl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haitables dans N m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62520" y="1436760"/>
            <a:ext cx="41004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ude structure ac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 emplois de l'entre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93480" y="2732040"/>
            <a:ext cx="410976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 structure attend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 ’emploi dans N m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45920" y="3935520"/>
            <a:ext cx="21268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7400" y="4849920"/>
            <a:ext cx="57736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inition des politiques d ’ajus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6800" y="5792760"/>
            <a:ext cx="36554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ustement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utation, promotion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98520" y="5780160"/>
            <a:ext cx="4077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ustement ex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mbauche, licenci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2287440"/>
            <a:ext cx="8384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2287440"/>
            <a:ext cx="83808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4421160"/>
            <a:ext cx="8380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797600">
            <a:off x="6018120" y="3656880"/>
            <a:ext cx="992160" cy="763560"/>
          </a:xfrm>
          <a:custGeom>
            <a:avLst/>
            <a:gdLst>
              <a:gd name="textAreaLeft" fmla="*/ 0 w 992160"/>
              <a:gd name="textAreaRight" fmla="*/ 992520 w 9921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rot="10798200">
            <a:off x="1980000" y="3658680"/>
            <a:ext cx="912960" cy="763560"/>
          </a:xfrm>
          <a:custGeom>
            <a:avLst/>
            <a:gdLst>
              <a:gd name="textAreaLeft" fmla="*/ 360 w 912960"/>
              <a:gd name="textAreaRight" fmla="*/ 913680 w 9129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6" idx="2"/>
            <a:endCxn id="137" idx="0"/>
          </p:cNvCxnSpPr>
          <p:nvPr/>
        </p:nvCxnSpPr>
        <p:spPr>
          <a:xfrm flipH="1">
            <a:off x="2144880" y="5349960"/>
            <a:ext cx="2349720" cy="429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8" idx="0"/>
          </p:cNvCxnSpPr>
          <p:nvPr/>
        </p:nvCxnSpPr>
        <p:spPr>
          <a:xfrm>
            <a:off x="4494240" y="5349600"/>
            <a:ext cx="2443680" cy="416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39200" y="380880"/>
            <a:ext cx="46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GRH - plan du c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7520" y="2057400"/>
            <a:ext cx="563364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Les politiques de l ’empl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La gestion des rémuné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Compétences et carri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V. La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. La gestion des conf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6760" y="38088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 Les politiques de l ’empl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6440" y="2057400"/>
            <a:ext cx="524052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Recru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Embau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Gestion du temps de trav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4. Externalisation de l ’empl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5. Réduction des effe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7080" y="380880"/>
            <a:ext cx="76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étapes du processus d ’embau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9880" y="1752480"/>
            <a:ext cx="23508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finition 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l req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77600" y="3297240"/>
            <a:ext cx="223344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0480" y="4440240"/>
            <a:ext cx="17611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é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70840" y="5568840"/>
            <a:ext cx="379728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eil et inté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s le po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743200"/>
            <a:ext cx="8384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886200"/>
            <a:ext cx="8384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5029200"/>
            <a:ext cx="8384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69080" y="380880"/>
            <a:ext cx="64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La gestion des rémuné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34920" y="2666880"/>
            <a:ext cx="539892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e sa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e système de rémuné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45:11Z</dcterms:created>
  <dc:creator>The Computer</dc:creator>
  <dc:description/>
  <dc:language>en-US</dc:language>
  <cp:lastModifiedBy>LE VOURCH</cp:lastModifiedBy>
  <dcterms:modified xsi:type="dcterms:W3CDTF">2005-02-02T02:58:26Z</dcterms:modified>
  <cp:revision>69</cp:revision>
  <dc:subject/>
  <dc:title>Aucun titre de diapositive</dc:title>
</cp:coreProperties>
</file>