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22F7-22B0-4DEF-881E-397CBF1C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9C0-2F6B-4CB1-99C2-40393A6E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3B1-334C-40F2-86EF-0455453E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F64A-BD5E-4F81-BBB4-83936760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00DD-168B-4D2C-BDC0-C9579EB4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C261-079A-470D-8686-DC5AE7DA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F470-8478-4306-B326-A570190E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1577-81D4-4A3E-8479-A0E71E8D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F6E6-3780-4341-955A-8570CD6C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7830-3BD1-4B54-B33C-09850480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E258-A349-47DA-83B9-95D5118A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3E41-6B9E-4AFD-AD40-6F128FDD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BC1B-447A-4F2E-A8F2-C7675B21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7823-9AF5-4B30-982C-92443D19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B7E2-8714-41B8-8309-E18E5ABA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554A-96A7-4854-B68F-DDB0A423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6BBC-6406-408D-8ECA-42ADA07F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EB21F-B260-4252-867B-9CC1B8B5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4B275-88DD-4144-8656-D2C1A863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166B9-2666-42FC-9F18-E43F71AB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9F3D9-C35A-4569-B305-03E0F4A2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DD5AC-5CAE-4F5D-A682-3F1AF109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EC9-EB97-404B-8AD0-152F15E4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73EF5-75FA-41E2-A273-61BA339A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C1A50-8419-4DE9-A3B6-04E5E0BB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6C884-99A8-46D6-ABAC-D71AA3CE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F3310-BC0D-4BD6-A59F-F667C8DD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ACD1D-6A51-4993-97A5-C19A6484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B0608-630D-489D-9DCE-34D95827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2672D-09B8-4122-B56A-A7726756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3BA85-E220-4CFD-9367-17134306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AD87D-7493-4CB7-8836-CD277525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4B648-1224-40AF-A503-C4B3A6E9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9F2B-B645-4235-BC84-C670E40D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ED574-70FD-484A-A5B8-B285FD12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745D0-4233-41FA-947A-E12D1332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B0FEA-500C-4815-AE79-04CEE812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968DC-7ABE-4311-B45E-5D3E53D6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2C179-2A0D-4AA6-929E-D0191D05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71FEB-3747-4582-97A9-6D4E564E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28FC0-3727-45F8-B08E-AAD1DF5B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C41C8-46DF-4E70-80C2-C15D34AC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36CD4-DE9D-4599-A9DC-9E1EDE5B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125B5-F758-481D-9FDE-DE007019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FD99-0198-49CF-9DC8-7B958590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4A879-ABAD-45DE-9890-3E1A16ED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57032-B1F7-4794-BCFC-77BB6418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84C03-8E64-48B2-B426-7A40469A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A2017-48B6-494F-A795-41E1C938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1CD0C-029B-4656-B58D-BFA9802A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F49D7-3188-439D-894E-5FB7BEAF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B06B7-A01B-4F63-904E-7244C07B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80130-0628-4537-B27D-835D07D2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39ECF-B849-4948-8731-7E7D5E64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C8032-86C1-4B6C-AD3E-1C191CFB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C6CE-D923-485B-85E0-87B51C57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F3DD7-762F-40A8-84D8-C198F54E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D346-0F45-47B9-9A6C-94D5F9BA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CD43-88B8-406B-8B59-C698633D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3AF8-D61C-44FA-8056-0A4D87B3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2DE0-4DF6-4BCC-BD7D-0960C51932C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3D84-CC5F-4C22-ACA9-EAD90C5B5D2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CEB4-0806-425B-9654-595FE7B9B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2D0E-F14C-4B6A-944A-DF027E7CA72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EF57-D2C2-4FC9-9A5F-82D629ADBD0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848680" y="762120"/>
            <a:ext cx="34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spécia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7320" y="2781360"/>
            <a:ext cx="8084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ivision de l’entreprise en organes distinc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e sur le principe de spécialis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 définit la manière dont est opéré le découpag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 activités dans l’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635280" y="189000"/>
            <a:ext cx="180036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92360" y="1413000"/>
            <a:ext cx="1439640" cy="57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867280" y="1413000"/>
            <a:ext cx="1729080" cy="57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920" y="2421000"/>
            <a:ext cx="122400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258920" y="2421000"/>
            <a:ext cx="1368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627280" y="2421000"/>
            <a:ext cx="1800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71640" y="3860640"/>
            <a:ext cx="295272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me produit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292720" y="3860640"/>
            <a:ext cx="295272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me produit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-36360" y="4869000"/>
            <a:ext cx="86508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00000" y="4869000"/>
            <a:ext cx="18003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71640" y="4869000"/>
            <a:ext cx="165600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00720" y="907920"/>
            <a:ext cx="0" cy="252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84360" y="3429000"/>
            <a:ext cx="439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2484360" y="3428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6877080" y="3428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96720" y="4653000"/>
            <a:ext cx="324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96720" y="4653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3637080" y="4653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1763640" y="4653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413080" y="4437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684000" y="1989000"/>
            <a:ext cx="172692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1979280" y="1989000"/>
            <a:ext cx="4316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411280" y="1989000"/>
            <a:ext cx="115272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340000" y="1125360"/>
            <a:ext cx="439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2340000" y="112500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732720" y="112500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96720" y="5445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96720" y="6453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6720" y="6093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6720" y="5734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63640" y="5445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763640" y="6453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63640" y="6093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763640" y="5734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7080" y="5445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37080" y="6453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637080" y="6093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637080" y="5734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14880" y="5492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32520" y="6211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31800" y="580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983600" y="549288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it A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001240" y="62118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it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000160" y="580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54880" y="5492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72520" y="6211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71800" y="580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716360" y="4869000"/>
            <a:ext cx="86544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653080" y="4869000"/>
            <a:ext cx="18003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524720" y="4869000"/>
            <a:ext cx="165564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49800" y="4653000"/>
            <a:ext cx="32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5149800" y="4653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8389800" y="4653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516720" y="4653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7165800" y="4437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149800" y="5445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149800" y="6453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149800" y="6093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149800" y="5734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516720" y="5445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516720" y="6453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516720" y="6093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516720" y="5734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389800" y="5445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389800" y="6453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89800" y="6093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389800" y="5734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367960" y="5492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385240" y="6211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384880" y="580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736680" y="549288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it 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754320" y="62118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duit 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753240" y="580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607960" y="5492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625600" y="6211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624880" y="580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483640" y="689040"/>
            <a:ext cx="41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justement mut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24360" y="2205000"/>
            <a:ext cx="1295280" cy="10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98520" y="242100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547640" y="3284640"/>
            <a:ext cx="1656000" cy="10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620720" y="350028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547640" y="5445000"/>
            <a:ext cx="1656000" cy="1008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478880" y="566100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ér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940360" y="5445000"/>
            <a:ext cx="1656000" cy="1008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869800" y="566100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ér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572000" y="321300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340000" y="4724280"/>
            <a:ext cx="439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03640" y="3789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340000" y="4724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732720" y="4724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419640" y="5661000"/>
            <a:ext cx="2303280" cy="503280"/>
          </a:xfrm>
          <a:prstGeom prst="leftRightArrow">
            <a:avLst>
              <a:gd name="adj1" fmla="val 50000"/>
              <a:gd name="adj2" fmla="val 91107"/>
            </a:avLst>
          </a:prstGeom>
          <a:solidFill>
            <a:srgbClr val="ff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626560" y="68904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vision direc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924360" y="2205000"/>
            <a:ext cx="1295280" cy="10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998520" y="242100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547640" y="3284640"/>
            <a:ext cx="1656000" cy="10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620720" y="350028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547640" y="5445000"/>
            <a:ext cx="1656000" cy="1008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478880" y="566100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ér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940360" y="5445000"/>
            <a:ext cx="1656000" cy="1008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869800" y="566100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ér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572000" y="321300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40000" y="4724280"/>
            <a:ext cx="439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203640" y="3789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40000" y="4724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732720" y="4724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10800000">
            <a:off x="2050920" y="2133360"/>
            <a:ext cx="1943280" cy="3384360"/>
          </a:xfrm>
          <a:custGeom>
            <a:avLst/>
            <a:gdLst>
              <a:gd name="textAreaLeft" fmla="*/ 557640 w 1943280"/>
              <a:gd name="textAreaRight" fmla="*/ 1664640 w 1943280"/>
              <a:gd name="textAreaTop" fmla="*/ 2701080 h 3384360"/>
              <a:gd name="textAreaBottom" fmla="*/ 2898720 h 3384360"/>
            </a:gdLst>
            <a:ahLst/>
            <a:rect l="textAreaLeft" t="textAreaTop" r="textAreaRight" b="textAreaBottom"/>
            <a:pathLst>
              <a:path w="21600" h="21600">
                <a:moveTo>
                  <a:pt x="0" y="17870"/>
                </a:moveTo>
                <a:lnTo>
                  <a:pt x="6200" y="14139"/>
                </a:lnTo>
                <a:lnTo>
                  <a:pt x="6200" y="17239"/>
                </a:lnTo>
                <a:lnTo>
                  <a:pt x="17239" y="17239"/>
                </a:lnTo>
                <a:lnTo>
                  <a:pt x="17239" y="6200"/>
                </a:lnTo>
                <a:lnTo>
                  <a:pt x="14139" y="6200"/>
                </a:lnTo>
                <a:lnTo>
                  <a:pt x="178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16200000">
            <a:off x="4428360" y="2853360"/>
            <a:ext cx="3382920" cy="1942920"/>
          </a:xfrm>
          <a:custGeom>
            <a:avLst/>
            <a:gdLst>
              <a:gd name="textAreaLeft" fmla="*/ 970920 w 3382920"/>
              <a:gd name="textAreaRight" fmla="*/ 2897640 w 3382920"/>
              <a:gd name="textAreaTop" fmla="*/ 1551240 h 1942920"/>
              <a:gd name="textAreaBottom" fmla="*/ 166428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17872"/>
                </a:moveTo>
                <a:lnTo>
                  <a:pt x="6200" y="14144"/>
                </a:lnTo>
                <a:lnTo>
                  <a:pt x="6200" y="17244"/>
                </a:lnTo>
                <a:lnTo>
                  <a:pt x="17244" y="17244"/>
                </a:lnTo>
                <a:lnTo>
                  <a:pt x="17244" y="6200"/>
                </a:lnTo>
                <a:lnTo>
                  <a:pt x="14144" y="6200"/>
                </a:lnTo>
                <a:lnTo>
                  <a:pt x="17872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2905920" y="404640"/>
            <a:ext cx="325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146560" y="1413000"/>
            <a:ext cx="1295640" cy="10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221080" y="162864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770200" y="2131920"/>
            <a:ext cx="1655640" cy="10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42920" y="234792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843280" y="4510080"/>
            <a:ext cx="1655640" cy="10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774160" y="47260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ér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93080" y="4510080"/>
            <a:ext cx="1655640" cy="10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22520" y="47260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ér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794200" y="242100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635280" y="3789360"/>
            <a:ext cx="424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425840" y="263700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635280" y="3789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885080" y="3789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572000" y="4724280"/>
            <a:ext cx="2448000" cy="503280"/>
          </a:xfrm>
          <a:prstGeom prst="rightArrow">
            <a:avLst>
              <a:gd name="adj1" fmla="val 50000"/>
              <a:gd name="adj2" fmla="val 12160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41640" y="5718240"/>
            <a:ext cx="21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24000" y="4724280"/>
            <a:ext cx="2447640" cy="503280"/>
          </a:xfrm>
          <a:prstGeom prst="rightArrow">
            <a:avLst>
              <a:gd name="adj1" fmla="val 50000"/>
              <a:gd name="adj2" fmla="val 12158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72080" y="5516640"/>
            <a:ext cx="162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édé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317280" y="5734080"/>
            <a:ext cx="188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8038200">
            <a:off x="1206360" y="3328920"/>
            <a:ext cx="1871640" cy="503280"/>
          </a:xfrm>
          <a:prstGeom prst="rightArrow">
            <a:avLst>
              <a:gd name="adj1" fmla="val 50000"/>
              <a:gd name="adj2" fmla="val 9297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5400000">
            <a:off x="3023280" y="3537720"/>
            <a:ext cx="1152720" cy="503280"/>
          </a:xfrm>
          <a:prstGeom prst="rightArrow">
            <a:avLst>
              <a:gd name="adj1" fmla="val 50000"/>
              <a:gd name="adj2" fmla="val 5726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3025800">
            <a:off x="3958920" y="3465360"/>
            <a:ext cx="1871640" cy="503280"/>
          </a:xfrm>
          <a:prstGeom prst="rightArrow">
            <a:avLst>
              <a:gd name="adj1" fmla="val 50000"/>
              <a:gd name="adj2" fmla="val 9297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771640" y="4437000"/>
            <a:ext cx="1800360" cy="1152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3166920" y="68904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08360" y="2932200"/>
            <a:ext cx="89161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niveau de précision dans la descrip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 fonctions, des liaisons, des modes de coordinati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 tâches, des domaines de compét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termine le degré de formalisation d’une entre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1760760" y="689040"/>
            <a:ext cx="56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facteurs de contin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036880" y="2909880"/>
            <a:ext cx="50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âge, la taille et la tech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095920" y="3990960"/>
            <a:ext cx="49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influence de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089880" y="5070600"/>
            <a:ext cx="29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 et pou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969480" y="689040"/>
            <a:ext cx="71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principales formes structur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95160" y="2909880"/>
            <a:ext cx="41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structure fonction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54200" y="39909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structure division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676600" y="5070600"/>
            <a:ext cx="37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structure matric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570680" y="689040"/>
            <a:ext cx="602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 fonctionnelle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708360" y="2637000"/>
            <a:ext cx="1800360" cy="72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4920" y="4654440"/>
            <a:ext cx="115236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258920" y="4654440"/>
            <a:ext cx="194472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84360" y="4005360"/>
            <a:ext cx="712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276720" y="4654440"/>
            <a:ext cx="143964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788000" y="4654440"/>
            <a:ext cx="172872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588000" y="4654440"/>
            <a:ext cx="244980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4643280" y="3357720"/>
            <a:ext cx="0" cy="64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7812000" y="4008600"/>
            <a:ext cx="0" cy="64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651640" y="4008600"/>
            <a:ext cx="0" cy="64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3995640" y="4005360"/>
            <a:ext cx="0" cy="64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2124000" y="4005360"/>
            <a:ext cx="0" cy="64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684360" y="4005360"/>
            <a:ext cx="0" cy="64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635280" y="1197000"/>
            <a:ext cx="1800360" cy="72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47640" y="2421000"/>
            <a:ext cx="165600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47640" y="3357720"/>
            <a:ext cx="1729080" cy="57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332000" y="4869000"/>
            <a:ext cx="2232000" cy="57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51640" y="4869000"/>
            <a:ext cx="2449440" cy="57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920" y="5877000"/>
            <a:ext cx="115236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58920" y="5877000"/>
            <a:ext cx="122400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556000" y="5877000"/>
            <a:ext cx="180000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500720" y="1916280"/>
            <a:ext cx="0" cy="25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484360" y="4437000"/>
            <a:ext cx="439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2484360" y="443700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6877080" y="443700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1280" y="5661000"/>
            <a:ext cx="28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11280" y="566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3419640" y="566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908000" y="566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413080" y="5445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203640" y="2708280"/>
            <a:ext cx="27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797440" y="5877000"/>
            <a:ext cx="129564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164360" y="5877000"/>
            <a:ext cx="144000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878520" y="5445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938920" y="2421000"/>
            <a:ext cx="172872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938920" y="3357720"/>
            <a:ext cx="1728720" cy="57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276720" y="3645000"/>
            <a:ext cx="26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443640" y="5661000"/>
            <a:ext cx="144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6443640" y="566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7885080" y="566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472760" y="333360"/>
            <a:ext cx="62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 fonctionnelle évolu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049840" y="689040"/>
            <a:ext cx="51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 des entrep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6360" y="290988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es trois dimensions de base d’un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4360" y="3990960"/>
            <a:ext cx="56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es déterminants de l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77080" y="5070600"/>
            <a:ext cx="61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es principales formes structur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3635280" y="1197000"/>
            <a:ext cx="1800360" cy="72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116000" y="2421000"/>
            <a:ext cx="208764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9640" y="4149720"/>
            <a:ext cx="223200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io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226200" y="4149720"/>
            <a:ext cx="244944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ion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500720" y="1916280"/>
            <a:ext cx="0" cy="22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92360" y="3716280"/>
            <a:ext cx="575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1692360" y="3717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7451640" y="3717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203640" y="2708280"/>
            <a:ext cx="27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938920" y="2421000"/>
            <a:ext cx="172872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rid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244960" y="3333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tructure divisionn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348000" y="4149720"/>
            <a:ext cx="223200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io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638680" y="400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4920" y="5878440"/>
            <a:ext cx="115236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258920" y="5878440"/>
            <a:ext cx="194472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84360" y="5229360"/>
            <a:ext cx="712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76720" y="5878440"/>
            <a:ext cx="143964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788000" y="5878440"/>
            <a:ext cx="172872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588000" y="5878440"/>
            <a:ext cx="244980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500720" y="472428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7812000" y="5231880"/>
            <a:ext cx="0" cy="64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5651640" y="5231880"/>
            <a:ext cx="0" cy="64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3995640" y="5229360"/>
            <a:ext cx="0" cy="64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124000" y="5229360"/>
            <a:ext cx="0" cy="64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684360" y="5229360"/>
            <a:ext cx="0" cy="64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3446640" y="69228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97920" y="2924280"/>
            <a:ext cx="213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ction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49400" y="5011560"/>
            <a:ext cx="207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vision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72400" y="2492280"/>
            <a:ext cx="6753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rté de l’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tion des res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conomies d’éch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éveloppement de compétences spécialis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372760" y="4653000"/>
            <a:ext cx="599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décentralis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ion efficace autour de chaq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facilement ada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3109320" y="69228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nvén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983880" y="2924280"/>
            <a:ext cx="213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ction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035000" y="5011560"/>
            <a:ext cx="207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ivision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57280" y="2492280"/>
            <a:ext cx="4917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isation f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ion et communic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versales diffic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 iner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259080" y="4653000"/>
            <a:ext cx="4281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ispersion des res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éséconomies d’éch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éveloppement difficil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mpétences spécialis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2516040" y="18900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 matrici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708360" y="1123920"/>
            <a:ext cx="1800360" cy="72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24000" y="3141720"/>
            <a:ext cx="136836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835280" y="3141720"/>
            <a:ext cx="194472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42920" y="2492280"/>
            <a:ext cx="698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24360" y="3141720"/>
            <a:ext cx="143964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506920" y="3141720"/>
            <a:ext cx="136872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020000" y="3141720"/>
            <a:ext cx="194472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4643280" y="1844280"/>
            <a:ext cx="0" cy="64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8028000" y="2495160"/>
            <a:ext cx="0" cy="64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6227640" y="2495160"/>
            <a:ext cx="0" cy="64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4643280" y="2491920"/>
            <a:ext cx="0" cy="64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2843280" y="2491920"/>
            <a:ext cx="0" cy="64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1042920" y="2491920"/>
            <a:ext cx="0" cy="64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24000" y="4795920"/>
            <a:ext cx="864072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24000" y="5372280"/>
            <a:ext cx="8640720" cy="57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24000" y="5948280"/>
            <a:ext cx="864072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24000" y="4221000"/>
            <a:ext cx="8640720" cy="5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63640" y="4221000"/>
            <a:ext cx="0" cy="230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851280" y="4221000"/>
            <a:ext cx="0" cy="230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435640" y="4221000"/>
            <a:ext cx="0" cy="230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948360" y="4221000"/>
            <a:ext cx="0" cy="230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042920" y="371628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2843280" y="371628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4643280" y="371628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6227640" y="371628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8028000" y="371628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95640" y="429264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je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95640" y="484344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je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96000" y="599616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je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52974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763640" y="4221000"/>
            <a:ext cx="208764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763640" y="4797360"/>
            <a:ext cx="208764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763640" y="5372280"/>
            <a:ext cx="2087640" cy="57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763640" y="5948280"/>
            <a:ext cx="208764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852720" y="4221000"/>
            <a:ext cx="158292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851280" y="4795920"/>
            <a:ext cx="158256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851280" y="5372280"/>
            <a:ext cx="1582560" cy="57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851280" y="5948280"/>
            <a:ext cx="158256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437080" y="5948280"/>
            <a:ext cx="151128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435640" y="5372280"/>
            <a:ext cx="1511280" cy="57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435640" y="4795920"/>
            <a:ext cx="151128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35640" y="4221000"/>
            <a:ext cx="151128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948360" y="4221000"/>
            <a:ext cx="201636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948360" y="4795920"/>
            <a:ext cx="201636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948360" y="5372280"/>
            <a:ext cx="2016360" cy="57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948360" y="5948280"/>
            <a:ext cx="201636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414800" y="689040"/>
            <a:ext cx="62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organigramme de l’entrep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5589720"/>
            <a:ext cx="6626160" cy="93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e opérationnel ou d’explo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14800" y="689040"/>
            <a:ext cx="62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organigramme de l’entrep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42160" y="5587920"/>
            <a:ext cx="8062200" cy="936720"/>
            <a:chOff x="542160" y="5587920"/>
            <a:chExt cx="8062200" cy="936720"/>
          </a:xfrm>
        </p:grpSpPr>
        <p:sp>
          <p:nvSpPr>
            <p:cNvPr id="217" name=""/>
            <p:cNvSpPr/>
            <p:nvPr/>
          </p:nvSpPr>
          <p:spPr>
            <a:xfrm>
              <a:off x="611280" y="5587920"/>
              <a:ext cx="2160720" cy="93672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01" y="0"/>
                  </a:lnTo>
                  <a:lnTo>
                    <a:pt x="21600" y="10800"/>
                  </a:lnTo>
                  <a:lnTo>
                    <a:pt x="15601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2160" y="577224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cep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68720" y="5587920"/>
              <a:ext cx="2447640" cy="936720"/>
            </a:xfrm>
            <a:custGeom>
              <a:avLst/>
              <a:gdLst>
                <a:gd name="textAreaLeft" fmla="*/ 0 w 2447640"/>
                <a:gd name="textAreaRight" fmla="*/ 2448000 w 244764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48120" y="580392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cha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56360" y="5587920"/>
              <a:ext cx="2448000" cy="93672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44320" y="5803920"/>
              <a:ext cx="11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en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11640" y="5587920"/>
              <a:ext cx="2448000" cy="93672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02680" y="5803920"/>
              <a:ext cx="188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14800" y="689040"/>
            <a:ext cx="62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organigramme de l’entrep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0800000">
            <a:off x="2700360" y="3355920"/>
            <a:ext cx="3743280" cy="2160720"/>
          </a:xfrm>
          <a:custGeom>
            <a:avLst/>
            <a:gdLst>
              <a:gd name="textAreaLeft" fmla="*/ 1035360 w 3743280"/>
              <a:gd name="textAreaRight" fmla="*/ 2707920 w 3743280"/>
              <a:gd name="textAreaTop" fmla="*/ 597600 h 2160720"/>
              <a:gd name="textAreaBottom" fmla="*/ 15631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997" y="21600"/>
                </a:lnTo>
                <a:lnTo>
                  <a:pt x="7603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2349360"/>
            <a:ext cx="2735280" cy="9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23960" y="4205160"/>
            <a:ext cx="22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ad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42160" y="5587920"/>
            <a:ext cx="8062200" cy="936720"/>
            <a:chOff x="542160" y="5587920"/>
            <a:chExt cx="8062200" cy="936720"/>
          </a:xfrm>
        </p:grpSpPr>
        <p:sp>
          <p:nvSpPr>
            <p:cNvPr id="230" name=""/>
            <p:cNvSpPr/>
            <p:nvPr/>
          </p:nvSpPr>
          <p:spPr>
            <a:xfrm>
              <a:off x="611280" y="5587920"/>
              <a:ext cx="2160720" cy="93672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01" y="0"/>
                  </a:lnTo>
                  <a:lnTo>
                    <a:pt x="21600" y="10800"/>
                  </a:lnTo>
                  <a:lnTo>
                    <a:pt x="15601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2160" y="577224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cep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68720" y="5587920"/>
              <a:ext cx="2447640" cy="936720"/>
            </a:xfrm>
            <a:custGeom>
              <a:avLst/>
              <a:gdLst>
                <a:gd name="textAreaLeft" fmla="*/ 0 w 2447640"/>
                <a:gd name="textAreaRight" fmla="*/ 2448000 w 244764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48120" y="580392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cha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56360" y="5587920"/>
              <a:ext cx="2448000" cy="93672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44320" y="5803920"/>
              <a:ext cx="11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en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11640" y="5587920"/>
              <a:ext cx="2448000" cy="93672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02680" y="5803920"/>
              <a:ext cx="188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414800" y="689040"/>
            <a:ext cx="62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organigramme de l’entrep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0800000">
            <a:off x="2700360" y="3355920"/>
            <a:ext cx="3743280" cy="2160720"/>
          </a:xfrm>
          <a:custGeom>
            <a:avLst/>
            <a:gdLst>
              <a:gd name="textAreaLeft" fmla="*/ 1035360 w 3743280"/>
              <a:gd name="textAreaRight" fmla="*/ 2707920 w 3743280"/>
              <a:gd name="textAreaTop" fmla="*/ 597600 h 2160720"/>
              <a:gd name="textAreaBottom" fmla="*/ 15631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997" y="21600"/>
                </a:lnTo>
                <a:lnTo>
                  <a:pt x="7603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58920" y="3355920"/>
            <a:ext cx="2665440" cy="2160720"/>
          </a:xfrm>
          <a:prstGeom prst="parallelogram">
            <a:avLst>
              <a:gd name="adj" fmla="val 6046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2349360"/>
            <a:ext cx="2735280" cy="9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23960" y="4205160"/>
            <a:ext cx="22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ad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20360" y="3789360"/>
            <a:ext cx="194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42160" y="5587920"/>
            <a:ext cx="8062200" cy="936720"/>
            <a:chOff x="542160" y="5587920"/>
            <a:chExt cx="8062200" cy="936720"/>
          </a:xfrm>
        </p:grpSpPr>
        <p:sp>
          <p:nvSpPr>
            <p:cNvPr id="245" name=""/>
            <p:cNvSpPr/>
            <p:nvPr/>
          </p:nvSpPr>
          <p:spPr>
            <a:xfrm>
              <a:off x="611280" y="5587920"/>
              <a:ext cx="2160720" cy="93672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01" y="0"/>
                  </a:lnTo>
                  <a:lnTo>
                    <a:pt x="21600" y="10800"/>
                  </a:lnTo>
                  <a:lnTo>
                    <a:pt x="15601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2160" y="577224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cep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68720" y="5587920"/>
              <a:ext cx="2447640" cy="936720"/>
            </a:xfrm>
            <a:custGeom>
              <a:avLst/>
              <a:gdLst>
                <a:gd name="textAreaLeft" fmla="*/ 0 w 2447640"/>
                <a:gd name="textAreaRight" fmla="*/ 2448000 w 244764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48120" y="580392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cha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56360" y="5587920"/>
              <a:ext cx="2448000" cy="93672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44320" y="5803920"/>
              <a:ext cx="11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en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11640" y="5587920"/>
              <a:ext cx="2448000" cy="93672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02680" y="5803920"/>
              <a:ext cx="188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414800" y="689040"/>
            <a:ext cx="62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organigramme de l’entrep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700360" y="3355920"/>
            <a:ext cx="3743280" cy="2160720"/>
          </a:xfrm>
          <a:custGeom>
            <a:avLst/>
            <a:gdLst>
              <a:gd name="textAreaLeft" fmla="*/ 1035360 w 3743280"/>
              <a:gd name="textAreaRight" fmla="*/ 2707920 w 3743280"/>
              <a:gd name="textAreaTop" fmla="*/ 597600 h 2160720"/>
              <a:gd name="textAreaBottom" fmla="*/ 15631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997" y="21600"/>
                </a:lnTo>
                <a:lnTo>
                  <a:pt x="7603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58920" y="3355920"/>
            <a:ext cx="2665440" cy="2160720"/>
          </a:xfrm>
          <a:prstGeom prst="parallelogram">
            <a:avLst>
              <a:gd name="adj" fmla="val 6046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219640" y="3355920"/>
            <a:ext cx="2665440" cy="2160720"/>
          </a:xfrm>
          <a:prstGeom prst="parallelogram">
            <a:avLst>
              <a:gd name="adj" fmla="val 599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2349360"/>
            <a:ext cx="2735280" cy="9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23960" y="4205160"/>
            <a:ext cx="22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ad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20360" y="3789360"/>
            <a:ext cx="194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93560" y="3789360"/>
            <a:ext cx="2041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42160" y="5587920"/>
            <a:ext cx="8062200" cy="936720"/>
            <a:chOff x="542160" y="5587920"/>
            <a:chExt cx="8062200" cy="936720"/>
          </a:xfrm>
        </p:grpSpPr>
        <p:sp>
          <p:nvSpPr>
            <p:cNvPr id="262" name=""/>
            <p:cNvSpPr/>
            <p:nvPr/>
          </p:nvSpPr>
          <p:spPr>
            <a:xfrm>
              <a:off x="611280" y="5587920"/>
              <a:ext cx="2160720" cy="93672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01" y="0"/>
                  </a:lnTo>
                  <a:lnTo>
                    <a:pt x="21600" y="10800"/>
                  </a:lnTo>
                  <a:lnTo>
                    <a:pt x="15601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2160" y="577224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cep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68720" y="5587920"/>
              <a:ext cx="2447640" cy="936720"/>
            </a:xfrm>
            <a:custGeom>
              <a:avLst/>
              <a:gdLst>
                <a:gd name="textAreaLeft" fmla="*/ 0 w 2447640"/>
                <a:gd name="textAreaRight" fmla="*/ 2448000 w 244764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48120" y="580392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cha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56360" y="5587920"/>
              <a:ext cx="2448000" cy="93672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44320" y="5803920"/>
              <a:ext cx="11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Ven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11640" y="5587920"/>
              <a:ext cx="2448000" cy="93672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02680" y="5803920"/>
              <a:ext cx="188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414800" y="689040"/>
            <a:ext cx="62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organigramme de l’entrep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0800000">
            <a:off x="2700360" y="3355920"/>
            <a:ext cx="3743280" cy="2160720"/>
          </a:xfrm>
          <a:custGeom>
            <a:avLst/>
            <a:gdLst>
              <a:gd name="textAreaLeft" fmla="*/ 1035360 w 3743280"/>
              <a:gd name="textAreaRight" fmla="*/ 2707920 w 3743280"/>
              <a:gd name="textAreaTop" fmla="*/ 597600 h 2160720"/>
              <a:gd name="textAreaBottom" fmla="*/ 15631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997" y="21600"/>
                </a:lnTo>
                <a:lnTo>
                  <a:pt x="7603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58920" y="3355920"/>
            <a:ext cx="2665440" cy="2160720"/>
          </a:xfrm>
          <a:prstGeom prst="parallelogram">
            <a:avLst>
              <a:gd name="adj" fmla="val 60468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219640" y="3355920"/>
            <a:ext cx="2665440" cy="2160720"/>
          </a:xfrm>
          <a:prstGeom prst="parallelogram">
            <a:avLst>
              <a:gd name="adj" fmla="val 59949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349360"/>
            <a:ext cx="2735280" cy="93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22560" y="2779560"/>
            <a:ext cx="144720" cy="14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10200" y="2779560"/>
            <a:ext cx="144360" cy="14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98920" y="2779560"/>
            <a:ext cx="144360" cy="14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786200" y="2779560"/>
            <a:ext cx="144720" cy="14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75280" y="2779560"/>
            <a:ext cx="144360" cy="14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498920" y="3573360"/>
            <a:ext cx="144360" cy="14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24360" y="4221000"/>
            <a:ext cx="144360" cy="14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48360" y="4221000"/>
            <a:ext cx="144360" cy="14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59280" y="5084640"/>
            <a:ext cx="144360" cy="14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211640" y="5084640"/>
            <a:ext cx="144360" cy="14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3640" y="5084640"/>
            <a:ext cx="144720" cy="14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0360" y="5084640"/>
            <a:ext cx="144360" cy="14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3932280"/>
            <a:ext cx="14472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5589720"/>
            <a:ext cx="6626160" cy="93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24000" y="4437000"/>
            <a:ext cx="14436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32000" y="6021360"/>
            <a:ext cx="14436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619280" y="6021360"/>
            <a:ext cx="14436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08000" y="6021360"/>
            <a:ext cx="14472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195640" y="6021360"/>
            <a:ext cx="14436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84360" y="6021360"/>
            <a:ext cx="14472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71640" y="6021360"/>
            <a:ext cx="14472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59280" y="6021360"/>
            <a:ext cx="14436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0920" y="6021360"/>
            <a:ext cx="14436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778200" y="6021360"/>
            <a:ext cx="14436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067280" y="6021360"/>
            <a:ext cx="14436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356000" y="6021360"/>
            <a:ext cx="14472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716360" y="6021360"/>
            <a:ext cx="14472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03640" y="6021360"/>
            <a:ext cx="14472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292720" y="6021360"/>
            <a:ext cx="14436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227640" y="6021360"/>
            <a:ext cx="14472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15280" y="6021360"/>
            <a:ext cx="14436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04000" y="6021360"/>
            <a:ext cx="14436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6021360"/>
            <a:ext cx="14472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380360" y="6021360"/>
            <a:ext cx="14436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78560" y="6021360"/>
            <a:ext cx="14436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843280" y="4437000"/>
            <a:ext cx="14436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92360" y="5299200"/>
            <a:ext cx="14436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5300640"/>
            <a:ext cx="14436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2920" y="5084640"/>
            <a:ext cx="144360" cy="14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43640" y="3933720"/>
            <a:ext cx="144360" cy="14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27640" y="4437000"/>
            <a:ext cx="14472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4437000"/>
            <a:ext cx="14472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588000" y="5084640"/>
            <a:ext cx="144720" cy="14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0" y="2924280"/>
            <a:ext cx="0" cy="64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0" y="3716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95640" y="4076640"/>
            <a:ext cx="122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95640" y="4076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19640" y="4076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56000" y="494172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129120" y="494172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84720" y="494172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95640" y="436572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0328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76720" y="4941720"/>
            <a:ext cx="158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076720" y="494172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12000" y="494172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59640" y="494172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19640" y="436572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56000" y="494172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9056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7964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6692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5600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4328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200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6220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4984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3856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2584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8800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07528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6256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5164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30072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58800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87708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16436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45164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21440" y="4292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300720" y="4292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16720" y="378936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44720" y="378792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16360" y="4292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95640" y="4292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97080" y="515628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765440" y="515628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03280" y="587700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132000" y="522936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562200" y="5877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84720" y="522936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940360" y="6021360"/>
            <a:ext cx="14436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13440" y="587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88000" y="5877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12000" y="587700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076720" y="522936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012000" y="522936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5640" y="4292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43280" y="3789360"/>
            <a:ext cx="367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843280" y="4076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63640" y="5157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195640" y="4581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88000" y="4437000"/>
            <a:ext cx="144720" cy="1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661080" y="4292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300720" y="429264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516720" y="4076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01520" y="762120"/>
            <a:ext cx="89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trois dimensions de base d’un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415320" y="290988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éci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495600" y="3990960"/>
            <a:ext cx="21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475080" y="5070600"/>
            <a:ext cx="231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1:24:01Z</dcterms:created>
  <dc:creator>LE VOURCH</dc:creator>
  <dc:description/>
  <dc:language>en-US</dc:language>
  <cp:lastModifiedBy>LE VOURCH</cp:lastModifiedBy>
  <dcterms:modified xsi:type="dcterms:W3CDTF">2004-11-10T12:32:14Z</dcterms:modified>
  <cp:revision>66</cp:revision>
  <dc:subject/>
  <dc:title>Diapositive 1</dc:title>
</cp:coreProperties>
</file>