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20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wmf" ContentType="image/x-wmf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4F93-9DF7-42BF-A1DD-5085CB5E7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6CDE-482B-4ADD-B86F-B785C1D7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163B-27D4-4531-B4EE-57B96E691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EE73-786F-4E62-8F83-BAF954AD1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7B85D-4EE6-4ABD-BD2D-403B40B46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DEA13-30F8-4AD0-9254-5730ACE4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2984-B1D1-49F4-840B-0CA56358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AFCC0-3B38-405C-8B7F-0DB605CF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E0BC-C155-4C99-8863-55C1C406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49CF-9D78-4684-8993-48D3D1A7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17CE-B6DA-4714-A734-B116C609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2999-805B-4895-AFA1-E0BE15B9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DFD6-363E-4325-A507-CDFA9090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8F39-9F03-4050-B2A6-F18B5FA8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7436-E740-4F33-80F8-9E6FC0DF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4B7C-4755-4C1D-B8D0-A4655EBCD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FCC8-0154-433F-8E98-6F3D6AB57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35AD5-B4E9-4111-A401-996F309AB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E3273-2437-49C6-A8C3-9878645F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DD1A3-B9ED-4039-A1EC-AA466CC3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012B8-FBD5-4F35-9BD9-78CD6572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4D582-910C-477F-BCA1-0F697DD5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BCA7-FB51-4C46-94F4-5493D5C2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D1D71-215B-496D-AC57-3141E568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265AB-5961-4801-8BD8-CF325835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A849F-2407-487B-9088-81D7B4E5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E3092-C6A9-45A1-BF01-80344A8E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A7452-3076-4DF2-8CAE-D397EA67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032E4-FDA4-436F-BC97-73CF07897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ACA69-E58D-4610-B9A7-F1B1BBA64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28CC-DBDC-42D4-A255-9ECD3289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27B6-BF56-46BF-8EC0-2D7E8330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A0B9-9F2A-4A60-B872-7117D70D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2969-66BC-4211-B8E4-F749B05B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2B92-BCB1-4112-B208-867D84D8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ED66-D544-4706-B201-55FBF4F5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2CC4-B235-4C1C-8545-0EDD0817882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721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2B16-64F8-4AA7-ADC1-81EA54B8D4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2F66-4269-4C1B-AE49-725158338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2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2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008360" y="2397240"/>
            <a:ext cx="7191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Vie de l ’entreprise</a:t>
            </a: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ntroduction généra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EEF7-229C-41F2-9CD2-88848FCFFDE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26080" y="228600"/>
            <a:ext cx="869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mbre d ’entreprise françaises par sec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 ’activité ICS - 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i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janvier ‘ 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200800" cy="4840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B529-882E-435E-A791-44290A39DA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33000" y="1752480"/>
            <a:ext cx="29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09720" y="1752480"/>
            <a:ext cx="5694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iculture, chasse, sylvi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33000" y="2286000"/>
            <a:ext cx="29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09000" y="2286000"/>
            <a:ext cx="6867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êche, aquaculture, services anne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5080" y="2819520"/>
            <a:ext cx="29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10440" y="2819520"/>
            <a:ext cx="3819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es extra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5080" y="3352680"/>
            <a:ext cx="29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11880" y="3352680"/>
            <a:ext cx="4379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e manufacturiè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33000" y="3886200"/>
            <a:ext cx="272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11160" y="3886200"/>
            <a:ext cx="7855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ion et distribution électricité gaz 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0560" y="4419720"/>
            <a:ext cx="249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12600" y="4419720"/>
            <a:ext cx="2282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16440" y="4952880"/>
            <a:ext cx="317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11160" y="4952880"/>
            <a:ext cx="69058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rce ; réparations automobile 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'articles domes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5080" y="6019920"/>
            <a:ext cx="29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1160" y="6019920"/>
            <a:ext cx="3749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ôtels et restau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04800" y="228600"/>
            <a:ext cx="75628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menclature des Activités França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 17 nive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0D58-5AB7-44C6-95A9-CB9AD5C97D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09240" y="1752480"/>
            <a:ext cx="113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33760" y="1752480"/>
            <a:ext cx="5442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s et commun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79000" y="2286000"/>
            <a:ext cx="226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35560" y="2286000"/>
            <a:ext cx="3592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és financiè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256680" y="2819520"/>
            <a:ext cx="8683200" cy="487800"/>
            <a:chOff x="256680" y="2819520"/>
            <a:chExt cx="8683200" cy="487800"/>
          </a:xfrm>
        </p:grpSpPr>
        <p:sp>
          <p:nvSpPr>
            <p:cNvPr id="269" name=""/>
            <p:cNvSpPr/>
            <p:nvPr/>
          </p:nvSpPr>
          <p:spPr>
            <a:xfrm>
              <a:off x="256680" y="281952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33040" y="2819520"/>
              <a:ext cx="8106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Immobilier, location, services aux entrepris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270720" y="3352680"/>
            <a:ext cx="249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37720" y="3352680"/>
            <a:ext cx="4219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nistration publ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4720" y="3886200"/>
            <a:ext cx="339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37360" y="3886200"/>
            <a:ext cx="1806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48760" y="4419720"/>
            <a:ext cx="29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36280" y="4419720"/>
            <a:ext cx="4086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té et action soc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40480" y="4952880"/>
            <a:ext cx="317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32320" y="4952880"/>
            <a:ext cx="7389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s collectifs, sociaux et person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6680" y="5486400"/>
            <a:ext cx="272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35200" y="5486400"/>
            <a:ext cx="4066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és des mén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0480" y="6019920"/>
            <a:ext cx="317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34480" y="6019920"/>
            <a:ext cx="4676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és extra-territor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04800" y="304920"/>
            <a:ext cx="75628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menclature des Activités França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 17 nive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6145-C31B-4D7C-9D53-9C0D65191D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84120" y="2514600"/>
            <a:ext cx="2842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us-section 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2520" y="609480"/>
            <a:ext cx="7562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menclature des Activités França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28960" y="1752480"/>
            <a:ext cx="8391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tion K 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mmobilier, location, services entrepr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4240" y="3276720"/>
            <a:ext cx="1581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v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63920" y="3809880"/>
            <a:ext cx="8161920" cy="27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0 Activités immobiliè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1 Location sans opéra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2 Activités informat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3 Recherche et développ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4 Services fournis principalement aux entrepr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182E-1F94-438E-B225-6300F12D24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52520" y="609480"/>
            <a:ext cx="7562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menclature des Activités França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55400" y="1752480"/>
            <a:ext cx="675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ision 72 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és informa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8040" y="2514600"/>
            <a:ext cx="7043400" cy="38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2.1 Conseil en systèmes informat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2.2 Réalisation de logici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2.3 Traitement de donn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2.4 Activités de banques de donn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2.5 Entretien et réparation machines de bur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 matériel informa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2.6 Autres activités rattachées à l'informati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3B5F-04AC-4DB0-A14F-2FE82AD222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715160" cy="46371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549000" y="281160"/>
            <a:ext cx="775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épartition des entreprises en fonc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 nombre de salariés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i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anvi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0B82-13E1-4314-8EBB-B67822ECC4F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83640" y="304920"/>
            <a:ext cx="772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épartition de l'emploi salarié par ta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'entreprise au 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i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janvier ‘ 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399000" cy="450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4F0A-1490-4F8D-A48C-EB70B31CAB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231040" cy="47498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82200" y="304920"/>
            <a:ext cx="785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épartition par secteurs ICS du nom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 TPE au 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i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janvier ‘ 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515C-CAB3-4432-BE69-F2A896B87A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2200" y="304920"/>
            <a:ext cx="785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épartition par secteurs ICS du nom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 PME au 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i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janvier ‘ 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226360" cy="456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AB1A-E67D-4443-8B64-1AAC7C8BAF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549360" y="304920"/>
            <a:ext cx="807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épartition par secteurs ICS du nom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 grandes entreprises au 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i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janvier ‘ 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226360" cy="457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1E8E-CFAD-45A9-82EC-E63DBEE601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88960" y="473040"/>
            <a:ext cx="767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 nouvelles fonctions de l ’ingéni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8880" y="2133720"/>
            <a:ext cx="847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ité managériale 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ation et encadre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 travail en entrepr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080" y="3505320"/>
            <a:ext cx="906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ination entre différentes fonctions de l ’entrepr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3160" y="5486400"/>
            <a:ext cx="66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adrement d ’ équipes de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2080" y="4495680"/>
            <a:ext cx="620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lotage d ’un projet ou d ’une aff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C484-F01A-4421-A48D-9D1924103B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3200400" y="2057400"/>
            <a:ext cx="2362320" cy="198288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1984680" y="228600"/>
            <a:ext cx="5103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 la grande entreprise…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à la PME filialis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685800" y="3615840"/>
            <a:ext cx="2262960" cy="1280160"/>
            <a:chOff x="685800" y="3615840"/>
            <a:chExt cx="2262960" cy="1280160"/>
          </a:xfrm>
        </p:grpSpPr>
        <p:pic>
          <p:nvPicPr>
            <p:cNvPr id="305" name="" descr=""/>
            <p:cNvPicPr/>
            <p:nvPr/>
          </p:nvPicPr>
          <p:blipFill>
            <a:blip r:embed="rId2"/>
            <a:stretch/>
          </p:blipFill>
          <p:spPr>
            <a:xfrm>
              <a:off x="685800" y="3733920"/>
              <a:ext cx="113364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 rot="9048600">
              <a:off x="1980720" y="380988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134080" y="3809880"/>
              <a:ext cx="69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2666880" y="4069800"/>
            <a:ext cx="1183680" cy="2273760"/>
            <a:chOff x="2666880" y="4069800"/>
            <a:chExt cx="1183680" cy="2273760"/>
          </a:xfrm>
        </p:grpSpPr>
        <p:pic>
          <p:nvPicPr>
            <p:cNvPr id="309" name="" descr=""/>
            <p:cNvPicPr/>
            <p:nvPr/>
          </p:nvPicPr>
          <p:blipFill>
            <a:blip r:embed="rId3"/>
            <a:stretch/>
          </p:blipFill>
          <p:spPr>
            <a:xfrm>
              <a:off x="2666880" y="5181480"/>
              <a:ext cx="113364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 rot="6354000">
              <a:off x="3048120" y="434340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124440" y="4267080"/>
              <a:ext cx="69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4724640" y="4070880"/>
            <a:ext cx="1285560" cy="2272680"/>
            <a:chOff x="4724640" y="4070880"/>
            <a:chExt cx="1285560" cy="2272680"/>
          </a:xfrm>
        </p:grpSpPr>
        <p:pic>
          <p:nvPicPr>
            <p:cNvPr id="313" name="" descr=""/>
            <p:cNvPicPr/>
            <p:nvPr/>
          </p:nvPicPr>
          <p:blipFill>
            <a:blip r:embed="rId4"/>
            <a:stretch/>
          </p:blipFill>
          <p:spPr>
            <a:xfrm>
              <a:off x="4876920" y="5181480"/>
              <a:ext cx="113328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 rot="4491600">
              <a:off x="4647960" y="434304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724640" y="4267080"/>
              <a:ext cx="69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9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5549400" y="3693240"/>
            <a:ext cx="2746800" cy="1278720"/>
            <a:chOff x="5549400" y="3693240"/>
            <a:chExt cx="2746800" cy="1278720"/>
          </a:xfrm>
        </p:grpSpPr>
        <p:pic>
          <p:nvPicPr>
            <p:cNvPr id="317" name="" descr=""/>
            <p:cNvPicPr/>
            <p:nvPr/>
          </p:nvPicPr>
          <p:blipFill>
            <a:blip r:embed="rId5"/>
            <a:stretch/>
          </p:blipFill>
          <p:spPr>
            <a:xfrm>
              <a:off x="7162920" y="3809880"/>
              <a:ext cx="113328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 rot="908400">
              <a:off x="5562720" y="3885840"/>
              <a:ext cx="1517400" cy="304920"/>
            </a:xfrm>
            <a:prstGeom prst="rightArrow">
              <a:avLst>
                <a:gd name="adj1" fmla="val 50000"/>
                <a:gd name="adj2" fmla="val 12441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791680" y="3809880"/>
              <a:ext cx="69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C548-7750-4160-9D25-06B12922D2FB}" type="slidenum">
              <a:t>20</a:t>
            </a:fld>
          </a:p>
        </p:txBody>
      </p:sp>
    </p:spTree>
  </p:cSld>
  <p:transition>
    <p:pull dir="d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VDE_Chap1_0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ED7F-1D45-4026-A88A-C4CC316BD44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301320" y="457200"/>
            <a:ext cx="75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ie 1 : Qu ’est-ce que l ’entrepris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61760" y="307800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: Quelques définitions élément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D95E-7B9A-4694-8A41-D476245435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3809880" y="2666880"/>
            <a:ext cx="144792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24" name=""/>
          <p:cNvGrpSpPr/>
          <p:nvPr/>
        </p:nvGrpSpPr>
        <p:grpSpPr>
          <a:xfrm>
            <a:off x="5258520" y="3276720"/>
            <a:ext cx="1904400" cy="612000"/>
            <a:chOff x="5258520" y="3276720"/>
            <a:chExt cx="1904400" cy="612000"/>
          </a:xfrm>
        </p:grpSpPr>
        <p:sp>
          <p:nvSpPr>
            <p:cNvPr id="325" name=""/>
            <p:cNvSpPr/>
            <p:nvPr/>
          </p:nvSpPr>
          <p:spPr>
            <a:xfrm>
              <a:off x="5334120" y="3276720"/>
              <a:ext cx="1828800" cy="228600"/>
            </a:xfrm>
            <a:prstGeom prst="rightArrow">
              <a:avLst>
                <a:gd name="adj1" fmla="val 50000"/>
                <a:gd name="adj2" fmla="val 200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58520" y="3429000"/>
              <a:ext cx="177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7162920" y="2590920"/>
            <a:ext cx="1752480" cy="1600200"/>
            <a:chOff x="7162920" y="2590920"/>
            <a:chExt cx="1752480" cy="1600200"/>
          </a:xfrm>
        </p:grpSpPr>
        <p:sp>
          <p:nvSpPr>
            <p:cNvPr id="328" name=""/>
            <p:cNvSpPr/>
            <p:nvPr/>
          </p:nvSpPr>
          <p:spPr>
            <a:xfrm>
              <a:off x="7318080" y="3124080"/>
              <a:ext cx="142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arch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162920" y="2590920"/>
              <a:ext cx="1752480" cy="1600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4343400" y="1143000"/>
            <a:ext cx="4038480" cy="1371600"/>
            <a:chOff x="4343400" y="1143000"/>
            <a:chExt cx="4038480" cy="1371600"/>
          </a:xfrm>
        </p:grpSpPr>
        <p:sp>
          <p:nvSpPr>
            <p:cNvPr id="331" name=""/>
            <p:cNvSpPr/>
            <p:nvPr/>
          </p:nvSpPr>
          <p:spPr>
            <a:xfrm flipH="1">
              <a:off x="4343400" y="1600200"/>
              <a:ext cx="4038480" cy="914400"/>
            </a:xfrm>
            <a:custGeom>
              <a:avLst/>
              <a:gdLst>
                <a:gd name="textAreaLeft" fmla="*/ 706680 w 4038480"/>
                <a:gd name="textAreaRight" fmla="*/ 2927880 w 4038480"/>
                <a:gd name="textAreaTop" fmla="*/ 122400 h 914400"/>
                <a:gd name="textAreaBottom" fmla="*/ 7920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02520" y="1143000"/>
              <a:ext cx="269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hiffre d ’affai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49360" y="1143000"/>
            <a:ext cx="3358800" cy="1515960"/>
            <a:chOff x="549360" y="1143000"/>
            <a:chExt cx="3358800" cy="1515960"/>
          </a:xfrm>
        </p:grpSpPr>
        <p:sp>
          <p:nvSpPr>
            <p:cNvPr id="334" name=""/>
            <p:cNvSpPr/>
            <p:nvPr/>
          </p:nvSpPr>
          <p:spPr>
            <a:xfrm>
              <a:off x="549360" y="1143000"/>
              <a:ext cx="1626840" cy="9471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arch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u travai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1915800">
              <a:off x="2220480" y="1960560"/>
              <a:ext cx="1752840" cy="254160"/>
            </a:xfrm>
            <a:prstGeom prst="leftRightArrow">
              <a:avLst>
                <a:gd name="adj1" fmla="val 50000"/>
                <a:gd name="adj2" fmla="val 137293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245160" y="2666880"/>
            <a:ext cx="3412440" cy="825480"/>
            <a:chOff x="245160" y="2666880"/>
            <a:chExt cx="3412440" cy="825480"/>
          </a:xfrm>
        </p:grpSpPr>
        <p:sp>
          <p:nvSpPr>
            <p:cNvPr id="337" name=""/>
            <p:cNvSpPr/>
            <p:nvPr/>
          </p:nvSpPr>
          <p:spPr>
            <a:xfrm>
              <a:off x="245160" y="2666880"/>
              <a:ext cx="2567160" cy="825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somm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termédiai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895480" y="2971800"/>
              <a:ext cx="762120" cy="380880"/>
            </a:xfrm>
            <a:prstGeom prst="leftRightArrow">
              <a:avLst>
                <a:gd name="adj1" fmla="val 50000"/>
                <a:gd name="adj2" fmla="val 39834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549360" y="3851640"/>
            <a:ext cx="3267000" cy="1012320"/>
            <a:chOff x="549360" y="3851640"/>
            <a:chExt cx="3267000" cy="1012320"/>
          </a:xfrm>
        </p:grpSpPr>
        <p:sp>
          <p:nvSpPr>
            <p:cNvPr id="340" name=""/>
            <p:cNvSpPr/>
            <p:nvPr/>
          </p:nvSpPr>
          <p:spPr>
            <a:xfrm>
              <a:off x="549360" y="4038480"/>
              <a:ext cx="2093400" cy="825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quip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if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19900800">
              <a:off x="2666520" y="4114440"/>
              <a:ext cx="1165320" cy="227160"/>
            </a:xfrm>
            <a:prstGeom prst="leftRightArrow">
              <a:avLst>
                <a:gd name="adj1" fmla="val 50000"/>
                <a:gd name="adj2" fmla="val 102124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122840" y="3835080"/>
            <a:ext cx="3312360" cy="2781720"/>
            <a:chOff x="1122840" y="3835080"/>
            <a:chExt cx="3312360" cy="2781720"/>
          </a:xfrm>
        </p:grpSpPr>
        <p:sp>
          <p:nvSpPr>
            <p:cNvPr id="344" name=""/>
            <p:cNvSpPr/>
            <p:nvPr/>
          </p:nvSpPr>
          <p:spPr>
            <a:xfrm>
              <a:off x="1122840" y="5791320"/>
              <a:ext cx="2026440" cy="825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rché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s capitau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18119400">
              <a:off x="2705760" y="4685400"/>
              <a:ext cx="2133360" cy="230040"/>
            </a:xfrm>
            <a:prstGeom prst="leftRightArrow">
              <a:avLst>
                <a:gd name="adj1" fmla="val 50000"/>
                <a:gd name="adj2" fmla="val 184619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5791680" y="228600"/>
            <a:ext cx="22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rchés a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40240" y="228600"/>
            <a:ext cx="255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rchés a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C0294-08BC-4E9B-A414-A4877ACA04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"/>
          <p:cNvGrpSpPr/>
          <p:nvPr/>
        </p:nvGrpSpPr>
        <p:grpSpPr>
          <a:xfrm>
            <a:off x="900000" y="2128680"/>
            <a:ext cx="5410440" cy="1143000"/>
            <a:chOff x="900000" y="2128680"/>
            <a:chExt cx="5410440" cy="1143000"/>
          </a:xfrm>
        </p:grpSpPr>
        <p:sp>
          <p:nvSpPr>
            <p:cNvPr id="349" name=""/>
            <p:cNvSpPr/>
            <p:nvPr/>
          </p:nvSpPr>
          <p:spPr>
            <a:xfrm>
              <a:off x="1433880" y="2357280"/>
              <a:ext cx="435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Valeur de la produ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00000" y="2128680"/>
              <a:ext cx="5410440" cy="11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900000" y="4005360"/>
            <a:ext cx="5410440" cy="1143000"/>
            <a:chOff x="900000" y="4005360"/>
            <a:chExt cx="5410440" cy="1143000"/>
          </a:xfrm>
        </p:grpSpPr>
        <p:sp>
          <p:nvSpPr>
            <p:cNvPr id="352" name=""/>
            <p:cNvSpPr/>
            <p:nvPr/>
          </p:nvSpPr>
          <p:spPr>
            <a:xfrm>
              <a:off x="900000" y="4005360"/>
              <a:ext cx="5410440" cy="11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88720" y="4292640"/>
              <a:ext cx="279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Valeur ajouté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284720" y="400536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933800" y="4292640"/>
              <a:ext cx="81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.I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6388920" y="5589720"/>
            <a:ext cx="22395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niss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276720" y="3429000"/>
            <a:ext cx="79056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 rot="10800000">
            <a:off x="5002560" y="5229360"/>
            <a:ext cx="1081080" cy="1008000"/>
          </a:xfrm>
          <a:custGeom>
            <a:avLst/>
            <a:gdLst>
              <a:gd name="textAreaLeft" fmla="*/ -360 w 1081080"/>
              <a:gd name="textAreaRight" fmla="*/ 1081080 w 1081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1120" y="476280"/>
            <a:ext cx="90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épartition de la valeur ajoutée de l’entrep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611280" y="1989000"/>
            <a:ext cx="7424640" cy="3311640"/>
            <a:chOff x="611280" y="1989000"/>
            <a:chExt cx="7424640" cy="3311640"/>
          </a:xfrm>
        </p:grpSpPr>
        <p:sp>
          <p:nvSpPr>
            <p:cNvPr id="361" name=""/>
            <p:cNvSpPr/>
            <p:nvPr/>
          </p:nvSpPr>
          <p:spPr>
            <a:xfrm>
              <a:off x="611280" y="1989000"/>
              <a:ext cx="6913440" cy="331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2" name="" descr=""/>
            <p:cNvPicPr/>
            <p:nvPr/>
          </p:nvPicPr>
          <p:blipFill>
            <a:blip r:embed="rId1"/>
            <a:stretch/>
          </p:blipFill>
          <p:spPr>
            <a:xfrm>
              <a:off x="6588000" y="2924280"/>
              <a:ext cx="1447920" cy="1228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240D-BF27-43E3-83F5-6EE793C7265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1492200" y="2637000"/>
            <a:ext cx="1249200" cy="1878480"/>
            <a:chOff x="1492200" y="2637000"/>
            <a:chExt cx="1249200" cy="1878480"/>
          </a:xfrm>
        </p:grpSpPr>
        <p:sp>
          <p:nvSpPr>
            <p:cNvPr id="364" name=""/>
            <p:cNvSpPr/>
            <p:nvPr/>
          </p:nvSpPr>
          <p:spPr>
            <a:xfrm>
              <a:off x="1492200" y="3141720"/>
              <a:ext cx="1249200" cy="1373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Impôts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et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ax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08000" y="2637000"/>
              <a:ext cx="50508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2932920" y="2637000"/>
            <a:ext cx="1746000" cy="1878480"/>
            <a:chOff x="2932920" y="2637000"/>
            <a:chExt cx="1746000" cy="1878480"/>
          </a:xfrm>
        </p:grpSpPr>
        <p:sp>
          <p:nvSpPr>
            <p:cNvPr id="367" name=""/>
            <p:cNvSpPr/>
            <p:nvPr/>
          </p:nvSpPr>
          <p:spPr>
            <a:xfrm>
              <a:off x="2932920" y="3141720"/>
              <a:ext cx="1746000" cy="1373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harges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e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ersonne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564000" y="2637000"/>
              <a:ext cx="50472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4861080" y="2637000"/>
            <a:ext cx="947160" cy="2425320"/>
            <a:chOff x="4861080" y="2637000"/>
            <a:chExt cx="947160" cy="2425320"/>
          </a:xfrm>
        </p:grpSpPr>
        <p:sp>
          <p:nvSpPr>
            <p:cNvPr id="370" name=""/>
            <p:cNvSpPr/>
            <p:nvPr/>
          </p:nvSpPr>
          <p:spPr>
            <a:xfrm rot="16200000">
              <a:off x="4382280" y="3636360"/>
              <a:ext cx="1904400" cy="9471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harges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inancièr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76720" y="2637000"/>
              <a:ext cx="50508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6012000" y="2637000"/>
            <a:ext cx="947160" cy="2047320"/>
            <a:chOff x="6012000" y="2637000"/>
            <a:chExt cx="947160" cy="2047320"/>
          </a:xfrm>
        </p:grpSpPr>
        <p:sp>
          <p:nvSpPr>
            <p:cNvPr id="373" name=""/>
            <p:cNvSpPr/>
            <p:nvPr/>
          </p:nvSpPr>
          <p:spPr>
            <a:xfrm rot="16200000">
              <a:off x="5722200" y="3447360"/>
              <a:ext cx="1526400" cy="9471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mortis-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em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300720" y="2637000"/>
              <a:ext cx="50472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7180560" y="2637000"/>
            <a:ext cx="1744200" cy="1025280"/>
            <a:chOff x="7180560" y="2637000"/>
            <a:chExt cx="1744200" cy="1025280"/>
          </a:xfrm>
        </p:grpSpPr>
        <p:sp>
          <p:nvSpPr>
            <p:cNvPr id="376" name=""/>
            <p:cNvSpPr/>
            <p:nvPr/>
          </p:nvSpPr>
          <p:spPr>
            <a:xfrm>
              <a:off x="7180560" y="3141720"/>
              <a:ext cx="1744200" cy="520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énéfic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812000" y="2637000"/>
              <a:ext cx="50508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51120" y="476280"/>
            <a:ext cx="90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épartition de la valeur ajoutée de l’entrep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1636560" y="4653000"/>
            <a:ext cx="1086120" cy="1601640"/>
            <a:chOff x="1636560" y="4653000"/>
            <a:chExt cx="1086120" cy="1601640"/>
          </a:xfrm>
        </p:grpSpPr>
        <p:sp>
          <p:nvSpPr>
            <p:cNvPr id="380" name=""/>
            <p:cNvSpPr/>
            <p:nvPr/>
          </p:nvSpPr>
          <p:spPr>
            <a:xfrm>
              <a:off x="1636560" y="5734080"/>
              <a:ext cx="1086120" cy="520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ETA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908000" y="4653000"/>
              <a:ext cx="505080" cy="936720"/>
            </a:xfrm>
            <a:prstGeom prst="downArrow">
              <a:avLst>
                <a:gd name="adj1" fmla="val 50000"/>
                <a:gd name="adj2" fmla="val 46365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075840" y="4653000"/>
            <a:ext cx="1467000" cy="1601640"/>
            <a:chOff x="3075840" y="4653000"/>
            <a:chExt cx="1467000" cy="1601640"/>
          </a:xfrm>
        </p:grpSpPr>
        <p:sp>
          <p:nvSpPr>
            <p:cNvPr id="383" name=""/>
            <p:cNvSpPr/>
            <p:nvPr/>
          </p:nvSpPr>
          <p:spPr>
            <a:xfrm>
              <a:off x="3075840" y="5734080"/>
              <a:ext cx="1467000" cy="520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alair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564000" y="4653000"/>
              <a:ext cx="504720" cy="936720"/>
            </a:xfrm>
            <a:prstGeom prst="downArrow">
              <a:avLst>
                <a:gd name="adj1" fmla="val 50000"/>
                <a:gd name="adj2" fmla="val 46398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4659480" y="5157720"/>
            <a:ext cx="1526400" cy="1096920"/>
            <a:chOff x="4659480" y="5157720"/>
            <a:chExt cx="1526400" cy="1096920"/>
          </a:xfrm>
        </p:grpSpPr>
        <p:sp>
          <p:nvSpPr>
            <p:cNvPr id="386" name=""/>
            <p:cNvSpPr/>
            <p:nvPr/>
          </p:nvSpPr>
          <p:spPr>
            <a:xfrm>
              <a:off x="4659480" y="5734080"/>
              <a:ext cx="1526400" cy="520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êteu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076720" y="5157720"/>
              <a:ext cx="505080" cy="4320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250920" y="1557360"/>
            <a:ext cx="8893080" cy="3743280"/>
            <a:chOff x="250920" y="1557360"/>
            <a:chExt cx="8893080" cy="3743280"/>
          </a:xfrm>
        </p:grpSpPr>
        <p:grpSp>
          <p:nvGrpSpPr>
            <p:cNvPr id="389" name=""/>
            <p:cNvGrpSpPr/>
            <p:nvPr/>
          </p:nvGrpSpPr>
          <p:grpSpPr>
            <a:xfrm>
              <a:off x="1547640" y="1773360"/>
              <a:ext cx="7345440" cy="718920"/>
              <a:chOff x="1547640" y="1773360"/>
              <a:chExt cx="7345440" cy="718920"/>
            </a:xfrm>
          </p:grpSpPr>
          <p:sp>
            <p:nvSpPr>
              <p:cNvPr id="390" name=""/>
              <p:cNvSpPr/>
              <p:nvPr/>
            </p:nvSpPr>
            <p:spPr>
              <a:xfrm>
                <a:off x="1547640" y="1773360"/>
                <a:ext cx="7345440" cy="7189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214160" y="1844640"/>
                <a:ext cx="2477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Valeur ajouté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250920" y="1557360"/>
              <a:ext cx="8893080" cy="3743280"/>
              <a:chOff x="250920" y="1557360"/>
              <a:chExt cx="8893080" cy="3743280"/>
            </a:xfrm>
          </p:grpSpPr>
          <p:sp>
            <p:nvSpPr>
              <p:cNvPr id="393" name=""/>
              <p:cNvSpPr/>
              <p:nvPr/>
            </p:nvSpPr>
            <p:spPr>
              <a:xfrm>
                <a:off x="395280" y="1700280"/>
                <a:ext cx="8748720" cy="36003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9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50920" y="1557360"/>
                <a:ext cx="1447560" cy="122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737D-4D4C-4122-A6EE-12920BFD996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51120" y="476280"/>
            <a:ext cx="90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épartition de la valeur ajoutée de l’entrep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211640" y="3213000"/>
            <a:ext cx="17762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ô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211640" y="3789360"/>
            <a:ext cx="1776240" cy="94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énéfi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211640" y="4797360"/>
            <a:ext cx="1776240" cy="94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énéfi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éserv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250920" y="1844640"/>
            <a:ext cx="5976720" cy="4176720"/>
            <a:chOff x="250920" y="1844640"/>
            <a:chExt cx="5976720" cy="4176720"/>
          </a:xfrm>
        </p:grpSpPr>
        <p:sp>
          <p:nvSpPr>
            <p:cNvPr id="400" name=""/>
            <p:cNvSpPr/>
            <p:nvPr/>
          </p:nvSpPr>
          <p:spPr>
            <a:xfrm>
              <a:off x="538200" y="2205000"/>
              <a:ext cx="3241800" cy="9471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mortissements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et provis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138560" y="2205000"/>
              <a:ext cx="1776600" cy="520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énéfic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50920" y="1844640"/>
              <a:ext cx="5976720" cy="4176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3" name="" descr=""/>
            <p:cNvPicPr/>
            <p:nvPr/>
          </p:nvPicPr>
          <p:blipFill>
            <a:blip r:embed="rId1"/>
            <a:stretch/>
          </p:blipFill>
          <p:spPr>
            <a:xfrm>
              <a:off x="1116000" y="4305240"/>
              <a:ext cx="1735200" cy="147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4" name=""/>
          <p:cNvSpPr/>
          <p:nvPr/>
        </p:nvSpPr>
        <p:spPr>
          <a:xfrm>
            <a:off x="1762200" y="3357720"/>
            <a:ext cx="649080" cy="792000"/>
          </a:xfrm>
          <a:prstGeom prst="downArrow">
            <a:avLst>
              <a:gd name="adj1" fmla="val 50000"/>
              <a:gd name="adj2" fmla="val 3050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059280" y="5013360"/>
            <a:ext cx="863280" cy="576360"/>
          </a:xfrm>
          <a:prstGeom prst="leftArrow">
            <a:avLst>
              <a:gd name="adj1" fmla="val 50000"/>
              <a:gd name="adj2" fmla="val 3744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643280" y="2852640"/>
            <a:ext cx="64944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32720" y="2997360"/>
            <a:ext cx="2209680" cy="94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tat 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v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588000" y="4149720"/>
            <a:ext cx="23544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riét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084720" y="3213000"/>
            <a:ext cx="57636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084720" y="4149720"/>
            <a:ext cx="43200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4804-E34C-4BAA-AA29-8D3415156E2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378000" y="609480"/>
            <a:ext cx="74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 Vie de l ’entreprise » - plan du c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955080" y="3124080"/>
            <a:ext cx="71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e 2 : L ’entreprise, unité d ’analy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A8AA-13E2-4781-8C64-BAEC4A05DD5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302040" y="457200"/>
            <a:ext cx="758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ie 2 : l ’entreprise, unité d ’analy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286360" y="2057400"/>
            <a:ext cx="347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: Environ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87080" y="3200400"/>
            <a:ext cx="23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: Straté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286000" y="4343400"/>
            <a:ext cx="239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: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285640" y="5486400"/>
            <a:ext cx="404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: Prise de dé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DED0-0689-46D8-86B5-7D5CECBB218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9240" y="457200"/>
            <a:ext cx="758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ie 2 : l ’entreprise, unité d ’analy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848320" y="3124080"/>
            <a:ext cx="347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: Environ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B426-324F-4A12-917F-4341E266246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07520" y="457200"/>
            <a:ext cx="46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cture fonctionn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4880" y="568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34440" y="1905120"/>
            <a:ext cx="8291160" cy="4254120"/>
            <a:chOff x="334440" y="1905120"/>
            <a:chExt cx="8291160" cy="4254120"/>
          </a:xfrm>
        </p:grpSpPr>
        <p:sp>
          <p:nvSpPr>
            <p:cNvPr id="133" name=""/>
            <p:cNvSpPr/>
            <p:nvPr/>
          </p:nvSpPr>
          <p:spPr>
            <a:xfrm>
              <a:off x="609480" y="3048120"/>
              <a:ext cx="1143000" cy="2438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95480" y="3048120"/>
              <a:ext cx="1143000" cy="2438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34120" y="3048120"/>
              <a:ext cx="1143000" cy="2438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62120" y="3886200"/>
              <a:ext cx="838080" cy="838080"/>
            </a:xfrm>
            <a:prstGeom prst="ellipse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86400" y="3886200"/>
              <a:ext cx="838080" cy="838080"/>
            </a:xfrm>
            <a:prstGeom prst="ellipse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048120" y="3886200"/>
              <a:ext cx="838080" cy="838080"/>
            </a:xfrm>
            <a:prstGeom prst="ellipse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14400" y="2362320"/>
              <a:ext cx="457200" cy="3808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43000" y="1905120"/>
              <a:ext cx="4800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43000" y="19051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43000" y="2743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76720" y="2362320"/>
              <a:ext cx="457200" cy="3808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05320" y="19051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505320" y="2743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15000" y="2362320"/>
              <a:ext cx="457200" cy="38088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600" y="19051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43600" y="2743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039800" y="2286000"/>
              <a:ext cx="1585800" cy="520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ire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0800000">
              <a:off x="6248160" y="2437920"/>
              <a:ext cx="609480" cy="381240"/>
            </a:xfrm>
            <a:prstGeom prst="rightArrow">
              <a:avLst>
                <a:gd name="adj1" fmla="val 50000"/>
                <a:gd name="adj2" fmla="val 399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34440" y="5638680"/>
              <a:ext cx="1744200" cy="520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éthod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31520" y="5638680"/>
              <a:ext cx="1942560" cy="520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abric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17880" y="5638680"/>
              <a:ext cx="2219760" cy="520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aintenanc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228600" y="1752480"/>
            <a:ext cx="8686800" cy="4876920"/>
            <a:chOff x="228600" y="1752480"/>
            <a:chExt cx="8686800" cy="4876920"/>
          </a:xfrm>
        </p:grpSpPr>
        <p:sp>
          <p:nvSpPr>
            <p:cNvPr id="155" name=""/>
            <p:cNvSpPr/>
            <p:nvPr/>
          </p:nvSpPr>
          <p:spPr>
            <a:xfrm>
              <a:off x="228600" y="1752480"/>
              <a:ext cx="8686800" cy="4876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7238880" y="3581280"/>
              <a:ext cx="1590840" cy="163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DE1D-61C2-4A5D-9532-A5DB119C8A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974160" y="3154320"/>
            <a:ext cx="7387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: Caractériser l’environnement de l’entrepr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987480" y="357120"/>
            <a:ext cx="695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 ’entreprise et son environ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5978-DABF-4600-B0F4-C68D81CCD86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758880" y="35712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 composantes de l ’environ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1447560" cy="1228680"/>
          </a:xfrm>
          <a:prstGeom prst="rect">
            <a:avLst/>
          </a:prstGeom>
          <a:ln w="0">
            <a:noFill/>
          </a:ln>
        </p:spPr>
      </p:pic>
      <p:grpSp>
        <p:nvGrpSpPr>
          <p:cNvPr id="424" name=""/>
          <p:cNvGrpSpPr/>
          <p:nvPr/>
        </p:nvGrpSpPr>
        <p:grpSpPr>
          <a:xfrm>
            <a:off x="914400" y="3581280"/>
            <a:ext cx="2862720" cy="1371600"/>
            <a:chOff x="914400" y="3581280"/>
            <a:chExt cx="2862720" cy="1371600"/>
          </a:xfrm>
        </p:grpSpPr>
        <p:pic>
          <p:nvPicPr>
            <p:cNvPr id="425" name="" descr=""/>
            <p:cNvPicPr/>
            <p:nvPr/>
          </p:nvPicPr>
          <p:blipFill>
            <a:blip r:embed="rId2"/>
            <a:stretch/>
          </p:blipFill>
          <p:spPr>
            <a:xfrm>
              <a:off x="914400" y="3581280"/>
              <a:ext cx="13302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 rot="20640000">
              <a:off x="2657160" y="3898440"/>
              <a:ext cx="1066680" cy="533520"/>
            </a:xfrm>
            <a:prstGeom prst="rightArrow">
              <a:avLst>
                <a:gd name="adj1" fmla="val 50000"/>
                <a:gd name="adj2" fmla="val 49983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1371600" y="1905120"/>
            <a:ext cx="2500200" cy="1676880"/>
            <a:chOff x="1371600" y="1905120"/>
            <a:chExt cx="2500200" cy="1676880"/>
          </a:xfrm>
        </p:grpSpPr>
        <p:pic>
          <p:nvPicPr>
            <p:cNvPr id="428" name="" descr=""/>
            <p:cNvPicPr/>
            <p:nvPr/>
          </p:nvPicPr>
          <p:blipFill>
            <a:blip r:embed="rId3"/>
            <a:stretch/>
          </p:blipFill>
          <p:spPr>
            <a:xfrm>
              <a:off x="1371600" y="1905120"/>
              <a:ext cx="11066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 rot="1783200">
              <a:off x="2743200" y="2819520"/>
              <a:ext cx="1066680" cy="533160"/>
            </a:xfrm>
            <a:prstGeom prst="rightArrow">
              <a:avLst>
                <a:gd name="adj1" fmla="val 50000"/>
                <a:gd name="adj2" fmla="val 5001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3886200" y="1295280"/>
            <a:ext cx="1201680" cy="1926360"/>
            <a:chOff x="3886200" y="1295280"/>
            <a:chExt cx="1201680" cy="1926360"/>
          </a:xfrm>
        </p:grpSpPr>
        <p:pic>
          <p:nvPicPr>
            <p:cNvPr id="431" name="" descr=""/>
            <p:cNvPicPr/>
            <p:nvPr/>
          </p:nvPicPr>
          <p:blipFill>
            <a:blip r:embed="rId4"/>
            <a:stretch/>
          </p:blipFill>
          <p:spPr>
            <a:xfrm>
              <a:off x="3886200" y="1295280"/>
              <a:ext cx="110016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 rot="4408800">
              <a:off x="4517640" y="2644560"/>
              <a:ext cx="48924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5961240" y="1600200"/>
            <a:ext cx="2478960" cy="2157840"/>
            <a:chOff x="5961240" y="1600200"/>
            <a:chExt cx="2478960" cy="2157840"/>
          </a:xfrm>
        </p:grpSpPr>
        <p:grpSp>
          <p:nvGrpSpPr>
            <p:cNvPr id="434" name=""/>
            <p:cNvGrpSpPr/>
            <p:nvPr/>
          </p:nvGrpSpPr>
          <p:grpSpPr>
            <a:xfrm>
              <a:off x="6248520" y="1600200"/>
              <a:ext cx="2191680" cy="1343160"/>
              <a:chOff x="6248520" y="1600200"/>
              <a:chExt cx="2191680" cy="1343160"/>
            </a:xfrm>
          </p:grpSpPr>
          <p:pic>
            <p:nvPicPr>
              <p:cNvPr id="43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010280" y="1600200"/>
                <a:ext cx="667800" cy="68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010280" y="2362320"/>
                <a:ext cx="685440" cy="581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248520" y="1981440"/>
                <a:ext cx="685440" cy="581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772400" y="1981440"/>
                <a:ext cx="667800" cy="685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39" name=""/>
            <p:cNvSpPr/>
            <p:nvPr/>
          </p:nvSpPr>
          <p:spPr>
            <a:xfrm rot="8750400">
              <a:off x="6038640" y="3035160"/>
              <a:ext cx="838080" cy="533520"/>
            </a:xfrm>
            <a:prstGeom prst="rightArrow">
              <a:avLst>
                <a:gd name="adj1" fmla="val 50000"/>
                <a:gd name="adj2" fmla="val 39271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2666880" y="4458960"/>
            <a:ext cx="1983960" cy="2094120"/>
            <a:chOff x="2666880" y="4458960"/>
            <a:chExt cx="1983960" cy="2094120"/>
          </a:xfrm>
        </p:grpSpPr>
        <p:pic>
          <p:nvPicPr>
            <p:cNvPr id="441" name="" descr=""/>
            <p:cNvPicPr/>
            <p:nvPr/>
          </p:nvPicPr>
          <p:blipFill>
            <a:blip r:embed="rId9"/>
            <a:stretch/>
          </p:blipFill>
          <p:spPr>
            <a:xfrm>
              <a:off x="2666880" y="5257800"/>
              <a:ext cx="115092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 rot="18987000">
              <a:off x="3809520" y="4647960"/>
              <a:ext cx="762120" cy="533160"/>
            </a:xfrm>
            <a:prstGeom prst="rightArrow">
              <a:avLst>
                <a:gd name="adj1" fmla="val 50000"/>
                <a:gd name="adj2" fmla="val 35736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538240" y="4420440"/>
            <a:ext cx="1460880" cy="2208960"/>
            <a:chOff x="5538240" y="4420440"/>
            <a:chExt cx="1460880" cy="2208960"/>
          </a:xfrm>
        </p:grpSpPr>
        <p:pic>
          <p:nvPicPr>
            <p:cNvPr id="444" name="" descr=""/>
            <p:cNvPicPr/>
            <p:nvPr/>
          </p:nvPicPr>
          <p:blipFill>
            <a:blip r:embed="rId10"/>
            <a:stretch/>
          </p:blipFill>
          <p:spPr>
            <a:xfrm>
              <a:off x="5715000" y="5257800"/>
              <a:ext cx="12841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 rot="14910000">
              <a:off x="5581080" y="4552920"/>
              <a:ext cx="648000" cy="533520"/>
            </a:xfrm>
            <a:prstGeom prst="rightArrow">
              <a:avLst>
                <a:gd name="adj1" fmla="val 50000"/>
                <a:gd name="adj2" fmla="val 30364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6211800" y="3733920"/>
            <a:ext cx="2314800" cy="1371600"/>
            <a:chOff x="6211800" y="3733920"/>
            <a:chExt cx="2314800" cy="1371600"/>
          </a:xfrm>
        </p:grpSpPr>
        <p:pic>
          <p:nvPicPr>
            <p:cNvPr id="447" name="" descr=""/>
            <p:cNvPicPr/>
            <p:nvPr/>
          </p:nvPicPr>
          <p:blipFill>
            <a:blip r:embed="rId11"/>
            <a:stretch/>
          </p:blipFill>
          <p:spPr>
            <a:xfrm>
              <a:off x="7467480" y="3733920"/>
              <a:ext cx="10591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 rot="11369400">
              <a:off x="6248160" y="4038120"/>
              <a:ext cx="1066680" cy="533520"/>
            </a:xfrm>
            <a:prstGeom prst="rightArrow">
              <a:avLst>
                <a:gd name="adj1" fmla="val 50000"/>
                <a:gd name="adj2" fmla="val 49983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6E4D-0664-4604-A5B6-4BB75A0B19B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909360" y="128520"/>
            <a:ext cx="740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 différents acteurs qui influencen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vie de l ’entrep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3581280" y="3429000"/>
            <a:ext cx="1447920" cy="1228680"/>
          </a:xfrm>
          <a:prstGeom prst="rect">
            <a:avLst/>
          </a:prstGeom>
          <a:ln w="0">
            <a:noFill/>
          </a:ln>
        </p:spPr>
      </p:pic>
      <p:grpSp>
        <p:nvGrpSpPr>
          <p:cNvPr id="451" name=""/>
          <p:cNvGrpSpPr/>
          <p:nvPr/>
        </p:nvGrpSpPr>
        <p:grpSpPr>
          <a:xfrm>
            <a:off x="838800" y="4724280"/>
            <a:ext cx="2742480" cy="1001160"/>
            <a:chOff x="838800" y="4724280"/>
            <a:chExt cx="2742480" cy="1001160"/>
          </a:xfrm>
        </p:grpSpPr>
        <p:sp>
          <p:nvSpPr>
            <p:cNvPr id="452" name=""/>
            <p:cNvSpPr/>
            <p:nvPr/>
          </p:nvSpPr>
          <p:spPr>
            <a:xfrm>
              <a:off x="838800" y="4778280"/>
              <a:ext cx="2003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Etat et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ollectivité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2819520" y="4724280"/>
              <a:ext cx="76176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1678680" y="4876560"/>
            <a:ext cx="2207520" cy="1489320"/>
            <a:chOff x="1678680" y="4876560"/>
            <a:chExt cx="2207520" cy="1489320"/>
          </a:xfrm>
        </p:grpSpPr>
        <p:sp>
          <p:nvSpPr>
            <p:cNvPr id="455" name=""/>
            <p:cNvSpPr/>
            <p:nvPr/>
          </p:nvSpPr>
          <p:spPr>
            <a:xfrm>
              <a:off x="1678680" y="5845320"/>
              <a:ext cx="212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oncurr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3429000" y="4876560"/>
              <a:ext cx="45720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4041000" y="4876560"/>
            <a:ext cx="1328400" cy="1641600"/>
            <a:chOff x="4041000" y="4876560"/>
            <a:chExt cx="1328400" cy="1641600"/>
          </a:xfrm>
        </p:grpSpPr>
        <p:sp>
          <p:nvSpPr>
            <p:cNvPr id="458" name=""/>
            <p:cNvSpPr/>
            <p:nvPr/>
          </p:nvSpPr>
          <p:spPr>
            <a:xfrm>
              <a:off x="4041000" y="5997600"/>
              <a:ext cx="132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édia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 flipV="1">
              <a:off x="4419360" y="4876560"/>
              <a:ext cx="22860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4952880" y="4648320"/>
            <a:ext cx="3283920" cy="1229760"/>
            <a:chOff x="4952880" y="4648320"/>
            <a:chExt cx="3283920" cy="1229760"/>
          </a:xfrm>
        </p:grpSpPr>
        <p:sp>
          <p:nvSpPr>
            <p:cNvPr id="461" name=""/>
            <p:cNvSpPr/>
            <p:nvPr/>
          </p:nvSpPr>
          <p:spPr>
            <a:xfrm>
              <a:off x="5640480" y="4930920"/>
              <a:ext cx="2596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utres groupes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 ’intérê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 flipV="1">
              <a:off x="4952880" y="4648320"/>
              <a:ext cx="6098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5333760" y="3787920"/>
            <a:ext cx="3481200" cy="520560"/>
            <a:chOff x="5333760" y="3787920"/>
            <a:chExt cx="3481200" cy="520560"/>
          </a:xfrm>
        </p:grpSpPr>
        <p:sp>
          <p:nvSpPr>
            <p:cNvPr id="464" name=""/>
            <p:cNvSpPr/>
            <p:nvPr/>
          </p:nvSpPr>
          <p:spPr>
            <a:xfrm>
              <a:off x="6023520" y="3787920"/>
              <a:ext cx="279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onsommateu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5333760" y="41148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5257440" y="2873520"/>
            <a:ext cx="3243960" cy="860400"/>
            <a:chOff x="5257440" y="2873520"/>
            <a:chExt cx="3243960" cy="860400"/>
          </a:xfrm>
        </p:grpSpPr>
        <p:sp>
          <p:nvSpPr>
            <p:cNvPr id="467" name=""/>
            <p:cNvSpPr/>
            <p:nvPr/>
          </p:nvSpPr>
          <p:spPr>
            <a:xfrm>
              <a:off x="5946120" y="2873520"/>
              <a:ext cx="255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onsumérist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5257440" y="3352680"/>
              <a:ext cx="60948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5029200" y="2263680"/>
            <a:ext cx="2460600" cy="1013040"/>
            <a:chOff x="5029200" y="2263680"/>
            <a:chExt cx="2460600" cy="1013040"/>
          </a:xfrm>
        </p:grpSpPr>
        <p:sp>
          <p:nvSpPr>
            <p:cNvPr id="470" name=""/>
            <p:cNvSpPr/>
            <p:nvPr/>
          </p:nvSpPr>
          <p:spPr>
            <a:xfrm>
              <a:off x="5487840" y="2263680"/>
              <a:ext cx="200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Ecologist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5029200" y="2819520"/>
              <a:ext cx="4572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3431160" y="1730520"/>
            <a:ext cx="2140560" cy="1393560"/>
            <a:chOff x="3431160" y="1730520"/>
            <a:chExt cx="2140560" cy="1393560"/>
          </a:xfrm>
        </p:grpSpPr>
        <p:sp>
          <p:nvSpPr>
            <p:cNvPr id="473" name=""/>
            <p:cNvSpPr/>
            <p:nvPr/>
          </p:nvSpPr>
          <p:spPr>
            <a:xfrm>
              <a:off x="3431160" y="1730520"/>
              <a:ext cx="214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ctionnair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419720" y="23623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1525320" y="2263680"/>
            <a:ext cx="2055960" cy="1089000"/>
            <a:chOff x="1525320" y="2263680"/>
            <a:chExt cx="2055960" cy="1089000"/>
          </a:xfrm>
        </p:grpSpPr>
        <p:sp>
          <p:nvSpPr>
            <p:cNvPr id="476" name=""/>
            <p:cNvSpPr/>
            <p:nvPr/>
          </p:nvSpPr>
          <p:spPr>
            <a:xfrm>
              <a:off x="1525320" y="2263680"/>
              <a:ext cx="172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yndica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00400" y="2819520"/>
              <a:ext cx="38088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916920" y="3178080"/>
            <a:ext cx="2512080" cy="708120"/>
            <a:chOff x="916920" y="3178080"/>
            <a:chExt cx="2512080" cy="708120"/>
          </a:xfrm>
        </p:grpSpPr>
        <p:sp>
          <p:nvSpPr>
            <p:cNvPr id="479" name=""/>
            <p:cNvSpPr/>
            <p:nvPr/>
          </p:nvSpPr>
          <p:spPr>
            <a:xfrm>
              <a:off x="916920" y="3178080"/>
              <a:ext cx="174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Employé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743200" y="3733920"/>
              <a:ext cx="68580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536040" y="4016520"/>
            <a:ext cx="2816640" cy="520560"/>
            <a:chOff x="536040" y="4016520"/>
            <a:chExt cx="2816640" cy="520560"/>
          </a:xfrm>
        </p:grpSpPr>
        <p:sp>
          <p:nvSpPr>
            <p:cNvPr id="482" name=""/>
            <p:cNvSpPr/>
            <p:nvPr/>
          </p:nvSpPr>
          <p:spPr>
            <a:xfrm>
              <a:off x="536040" y="4016520"/>
              <a:ext cx="223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ournisseu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2895480" y="4343400"/>
              <a:ext cx="45720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3CD6-6553-4CC2-9142-3F42825261C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1659240" y="3200400"/>
            <a:ext cx="6003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: Les nouveaux défis de l ’entrepr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987480" y="357120"/>
            <a:ext cx="695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 ’entreprise et son environ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4926-6F95-4FC9-B326-3FB6DB0A50F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1212480" y="533520"/>
            <a:ext cx="6658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 nouveaux défis de l’entrep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946800" y="2163600"/>
            <a:ext cx="7229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Mondialisation de l’économie et entrepr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986480" y="3840120"/>
            <a:ext cx="514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IC et gestion des entrepr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022400" y="5516640"/>
            <a:ext cx="7070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L’investissement socialement respons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71960" y="4678200"/>
            <a:ext cx="8257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Brevets, standards… règle du jeu, maître du jeu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281680" y="3002040"/>
            <a:ext cx="4577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2. Le défi des délocal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81DC-3063-437B-B14C-DBA13328D2B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1212480" y="533520"/>
            <a:ext cx="6658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 nouveaux défis de l’entrep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281680" y="3230640"/>
            <a:ext cx="4577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2. Le défi des délocal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3FD9-E7BD-474C-B87D-9765C94F055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1044720" y="1335240"/>
            <a:ext cx="5813280" cy="58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887560" y="6545160"/>
            <a:ext cx="419040" cy="1461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887560" y="6203880"/>
            <a:ext cx="419040" cy="1476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887560" y="5864400"/>
            <a:ext cx="534960" cy="1458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887560" y="5522760"/>
            <a:ext cx="766800" cy="1461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865600" y="5183280"/>
            <a:ext cx="1139760" cy="1443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865600" y="4842000"/>
            <a:ext cx="1604880" cy="1458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65600" y="4502160"/>
            <a:ext cx="1836720" cy="1443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65600" y="4160880"/>
            <a:ext cx="1930320" cy="1461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865600" y="3821040"/>
            <a:ext cx="2116080" cy="1443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865600" y="3481560"/>
            <a:ext cx="2209680" cy="1443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865600" y="3139920"/>
            <a:ext cx="3186000" cy="1461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865600" y="2800440"/>
            <a:ext cx="3720960" cy="1443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865600" y="2459160"/>
            <a:ext cx="3813120" cy="1458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865600" y="2117880"/>
            <a:ext cx="4092480" cy="1458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865600" y="1776240"/>
            <a:ext cx="5046480" cy="147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865600" y="1436760"/>
            <a:ext cx="5440320" cy="1458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415320" y="6402240"/>
            <a:ext cx="354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15320" y="6062760"/>
            <a:ext cx="354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491640" y="5721480"/>
            <a:ext cx="354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796200" y="5380200"/>
            <a:ext cx="354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110840" y="5040360"/>
            <a:ext cx="354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,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558320" y="4700520"/>
            <a:ext cx="354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,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786920" y="4359240"/>
            <a:ext cx="354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,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939200" y="4017960"/>
            <a:ext cx="354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091840" y="3678120"/>
            <a:ext cx="354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167800" y="3338640"/>
            <a:ext cx="354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147000" y="2997360"/>
            <a:ext cx="496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,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677640" y="265752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788520" y="2317680"/>
            <a:ext cx="496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,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093080" y="1976400"/>
            <a:ext cx="496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,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015400" y="1635120"/>
            <a:ext cx="496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,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396640" y="1295280"/>
            <a:ext cx="496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,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826200" y="6400800"/>
            <a:ext cx="1091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ca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823680" y="6019920"/>
            <a:ext cx="107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ngk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945360" y="5668920"/>
            <a:ext cx="863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34840" y="5334120"/>
            <a:ext cx="114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angh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62320" y="4994280"/>
            <a:ext cx="1755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hannesbu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83720" y="4653000"/>
            <a:ext cx="1258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ap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923760" y="4313160"/>
            <a:ext cx="6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éo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910440" y="3971880"/>
            <a:ext cx="735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aip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888480" y="3632040"/>
            <a:ext cx="834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d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907200" y="3290760"/>
            <a:ext cx="707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942840" y="2951280"/>
            <a:ext cx="622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929160" y="2610000"/>
            <a:ext cx="721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r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912240" y="2270160"/>
            <a:ext cx="720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912960" y="1930320"/>
            <a:ext cx="750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ky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90560" y="1589040"/>
            <a:ext cx="1160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48160" y="1247760"/>
            <a:ext cx="921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è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073240" y="76320"/>
            <a:ext cx="4787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gouffre salaria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laire brut horaire en dollars en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24BA-A607-467A-938C-1D7F0FF607F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10B3-BF45-4D87-A1CA-F65F492D276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1274400" y="122400"/>
            <a:ext cx="6567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 plus du commerce extérieur des Quinze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en milliards d ’eur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62040" y="1076400"/>
            <a:ext cx="6681960" cy="54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462040" y="6135840"/>
            <a:ext cx="489240" cy="22212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462040" y="5357880"/>
            <a:ext cx="476280" cy="22212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462040" y="4579920"/>
            <a:ext cx="36720" cy="22212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462040" y="3800520"/>
            <a:ext cx="266760" cy="22392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462040" y="3022560"/>
            <a:ext cx="452520" cy="22212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462040" y="2243160"/>
            <a:ext cx="1122480" cy="22392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462040" y="1467000"/>
            <a:ext cx="2508480" cy="22212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462040" y="5913360"/>
            <a:ext cx="535320" cy="22248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462040" y="5135400"/>
            <a:ext cx="638280" cy="22248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462040" y="4357800"/>
            <a:ext cx="743040" cy="22212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462040" y="3578400"/>
            <a:ext cx="1872000" cy="22212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462040" y="2800440"/>
            <a:ext cx="2116440" cy="22212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462040" y="2022480"/>
            <a:ext cx="3948120" cy="22068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462040" y="1244520"/>
            <a:ext cx="5924880" cy="22248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462040" y="1076400"/>
            <a:ext cx="1800" cy="5448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424240" y="6524640"/>
            <a:ext cx="37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424240" y="5745240"/>
            <a:ext cx="37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424240" y="4968720"/>
            <a:ext cx="37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424240" y="4189320"/>
            <a:ext cx="37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424240" y="3411360"/>
            <a:ext cx="37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424240" y="2631960"/>
            <a:ext cx="37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424240" y="1855800"/>
            <a:ext cx="37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424240" y="1076400"/>
            <a:ext cx="37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047040" y="608184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,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034080" y="529920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594520" y="453564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824560" y="377496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,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010320" y="296856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701880" y="218772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087880" y="141120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3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93120" y="583740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196080" y="507528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,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290760" y="43131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451400" y="355140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695840" y="274644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8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527880" y="196704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3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8502480" y="118908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9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11000" y="606600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 et ac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795240" y="5151600"/>
            <a:ext cx="1015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icl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ér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900360" y="4237200"/>
            <a:ext cx="825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pier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06360" y="3430440"/>
            <a:ext cx="1892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i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armaceut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38360" y="2637000"/>
            <a:ext cx="1131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i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m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812520" y="2027160"/>
            <a:ext cx="106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éhi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66280" y="1112760"/>
            <a:ext cx="1605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e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'équip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719840" y="3932280"/>
            <a:ext cx="1233720" cy="8380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872480" y="4084560"/>
            <a:ext cx="199800" cy="14940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8263440" y="39322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872480" y="4468680"/>
            <a:ext cx="199800" cy="14940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8269920" y="43131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913F-C3B6-4E28-9157-CCCC57DCDFB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1139040" y="152280"/>
            <a:ext cx="6838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 moins du commerce extérieur des Quinze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en milliards d ’eur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0" y="1106640"/>
            <a:ext cx="8421840" cy="54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446960" y="6165720"/>
            <a:ext cx="38160" cy="2224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485120" y="5388120"/>
            <a:ext cx="355680" cy="2221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792840" y="4610160"/>
            <a:ext cx="692280" cy="2221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969160" y="3830760"/>
            <a:ext cx="1515960" cy="223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156360" y="3052800"/>
            <a:ext cx="1328760" cy="2221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809960" y="2273400"/>
            <a:ext cx="2675160" cy="223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276880" y="1496880"/>
            <a:ext cx="2208240" cy="2224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261200" y="5943600"/>
            <a:ext cx="223920" cy="2221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110360" y="5165640"/>
            <a:ext cx="374760" cy="2224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7485120" y="4387680"/>
            <a:ext cx="57240" cy="2224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783400" y="3608280"/>
            <a:ext cx="1701720" cy="2224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762520" y="2830680"/>
            <a:ext cx="1722600" cy="2221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254240" y="2052720"/>
            <a:ext cx="6230880" cy="2206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73200" y="1274760"/>
            <a:ext cx="6811920" cy="2221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485120" y="1106640"/>
            <a:ext cx="1440" cy="5448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446960" y="655488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446960" y="577548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446960" y="499896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446960" y="421956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446960" y="344160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446960" y="266220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446960" y="188604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446960" y="110664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909480" y="611172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0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858800" y="533556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255360" y="455760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431320" y="377820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8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618880" y="300024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7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222800" y="221940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4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691160" y="144288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1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723720" y="588960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645960" y="5111640"/>
            <a:ext cx="20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630200" y="433548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245920" y="35542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9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225040" y="277812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9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68160" y="199872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3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87120" y="122076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6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147560" y="6019920"/>
            <a:ext cx="201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icles de voy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333400" y="5181480"/>
            <a:ext cx="91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u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416840" y="4495680"/>
            <a:ext cx="130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us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747960" y="3733920"/>
            <a:ext cx="101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V, vidé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974240" y="2895480"/>
            <a:ext cx="2550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icles manufactur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587720" y="2073240"/>
            <a:ext cx="133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reau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7795080" y="1295280"/>
            <a:ext cx="1154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ê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90480" y="3975120"/>
            <a:ext cx="986040" cy="9018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733320" y="4114800"/>
            <a:ext cx="160560" cy="1857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077120" y="40384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62120" y="4572000"/>
            <a:ext cx="160200" cy="1857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077120" y="4495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DCE6-85C6-4E39-842D-95B5494E58C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971080" y="457200"/>
            <a:ext cx="323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cture proj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430280" y="1905120"/>
            <a:ext cx="7696800" cy="3305160"/>
            <a:chOff x="1430280" y="1905120"/>
            <a:chExt cx="7696800" cy="3305160"/>
          </a:xfrm>
        </p:grpSpPr>
        <p:sp>
          <p:nvSpPr>
            <p:cNvPr id="159" name=""/>
            <p:cNvSpPr/>
            <p:nvPr/>
          </p:nvSpPr>
          <p:spPr>
            <a:xfrm>
              <a:off x="1925640" y="1905120"/>
              <a:ext cx="0" cy="42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30280" y="2960640"/>
              <a:ext cx="1062000" cy="224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44720" y="2960640"/>
              <a:ext cx="1060560" cy="224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89320" y="2960640"/>
              <a:ext cx="1060560" cy="224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32480" y="2960640"/>
              <a:ext cx="1060560" cy="224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538280" y="3200400"/>
              <a:ext cx="776160" cy="774720"/>
            </a:xfrm>
            <a:prstGeom prst="ellipse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38680" y="3200400"/>
              <a:ext cx="777960" cy="774720"/>
            </a:xfrm>
            <a:prstGeom prst="ellipse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95880" y="3200400"/>
              <a:ext cx="777600" cy="774720"/>
            </a:xfrm>
            <a:prstGeom prst="ellipse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951280" y="3200400"/>
              <a:ext cx="777600" cy="774720"/>
            </a:xfrm>
            <a:prstGeom prst="ellipse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14680" y="2327400"/>
              <a:ext cx="423720" cy="35064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905120" y="1905120"/>
              <a:ext cx="4122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925640" y="2678040"/>
              <a:ext cx="0" cy="28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98960" y="2327400"/>
              <a:ext cx="423720" cy="35064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11360" y="1905120"/>
              <a:ext cx="0" cy="42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11360" y="2678040"/>
              <a:ext cx="0" cy="28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41760" y="2327400"/>
              <a:ext cx="424080" cy="35064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754520" y="1905120"/>
              <a:ext cx="0" cy="42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54520" y="2678040"/>
              <a:ext cx="0" cy="28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15080" y="2327400"/>
              <a:ext cx="423720" cy="35064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27840" y="1905120"/>
              <a:ext cx="0" cy="42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27840" y="2678040"/>
              <a:ext cx="0" cy="28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541280" y="2209680"/>
              <a:ext cx="1585800" cy="520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ire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0800000">
              <a:off x="6400800" y="2361960"/>
              <a:ext cx="1060560" cy="352440"/>
            </a:xfrm>
            <a:prstGeom prst="rightArrow">
              <a:avLst>
                <a:gd name="adj1" fmla="val 50000"/>
                <a:gd name="adj2" fmla="val 7523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6560" y="1905120"/>
            <a:ext cx="8930520" cy="4925160"/>
            <a:chOff x="16560" y="1905120"/>
            <a:chExt cx="8930520" cy="4925160"/>
          </a:xfrm>
        </p:grpSpPr>
        <p:sp>
          <p:nvSpPr>
            <p:cNvPr id="183" name=""/>
            <p:cNvSpPr/>
            <p:nvPr/>
          </p:nvSpPr>
          <p:spPr>
            <a:xfrm>
              <a:off x="7559280" y="3200400"/>
              <a:ext cx="1387800" cy="9471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cteurs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0800000">
              <a:off x="6629040" y="3428640"/>
              <a:ext cx="849240" cy="352440"/>
            </a:xfrm>
            <a:prstGeom prst="rightArrow">
              <a:avLst>
                <a:gd name="adj1" fmla="val 50000"/>
                <a:gd name="adj2" fmla="val 6024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17320" y="4367160"/>
              <a:ext cx="1110240" cy="9471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hefs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0800000">
              <a:off x="6681600" y="4647960"/>
              <a:ext cx="919080" cy="352440"/>
            </a:xfrm>
            <a:prstGeom prst="rightArrow">
              <a:avLst>
                <a:gd name="adj1" fmla="val 50000"/>
                <a:gd name="adj2" fmla="val 65194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731960" y="4578480"/>
              <a:ext cx="423720" cy="35064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16240" y="4578480"/>
              <a:ext cx="423720" cy="35064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559400" y="4578480"/>
              <a:ext cx="425520" cy="35064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32360" y="4578480"/>
              <a:ext cx="424080" cy="35064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8600" y="3962520"/>
              <a:ext cx="6594480" cy="1981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3520" y="4495680"/>
              <a:ext cx="685800" cy="60984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38080" y="1905120"/>
              <a:ext cx="0" cy="259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48120" y="5562720"/>
              <a:ext cx="1295280" cy="76176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00600" y="5334120"/>
              <a:ext cx="685800" cy="99036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68560" y="5638680"/>
              <a:ext cx="2142000" cy="9471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Intervenants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extérieu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0800000">
              <a:off x="5562360" y="5943240"/>
              <a:ext cx="919080" cy="352440"/>
            </a:xfrm>
            <a:prstGeom prst="rightArrow">
              <a:avLst>
                <a:gd name="adj1" fmla="val 50000"/>
                <a:gd name="adj2" fmla="val 65194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6560" y="5883120"/>
              <a:ext cx="1625400" cy="9471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irecteur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5800" y="5181480"/>
              <a:ext cx="457200" cy="609840"/>
            </a:xfrm>
            <a:prstGeom prst="upArrow">
              <a:avLst>
                <a:gd name="adj1" fmla="val 50000"/>
                <a:gd name="adj2" fmla="val 33346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38080" y="1905120"/>
              <a:ext cx="1067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9492-AA07-4BE6-8D0B-1E96F1DE8A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240840" cy="574992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5340240" y="3200400"/>
            <a:ext cx="135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ats-Un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6,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658680" y="5911920"/>
            <a:ext cx="94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is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398320" y="5410080"/>
            <a:ext cx="76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eco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4,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090800" y="4890960"/>
            <a:ext cx="14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pon (3,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862920" y="443376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ne (3,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35880" y="4052880"/>
            <a:ext cx="17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ghreb (0,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76800" y="358128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 (0,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13372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59092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904840" y="2133720"/>
            <a:ext cx="84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dM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28,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267200" y="228600"/>
            <a:ext cx="662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enance des importations de services des Quin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 2002 hors tourisme et transports (en 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E09A-3AD9-44D4-9D65-5B920E212B8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360360" y="6210360"/>
            <a:ext cx="8042400" cy="204840"/>
          </a:xfrm>
          <a:custGeom>
            <a:avLst/>
            <a:gdLst/>
            <a:ahLst/>
            <a:rect l="l" t="t" r="r" b="b"/>
            <a:pathLst>
              <a:path w="10133" h="257">
                <a:moveTo>
                  <a:pt x="0" y="257"/>
                </a:moveTo>
                <a:lnTo>
                  <a:pt x="9793" y="257"/>
                </a:lnTo>
                <a:lnTo>
                  <a:pt x="10133" y="0"/>
                </a:lnTo>
                <a:lnTo>
                  <a:pt x="340" y="0"/>
                </a:lnTo>
                <a:lnTo>
                  <a:pt x="0" y="25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28560" y="1469880"/>
            <a:ext cx="7774200" cy="47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974880" y="6308640"/>
            <a:ext cx="626760" cy="396720"/>
            <a:chOff x="974880" y="6308640"/>
            <a:chExt cx="626760" cy="396720"/>
          </a:xfrm>
        </p:grpSpPr>
        <p:sp>
          <p:nvSpPr>
            <p:cNvPr id="662" name=""/>
            <p:cNvSpPr/>
            <p:nvPr/>
          </p:nvSpPr>
          <p:spPr>
            <a:xfrm>
              <a:off x="974880" y="6308640"/>
              <a:ext cx="626760" cy="82440"/>
            </a:xfrm>
            <a:custGeom>
              <a:avLst/>
              <a:gdLst/>
              <a:ahLst/>
              <a:rect l="l" t="t" r="r" b="b"/>
              <a:pathLst>
                <a:path w="789" h="103">
                  <a:moveTo>
                    <a:pt x="0" y="103"/>
                  </a:moveTo>
                  <a:lnTo>
                    <a:pt x="653" y="103"/>
                  </a:lnTo>
                  <a:lnTo>
                    <a:pt x="789" y="0"/>
                  </a:lnTo>
                  <a:lnTo>
                    <a:pt x="136" y="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974880" y="6391080"/>
              <a:ext cx="518760" cy="3142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93640" y="6308640"/>
              <a:ext cx="107640" cy="396720"/>
            </a:xfrm>
            <a:custGeom>
              <a:avLst/>
              <a:gdLst/>
              <a:ahLst/>
              <a:rect l="l" t="t" r="r" b="b"/>
              <a:pathLst>
                <a:path w="136" h="501">
                  <a:moveTo>
                    <a:pt x="136" y="399"/>
                  </a:moveTo>
                  <a:lnTo>
                    <a:pt x="0" y="501"/>
                  </a:lnTo>
                  <a:lnTo>
                    <a:pt x="0" y="103"/>
                  </a:lnTo>
                  <a:lnTo>
                    <a:pt x="136" y="0"/>
                  </a:lnTo>
                  <a:lnTo>
                    <a:pt x="136" y="399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974880" y="4929120"/>
            <a:ext cx="2527200" cy="397080"/>
            <a:chOff x="974880" y="4929120"/>
            <a:chExt cx="2527200" cy="397080"/>
          </a:xfrm>
        </p:grpSpPr>
        <p:sp>
          <p:nvSpPr>
            <p:cNvPr id="666" name=""/>
            <p:cNvSpPr/>
            <p:nvPr/>
          </p:nvSpPr>
          <p:spPr>
            <a:xfrm>
              <a:off x="974880" y="4929120"/>
              <a:ext cx="2527200" cy="81000"/>
            </a:xfrm>
            <a:custGeom>
              <a:avLst/>
              <a:gdLst/>
              <a:ahLst/>
              <a:rect l="l" t="t" r="r" b="b"/>
              <a:pathLst>
                <a:path w="3183" h="104">
                  <a:moveTo>
                    <a:pt x="0" y="104"/>
                  </a:moveTo>
                  <a:lnTo>
                    <a:pt x="3047" y="104"/>
                  </a:lnTo>
                  <a:lnTo>
                    <a:pt x="3183" y="0"/>
                  </a:lnTo>
                  <a:lnTo>
                    <a:pt x="136" y="0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b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974880" y="5010120"/>
              <a:ext cx="2419200" cy="3160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394080" y="4929120"/>
              <a:ext cx="107640" cy="397080"/>
            </a:xfrm>
            <a:custGeom>
              <a:avLst/>
              <a:gdLst/>
              <a:ahLst/>
              <a:rect l="l" t="t" r="r" b="b"/>
              <a:pathLst>
                <a:path w="136" h="501">
                  <a:moveTo>
                    <a:pt x="136" y="398"/>
                  </a:moveTo>
                  <a:lnTo>
                    <a:pt x="0" y="501"/>
                  </a:lnTo>
                  <a:lnTo>
                    <a:pt x="0" y="104"/>
                  </a:lnTo>
                  <a:lnTo>
                    <a:pt x="136" y="0"/>
                  </a:lnTo>
                  <a:lnTo>
                    <a:pt x="136" y="398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974880" y="4138560"/>
            <a:ext cx="3822480" cy="398520"/>
            <a:chOff x="974880" y="4138560"/>
            <a:chExt cx="3822480" cy="398520"/>
          </a:xfrm>
        </p:grpSpPr>
        <p:sp>
          <p:nvSpPr>
            <p:cNvPr id="670" name=""/>
            <p:cNvSpPr/>
            <p:nvPr/>
          </p:nvSpPr>
          <p:spPr>
            <a:xfrm>
              <a:off x="974880" y="4138560"/>
              <a:ext cx="3822480" cy="81000"/>
            </a:xfrm>
            <a:custGeom>
              <a:avLst/>
              <a:gdLst/>
              <a:ahLst/>
              <a:rect l="l" t="t" r="r" b="b"/>
              <a:pathLst>
                <a:path w="4815" h="101">
                  <a:moveTo>
                    <a:pt x="0" y="101"/>
                  </a:moveTo>
                  <a:lnTo>
                    <a:pt x="4678" y="101"/>
                  </a:lnTo>
                  <a:lnTo>
                    <a:pt x="4815" y="0"/>
                  </a:lnTo>
                  <a:lnTo>
                    <a:pt x="136" y="0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b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974880" y="4219560"/>
              <a:ext cx="3714480" cy="3175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689360" y="4138560"/>
              <a:ext cx="107640" cy="398520"/>
            </a:xfrm>
            <a:custGeom>
              <a:avLst/>
              <a:gdLst/>
              <a:ahLst/>
              <a:rect l="l" t="t" r="r" b="b"/>
              <a:pathLst>
                <a:path w="137" h="501">
                  <a:moveTo>
                    <a:pt x="137" y="397"/>
                  </a:moveTo>
                  <a:lnTo>
                    <a:pt x="0" y="501"/>
                  </a:lnTo>
                  <a:lnTo>
                    <a:pt x="0" y="101"/>
                  </a:lnTo>
                  <a:lnTo>
                    <a:pt x="137" y="0"/>
                  </a:lnTo>
                  <a:lnTo>
                    <a:pt x="137" y="397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974880" y="3348000"/>
            <a:ext cx="4859280" cy="398520"/>
            <a:chOff x="974880" y="3348000"/>
            <a:chExt cx="4859280" cy="398520"/>
          </a:xfrm>
        </p:grpSpPr>
        <p:sp>
          <p:nvSpPr>
            <p:cNvPr id="674" name=""/>
            <p:cNvSpPr/>
            <p:nvPr/>
          </p:nvSpPr>
          <p:spPr>
            <a:xfrm>
              <a:off x="974880" y="3348000"/>
              <a:ext cx="4859280" cy="82440"/>
            </a:xfrm>
            <a:custGeom>
              <a:avLst/>
              <a:gdLst/>
              <a:ahLst/>
              <a:rect l="l" t="t" r="r" b="b"/>
              <a:pathLst>
                <a:path w="6120" h="104">
                  <a:moveTo>
                    <a:pt x="0" y="104"/>
                  </a:moveTo>
                  <a:lnTo>
                    <a:pt x="5984" y="104"/>
                  </a:lnTo>
                  <a:lnTo>
                    <a:pt x="6120" y="0"/>
                  </a:lnTo>
                  <a:lnTo>
                    <a:pt x="136" y="0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b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974880" y="3430440"/>
              <a:ext cx="4749480" cy="3160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724360" y="3348000"/>
              <a:ext cx="109440" cy="398520"/>
            </a:xfrm>
            <a:custGeom>
              <a:avLst/>
              <a:gdLst/>
              <a:ahLst/>
              <a:rect l="l" t="t" r="r" b="b"/>
              <a:pathLst>
                <a:path w="136" h="501">
                  <a:moveTo>
                    <a:pt x="136" y="400"/>
                  </a:moveTo>
                  <a:lnTo>
                    <a:pt x="0" y="501"/>
                  </a:lnTo>
                  <a:lnTo>
                    <a:pt x="0" y="104"/>
                  </a:lnTo>
                  <a:lnTo>
                    <a:pt x="136" y="0"/>
                  </a:lnTo>
                  <a:lnTo>
                    <a:pt x="136" y="400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974880" y="2558880"/>
            <a:ext cx="5074920" cy="397080"/>
            <a:chOff x="974880" y="2558880"/>
            <a:chExt cx="5074920" cy="397080"/>
          </a:xfrm>
        </p:grpSpPr>
        <p:sp>
          <p:nvSpPr>
            <p:cNvPr id="678" name=""/>
            <p:cNvSpPr/>
            <p:nvPr/>
          </p:nvSpPr>
          <p:spPr>
            <a:xfrm>
              <a:off x="974880" y="2558880"/>
              <a:ext cx="5074920" cy="82800"/>
            </a:xfrm>
            <a:custGeom>
              <a:avLst/>
              <a:gdLst/>
              <a:ahLst/>
              <a:rect l="l" t="t" r="r" b="b"/>
              <a:pathLst>
                <a:path w="6393" h="103">
                  <a:moveTo>
                    <a:pt x="0" y="103"/>
                  </a:moveTo>
                  <a:lnTo>
                    <a:pt x="6257" y="103"/>
                  </a:lnTo>
                  <a:lnTo>
                    <a:pt x="6393" y="0"/>
                  </a:lnTo>
                  <a:lnTo>
                    <a:pt x="136" y="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974880" y="2641680"/>
              <a:ext cx="4967280" cy="3142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942160" y="2558880"/>
              <a:ext cx="107280" cy="397080"/>
            </a:xfrm>
            <a:custGeom>
              <a:avLst/>
              <a:gdLst/>
              <a:ahLst/>
              <a:rect l="l" t="t" r="r" b="b"/>
              <a:pathLst>
                <a:path w="136" h="501">
                  <a:moveTo>
                    <a:pt x="136" y="397"/>
                  </a:moveTo>
                  <a:lnTo>
                    <a:pt x="0" y="501"/>
                  </a:lnTo>
                  <a:lnTo>
                    <a:pt x="0" y="103"/>
                  </a:lnTo>
                  <a:lnTo>
                    <a:pt x="136" y="0"/>
                  </a:lnTo>
                  <a:lnTo>
                    <a:pt x="136" y="397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974880" y="1770120"/>
            <a:ext cx="7407000" cy="396720"/>
            <a:chOff x="974880" y="1770120"/>
            <a:chExt cx="7407000" cy="396720"/>
          </a:xfrm>
        </p:grpSpPr>
        <p:sp>
          <p:nvSpPr>
            <p:cNvPr id="682" name=""/>
            <p:cNvSpPr/>
            <p:nvPr/>
          </p:nvSpPr>
          <p:spPr>
            <a:xfrm>
              <a:off x="974880" y="1770120"/>
              <a:ext cx="7407000" cy="79200"/>
            </a:xfrm>
            <a:custGeom>
              <a:avLst/>
              <a:gdLst/>
              <a:ahLst/>
              <a:rect l="l" t="t" r="r" b="b"/>
              <a:pathLst>
                <a:path w="9330" h="102">
                  <a:moveTo>
                    <a:pt x="0" y="102"/>
                  </a:moveTo>
                  <a:lnTo>
                    <a:pt x="9194" y="102"/>
                  </a:lnTo>
                  <a:lnTo>
                    <a:pt x="9330" y="0"/>
                  </a:lnTo>
                  <a:lnTo>
                    <a:pt x="136" y="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b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974880" y="1849320"/>
              <a:ext cx="7297560" cy="3175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272440" y="1770120"/>
              <a:ext cx="109080" cy="396720"/>
            </a:xfrm>
            <a:custGeom>
              <a:avLst/>
              <a:gdLst/>
              <a:ahLst/>
              <a:rect l="l" t="t" r="r" b="b"/>
              <a:pathLst>
                <a:path w="136" h="501">
                  <a:moveTo>
                    <a:pt x="136" y="398"/>
                  </a:moveTo>
                  <a:lnTo>
                    <a:pt x="0" y="501"/>
                  </a:lnTo>
                  <a:lnTo>
                    <a:pt x="0" y="102"/>
                  </a:lnTo>
                  <a:lnTo>
                    <a:pt x="136" y="0"/>
                  </a:lnTo>
                  <a:lnTo>
                    <a:pt x="136" y="398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1330560" y="1828800"/>
            <a:ext cx="67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p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270440" y="2590920"/>
            <a:ext cx="77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aïw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388520" y="3352680"/>
            <a:ext cx="148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ée du S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347840" y="4149720"/>
            <a:ext cx="113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tats-Un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317960" y="4941720"/>
            <a:ext cx="115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ema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954080" y="6321600"/>
            <a:ext cx="74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08800" y="634032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49920" y="49528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67560" y="42069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67560" y="3444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67560" y="25909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67560" y="18288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347960" y="1844640"/>
            <a:ext cx="646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,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986000" y="2606760"/>
            <a:ext cx="646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,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5028840" y="34290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897360" y="420696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,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897360" y="495288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,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897360" y="632448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,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442520" y="228600"/>
            <a:ext cx="6246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aux fournisseurs de la Chine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en % des importations totales - 1er semestre ‘ 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B801-8984-4318-B93A-37FB9F68D06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302040" y="457200"/>
            <a:ext cx="758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ie 2 : l ’entreprise, unité d ’analy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571760" y="3200400"/>
            <a:ext cx="60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: Les stratégies de l ’entrep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936F-EEBC-4D7E-946E-EC31B01507A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1660680" y="357120"/>
            <a:ext cx="573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e définition de la straté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687600" y="2247840"/>
            <a:ext cx="768960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laborer la stratégi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 ’est choisir les domaines d ’activité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ns lesquels l ’entreprise entend être présent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t allouer des ressources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 façon à ce qu’elle s ’y maintienn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t s ’y dévelop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9230-9F10-4165-84F0-0EBD55D7B52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162360" y="433440"/>
            <a:ext cx="87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émarche générale de l ’analyse stratég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57920" y="1806480"/>
            <a:ext cx="81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Définition des domaines d ’activités straté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1144080" y="3429000"/>
            <a:ext cx="6930360" cy="879480"/>
            <a:chOff x="1144080" y="3429000"/>
            <a:chExt cx="6930360" cy="879480"/>
          </a:xfrm>
        </p:grpSpPr>
        <p:sp>
          <p:nvSpPr>
            <p:cNvPr id="711" name=""/>
            <p:cNvSpPr/>
            <p:nvPr/>
          </p:nvSpPr>
          <p:spPr>
            <a:xfrm>
              <a:off x="1144080" y="3787920"/>
              <a:ext cx="693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. Choix d ’une stratégie pour chaque DA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267080" y="3429000"/>
              <a:ext cx="762120" cy="53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463680" y="4419720"/>
            <a:ext cx="8219880" cy="879120"/>
            <a:chOff x="463680" y="4419720"/>
            <a:chExt cx="8219880" cy="879120"/>
          </a:xfrm>
        </p:grpSpPr>
        <p:sp>
          <p:nvSpPr>
            <p:cNvPr id="714" name=""/>
            <p:cNvSpPr/>
            <p:nvPr/>
          </p:nvSpPr>
          <p:spPr>
            <a:xfrm>
              <a:off x="463680" y="4778280"/>
              <a:ext cx="821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. Détermination des développements stratégiqu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267080" y="4419720"/>
              <a:ext cx="762120" cy="533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1019520" y="5410080"/>
            <a:ext cx="7131600" cy="879480"/>
            <a:chOff x="1019520" y="5410080"/>
            <a:chExt cx="7131600" cy="879480"/>
          </a:xfrm>
        </p:grpSpPr>
        <p:sp>
          <p:nvSpPr>
            <p:cNvPr id="717" name=""/>
            <p:cNvSpPr/>
            <p:nvPr/>
          </p:nvSpPr>
          <p:spPr>
            <a:xfrm>
              <a:off x="1019520" y="5769000"/>
              <a:ext cx="713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. Management d ’un portefeuille d ’activité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267080" y="5410080"/>
              <a:ext cx="762120" cy="53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1703880" y="2438280"/>
            <a:ext cx="5761440" cy="879480"/>
            <a:chOff x="1703880" y="2438280"/>
            <a:chExt cx="5761440" cy="879480"/>
          </a:xfrm>
        </p:grpSpPr>
        <p:sp>
          <p:nvSpPr>
            <p:cNvPr id="720" name=""/>
            <p:cNvSpPr/>
            <p:nvPr/>
          </p:nvSpPr>
          <p:spPr>
            <a:xfrm>
              <a:off x="1703880" y="2797200"/>
              <a:ext cx="576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. Analyse concurrentielle des DA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267080" y="2438280"/>
              <a:ext cx="762120" cy="53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7467120" y="2362320"/>
            <a:ext cx="1676880" cy="3886200"/>
            <a:chOff x="7467120" y="2362320"/>
            <a:chExt cx="1676880" cy="3886200"/>
          </a:xfrm>
        </p:grpSpPr>
        <p:sp>
          <p:nvSpPr>
            <p:cNvPr id="723" name=""/>
            <p:cNvSpPr/>
            <p:nvPr/>
          </p:nvSpPr>
          <p:spPr>
            <a:xfrm rot="10800000">
              <a:off x="7467120" y="2362320"/>
              <a:ext cx="762120" cy="914400"/>
            </a:xfrm>
            <a:custGeom>
              <a:avLst/>
              <a:gdLst>
                <a:gd name="textAreaLeft" fmla="*/ 101880 w 762120"/>
                <a:gd name="textAreaRight" fmla="*/ 660240 w 762120"/>
                <a:gd name="textAreaTop" fmla="*/ 159840 h 914400"/>
                <a:gd name="textAreaBottom" fmla="*/ 6642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49" stAng="-5400000" swAng="-5400000"/>
                  <a:lnTo>
                    <a:pt x="0" y="11913"/>
                  </a:lnTo>
                  <a:arcTo wR="21600" hR="7549" stAng="10800000" swAng="-2680135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66"/>
                  </a:lnTo>
                  <a:arcTo wR="21600" hR="7549" stAng="8119865" swAng="2318712"/>
                  <a:lnTo>
                    <a:pt x="922" y="9731"/>
                  </a:lnTo>
                  <a:arcTo wR="21600" hR="7549" stAng="-10438577" swAng="5038577"/>
                  <a:close/>
                </a:path>
                <a:path fill="darkenLess" w="21600" h="21600">
                  <a:moveTo>
                    <a:pt x="21600" y="0"/>
                  </a:moveTo>
                  <a:arcTo wR="21600" hR="7549" stAng="-5400000" swAng="-5400000"/>
                  <a:lnTo>
                    <a:pt x="0" y="7549"/>
                  </a:lnTo>
                  <a:arcTo wR="21600" hR="7549" stAng="10800000" swAng="-361423"/>
                  <a:lnTo>
                    <a:pt x="922" y="9731"/>
                  </a:lnTo>
                  <a:arcTo wR="21600" hR="7549" stAng="-10438577" swAng="5038577"/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rot="10800000">
              <a:off x="8077320" y="3352680"/>
              <a:ext cx="761760" cy="914400"/>
            </a:xfrm>
            <a:custGeom>
              <a:avLst/>
              <a:gdLst>
                <a:gd name="textAreaLeft" fmla="*/ 101880 w 761760"/>
                <a:gd name="textAreaRight" fmla="*/ 659880 w 761760"/>
                <a:gd name="textAreaTop" fmla="*/ 159840 h 914400"/>
                <a:gd name="textAreaBottom" fmla="*/ 6642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49" stAng="-5400000" swAng="-5400000"/>
                  <a:lnTo>
                    <a:pt x="0" y="11913"/>
                  </a:lnTo>
                  <a:arcTo wR="21600" hR="7549" stAng="10800000" swAng="-2680135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66"/>
                  </a:lnTo>
                  <a:arcTo wR="21600" hR="7549" stAng="8119865" swAng="2318712"/>
                  <a:lnTo>
                    <a:pt x="922" y="9731"/>
                  </a:lnTo>
                  <a:arcTo wR="21600" hR="7549" stAng="-10438577" swAng="5038577"/>
                  <a:close/>
                </a:path>
                <a:path fill="darkenLess" w="21600" h="21600">
                  <a:moveTo>
                    <a:pt x="21600" y="0"/>
                  </a:moveTo>
                  <a:arcTo wR="21600" hR="7549" stAng="-5400000" swAng="-5400000"/>
                  <a:lnTo>
                    <a:pt x="0" y="7549"/>
                  </a:lnTo>
                  <a:arcTo wR="21600" hR="7549" stAng="10800000" swAng="-361423"/>
                  <a:lnTo>
                    <a:pt x="922" y="9731"/>
                  </a:lnTo>
                  <a:arcTo wR="21600" hR="7549" stAng="-10438577" swAng="5038577"/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rot="10800000">
              <a:off x="8686800" y="4343400"/>
              <a:ext cx="457200" cy="91440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159840 h 914400"/>
                <a:gd name="textAreaBottom" fmla="*/ 6642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49" stAng="-5400000" swAng="-5400000"/>
                  <a:lnTo>
                    <a:pt x="0" y="11913"/>
                  </a:lnTo>
                  <a:arcTo wR="21600" hR="7549" stAng="10800000" swAng="-2680135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66"/>
                  </a:lnTo>
                  <a:arcTo wR="21600" hR="7549" stAng="8119865" swAng="2318712"/>
                  <a:lnTo>
                    <a:pt x="922" y="9731"/>
                  </a:lnTo>
                  <a:arcTo wR="21600" hR="7549" stAng="-10438577" swAng="5038577"/>
                  <a:close/>
                </a:path>
                <a:path fill="darkenLess" w="21600" h="21600">
                  <a:moveTo>
                    <a:pt x="21600" y="0"/>
                  </a:moveTo>
                  <a:arcTo wR="21600" hR="7549" stAng="-5400000" swAng="-5400000"/>
                  <a:lnTo>
                    <a:pt x="0" y="7549"/>
                  </a:lnTo>
                  <a:arcTo wR="21600" hR="7549" stAng="10800000" swAng="-361423"/>
                  <a:lnTo>
                    <a:pt x="922" y="9731"/>
                  </a:lnTo>
                  <a:arcTo wR="21600" hR="7549" stAng="-10438577" swAng="5038577"/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rot="10800000">
              <a:off x="8152920" y="5334120"/>
              <a:ext cx="762120" cy="914400"/>
            </a:xfrm>
            <a:custGeom>
              <a:avLst/>
              <a:gdLst>
                <a:gd name="textAreaLeft" fmla="*/ 101880 w 762120"/>
                <a:gd name="textAreaRight" fmla="*/ 660240 w 762120"/>
                <a:gd name="textAreaTop" fmla="*/ 159840 h 914400"/>
                <a:gd name="textAreaBottom" fmla="*/ 6642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49" stAng="-5400000" swAng="-5400000"/>
                  <a:lnTo>
                    <a:pt x="0" y="11913"/>
                  </a:lnTo>
                  <a:arcTo wR="21600" hR="7549" stAng="10800000" swAng="-2680135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66"/>
                  </a:lnTo>
                  <a:arcTo wR="21600" hR="7549" stAng="8119865" swAng="2318712"/>
                  <a:lnTo>
                    <a:pt x="922" y="9731"/>
                  </a:lnTo>
                  <a:arcTo wR="21600" hR="7549" stAng="-10438577" swAng="5038577"/>
                  <a:close/>
                </a:path>
                <a:path fill="darkenLess" w="21600" h="21600">
                  <a:moveTo>
                    <a:pt x="21600" y="0"/>
                  </a:moveTo>
                  <a:arcTo wR="21600" hR="7549" stAng="-5400000" swAng="-5400000"/>
                  <a:lnTo>
                    <a:pt x="0" y="7549"/>
                  </a:lnTo>
                  <a:arcTo wR="21600" hR="7549" stAng="10800000" swAng="-361423"/>
                  <a:lnTo>
                    <a:pt x="922" y="9731"/>
                  </a:lnTo>
                  <a:arcTo wR="21600" hR="7549" stAng="-10438577" swAng="5038577"/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0CE9-0454-4048-8B0B-5802F1FB1D4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1846080" y="357120"/>
            <a:ext cx="546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 stratégies d ’entrep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257560" y="2263680"/>
            <a:ext cx="45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L ’analyse concurrenti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54F9-1D1D-4AED-981A-3A07C6AE456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1668240" y="357120"/>
            <a:ext cx="580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 critères de seg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80640" y="1978200"/>
            <a:ext cx="7613280" cy="3461760"/>
            <a:chOff x="80640" y="1978200"/>
            <a:chExt cx="7613280" cy="3461760"/>
          </a:xfrm>
        </p:grpSpPr>
        <p:sp>
          <p:nvSpPr>
            <p:cNvPr id="731" name=""/>
            <p:cNvSpPr/>
            <p:nvPr/>
          </p:nvSpPr>
          <p:spPr>
            <a:xfrm>
              <a:off x="309960" y="2664000"/>
              <a:ext cx="2055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ritères de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écoupag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0640" y="4492800"/>
              <a:ext cx="25689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ritères de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groupeme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204360" y="1978200"/>
              <a:ext cx="177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emand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662880" y="1992240"/>
              <a:ext cx="103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ff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2592360" y="2612880"/>
            <a:ext cx="309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de clientè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728440" y="4518000"/>
            <a:ext cx="259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ituabilité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 pre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549760" y="4492800"/>
            <a:ext cx="360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ergies ressourc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 compé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791680" y="2612880"/>
            <a:ext cx="3116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ur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de coû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98A7-8C86-4BBF-ACAD-4F8614C7303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9" name=""/>
          <p:cNvGrpSpPr/>
          <p:nvPr/>
        </p:nvGrpSpPr>
        <p:grpSpPr>
          <a:xfrm>
            <a:off x="1846080" y="357120"/>
            <a:ext cx="5463000" cy="2427120"/>
            <a:chOff x="1846080" y="357120"/>
            <a:chExt cx="5463000" cy="2427120"/>
          </a:xfrm>
        </p:grpSpPr>
        <p:sp>
          <p:nvSpPr>
            <p:cNvPr id="740" name=""/>
            <p:cNvSpPr/>
            <p:nvPr/>
          </p:nvSpPr>
          <p:spPr>
            <a:xfrm>
              <a:off x="1846080" y="357120"/>
              <a:ext cx="546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Les stratégies d ’entrepris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257560" y="2263680"/>
              <a:ext cx="459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. L ’analyse concurrentiel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2" name=""/>
          <p:cNvSpPr/>
          <p:nvPr/>
        </p:nvSpPr>
        <p:spPr>
          <a:xfrm>
            <a:off x="1221480" y="3421080"/>
            <a:ext cx="663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hoix et développements straté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068840" y="4640400"/>
            <a:ext cx="695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anagement d ’un portefeuille d ’activ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14CD-4CE0-4E69-AF23-7ADD15EE3AF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1668240" y="487440"/>
            <a:ext cx="580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 5 forces concurrenti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597840" y="3635280"/>
            <a:ext cx="2120760" cy="94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urr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 sec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1501920" y="3215880"/>
            <a:ext cx="1769760" cy="2061360"/>
            <a:chOff x="1501920" y="3215880"/>
            <a:chExt cx="1769760" cy="2061360"/>
          </a:xfrm>
        </p:grpSpPr>
        <p:sp>
          <p:nvSpPr>
            <p:cNvPr id="747" name=""/>
            <p:cNvSpPr/>
            <p:nvPr/>
          </p:nvSpPr>
          <p:spPr>
            <a:xfrm rot="16200000">
              <a:off x="731520" y="3986280"/>
              <a:ext cx="2061360" cy="520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ourniss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509920" y="4003560"/>
              <a:ext cx="761760" cy="533520"/>
            </a:xfrm>
            <a:prstGeom prst="rightArrow">
              <a:avLst>
                <a:gd name="adj1" fmla="val 50000"/>
                <a:gd name="adj2" fmla="val 35695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6019920" y="3596040"/>
            <a:ext cx="1566360" cy="1270080"/>
            <a:chOff x="6019920" y="3596040"/>
            <a:chExt cx="1566360" cy="1270080"/>
          </a:xfrm>
        </p:grpSpPr>
        <p:sp>
          <p:nvSpPr>
            <p:cNvPr id="750" name=""/>
            <p:cNvSpPr/>
            <p:nvPr/>
          </p:nvSpPr>
          <p:spPr>
            <a:xfrm rot="16206600">
              <a:off x="6689880" y="3970440"/>
              <a:ext cx="1269000" cy="520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li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 rot="10800000">
              <a:off x="6019920" y="3962160"/>
              <a:ext cx="761760" cy="533160"/>
            </a:xfrm>
            <a:prstGeom prst="rightArrow">
              <a:avLst>
                <a:gd name="adj1" fmla="val 50000"/>
                <a:gd name="adj2" fmla="val 35719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3902040" y="1730520"/>
            <a:ext cx="1706400" cy="1774800"/>
            <a:chOff x="3902040" y="1730520"/>
            <a:chExt cx="1706400" cy="1774800"/>
          </a:xfrm>
        </p:grpSpPr>
        <p:sp>
          <p:nvSpPr>
            <p:cNvPr id="753" name=""/>
            <p:cNvSpPr/>
            <p:nvPr/>
          </p:nvSpPr>
          <p:spPr>
            <a:xfrm>
              <a:off x="3902040" y="1730520"/>
              <a:ext cx="1706400" cy="9471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Entrants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otentiel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 rot="5400000">
              <a:off x="4381560" y="2971800"/>
              <a:ext cx="533520" cy="53352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3825000" y="4876560"/>
            <a:ext cx="1744200" cy="1260720"/>
            <a:chOff x="3825000" y="4876560"/>
            <a:chExt cx="1744200" cy="1260720"/>
          </a:xfrm>
        </p:grpSpPr>
        <p:sp>
          <p:nvSpPr>
            <p:cNvPr id="756" name=""/>
            <p:cNvSpPr/>
            <p:nvPr/>
          </p:nvSpPr>
          <p:spPr>
            <a:xfrm>
              <a:off x="3825000" y="5616720"/>
              <a:ext cx="1744200" cy="5205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ubstitu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rot="16200000">
              <a:off x="4343400" y="4876200"/>
              <a:ext cx="533160" cy="53352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3C74-278B-4449-9D0B-EF1040DD81C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603000" y="533520"/>
            <a:ext cx="7878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yse de la dynamique concurrenti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215360" y="2286000"/>
            <a:ext cx="6617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ntensité de la rivalité entre concur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98360" y="3276720"/>
            <a:ext cx="8577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Menace de nouveaux entrants et barrière à l ’entr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217880" y="4343400"/>
            <a:ext cx="6576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enace de prestations de sub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06200" y="5410080"/>
            <a:ext cx="8914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Pouvoir de négociation des fournisseurs et des 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F146-DC74-4059-9EFB-93B19FA67B1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78000" y="609480"/>
            <a:ext cx="74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 Vie de l ’entreprise » - plan du c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3480" y="2286000"/>
            <a:ext cx="711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e 1 : Qu ’est-ce que l ’entrepris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4200" y="3505320"/>
            <a:ext cx="71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e 2 : L ’entreprise, unité d ’analy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2760" y="4648320"/>
            <a:ext cx="866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e 3 : Les grandes fonctions de l ’entrep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245F-1B60-4321-9B40-CC62025B2C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1996560" y="357120"/>
            <a:ext cx="51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 cycle de vie du prod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144440" y="1959120"/>
            <a:ext cx="20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126240" y="1959120"/>
            <a:ext cx="19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iss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488560" y="195912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ur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622640" y="1959120"/>
            <a:ext cx="116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c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33520" y="5791320"/>
            <a:ext cx="8305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1143000" y="182844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546680" y="5845320"/>
            <a:ext cx="126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rot="16219800">
            <a:off x="-830880" y="3095640"/>
            <a:ext cx="275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entes et pro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3124080" y="190512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181480" y="190512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7238880" y="190512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1143000" y="3301920"/>
            <a:ext cx="6858000" cy="2273400"/>
          </a:xfrm>
          <a:custGeom>
            <a:avLst/>
            <a:gdLst/>
            <a:ahLst/>
            <a:rect l="l" t="t" r="r" b="b"/>
            <a:pathLst>
              <a:path w="4320" h="1432">
                <a:moveTo>
                  <a:pt x="0" y="1280"/>
                </a:moveTo>
                <a:cubicBezTo>
                  <a:pt x="96" y="1320"/>
                  <a:pt x="192" y="1360"/>
                  <a:pt x="336" y="1376"/>
                </a:cubicBezTo>
                <a:cubicBezTo>
                  <a:pt x="480" y="1392"/>
                  <a:pt x="688" y="1432"/>
                  <a:pt x="864" y="1376"/>
                </a:cubicBezTo>
                <a:cubicBezTo>
                  <a:pt x="1040" y="1320"/>
                  <a:pt x="1160" y="1224"/>
                  <a:pt x="1392" y="1040"/>
                </a:cubicBezTo>
                <a:cubicBezTo>
                  <a:pt x="1624" y="856"/>
                  <a:pt x="2008" y="432"/>
                  <a:pt x="2256" y="272"/>
                </a:cubicBezTo>
                <a:cubicBezTo>
                  <a:pt x="2504" y="112"/>
                  <a:pt x="2640" y="112"/>
                  <a:pt x="2880" y="80"/>
                </a:cubicBezTo>
                <a:cubicBezTo>
                  <a:pt x="3120" y="48"/>
                  <a:pt x="3456" y="0"/>
                  <a:pt x="3696" y="80"/>
                </a:cubicBezTo>
                <a:cubicBezTo>
                  <a:pt x="3936" y="160"/>
                  <a:pt x="4128" y="360"/>
                  <a:pt x="4320" y="5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33520" y="4699080"/>
            <a:ext cx="7238880" cy="1866960"/>
          </a:xfrm>
          <a:custGeom>
            <a:avLst/>
            <a:gdLst/>
            <a:ahLst/>
            <a:rect l="l" t="t" r="r" b="b"/>
            <a:pathLst>
              <a:path w="4560" h="1176">
                <a:moveTo>
                  <a:pt x="0" y="688"/>
                </a:moveTo>
                <a:cubicBezTo>
                  <a:pt x="12" y="792"/>
                  <a:pt x="24" y="896"/>
                  <a:pt x="192" y="976"/>
                </a:cubicBezTo>
                <a:cubicBezTo>
                  <a:pt x="360" y="1056"/>
                  <a:pt x="736" y="1160"/>
                  <a:pt x="1008" y="1168"/>
                </a:cubicBezTo>
                <a:cubicBezTo>
                  <a:pt x="1280" y="1176"/>
                  <a:pt x="1568" y="1152"/>
                  <a:pt x="1824" y="1024"/>
                </a:cubicBezTo>
                <a:cubicBezTo>
                  <a:pt x="2080" y="896"/>
                  <a:pt x="2344" y="544"/>
                  <a:pt x="2544" y="400"/>
                </a:cubicBezTo>
                <a:cubicBezTo>
                  <a:pt x="2744" y="256"/>
                  <a:pt x="2800" y="224"/>
                  <a:pt x="3024" y="160"/>
                </a:cubicBezTo>
                <a:cubicBezTo>
                  <a:pt x="3248" y="96"/>
                  <a:pt x="3672" y="32"/>
                  <a:pt x="3888" y="16"/>
                </a:cubicBezTo>
                <a:cubicBezTo>
                  <a:pt x="4104" y="0"/>
                  <a:pt x="4208" y="32"/>
                  <a:pt x="4320" y="64"/>
                </a:cubicBezTo>
                <a:cubicBezTo>
                  <a:pt x="4432" y="96"/>
                  <a:pt x="4512" y="176"/>
                  <a:pt x="456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497840" y="4397400"/>
            <a:ext cx="11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584160" y="317808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5161-3648-4382-B452-21CF264185A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769680" y="387360"/>
            <a:ext cx="754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érience et position concurrenti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1219320" y="2057040"/>
            <a:ext cx="0" cy="3809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990720" y="5638680"/>
            <a:ext cx="7315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447920" y="4038480"/>
            <a:ext cx="6248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447920" y="2743200"/>
            <a:ext cx="6248160" cy="2590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905120" y="297180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arrow" w="lg"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791320" y="4038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arrow" w="lg"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7162920" y="40384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arrow" w="lg"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678680" y="2187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564520" y="3330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936120" y="3330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262840" y="576900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tion cumul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-639720" y="2526480"/>
            <a:ext cx="23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ût unit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7850160" y="36352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7774560" y="494496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û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9D7C-7B3B-4924-BE30-E863CE9CBD8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2372040" y="387360"/>
            <a:ext cx="43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atégie de dum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1219320" y="1752480"/>
            <a:ext cx="0" cy="4114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990720" y="5638680"/>
            <a:ext cx="7315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6099480" y="5769000"/>
            <a:ext cx="26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me cumul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600200" y="2057400"/>
            <a:ext cx="4952880" cy="312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600200" y="3352680"/>
            <a:ext cx="495288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1600200" y="4267080"/>
            <a:ext cx="49528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944680" y="2720880"/>
            <a:ext cx="26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it exi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182560" y="3635280"/>
            <a:ext cx="37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it de sub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631560" y="477828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û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rot="16237800">
            <a:off x="-378720" y="2332440"/>
            <a:ext cx="20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ût et p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43EA-741D-41D4-9472-012CC3E6B6B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2131920" y="387360"/>
            <a:ext cx="480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atégie de do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1219320" y="1752480"/>
            <a:ext cx="0" cy="4114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990720" y="5638680"/>
            <a:ext cx="7315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099480" y="5769000"/>
            <a:ext cx="26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me cumul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752480" y="2819520"/>
            <a:ext cx="4953240" cy="2438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860160" y="4869000"/>
            <a:ext cx="11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û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rot="16237800">
            <a:off x="-378720" y="2332440"/>
            <a:ext cx="20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ût et p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828800" y="1981080"/>
            <a:ext cx="4952880" cy="2438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7012080" y="40924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6CD9-714F-4DC0-B245-971E0DCE0B2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2430360" y="387360"/>
            <a:ext cx="419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atégie d ’ombr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 flipV="1">
            <a:off x="1219320" y="1752480"/>
            <a:ext cx="0" cy="4114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990720" y="5638680"/>
            <a:ext cx="7315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099480" y="5769000"/>
            <a:ext cx="26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me cumul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752480" y="2819520"/>
            <a:ext cx="4953240" cy="2438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860160" y="4869000"/>
            <a:ext cx="11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û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rot="16237800">
            <a:off x="-378720" y="2332440"/>
            <a:ext cx="20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ût et p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7012080" y="40924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1752480" y="1981080"/>
            <a:ext cx="5029200" cy="2438640"/>
            <a:chOff x="1752480" y="1981080"/>
            <a:chExt cx="5029200" cy="2438640"/>
          </a:xfrm>
        </p:grpSpPr>
        <p:sp>
          <p:nvSpPr>
            <p:cNvPr id="823" name=""/>
            <p:cNvSpPr/>
            <p:nvPr/>
          </p:nvSpPr>
          <p:spPr>
            <a:xfrm>
              <a:off x="4648320" y="3352680"/>
              <a:ext cx="2133360" cy="1067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752480" y="1981080"/>
              <a:ext cx="2286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038480" y="1981080"/>
              <a:ext cx="609840" cy="13716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9164-2C0E-4D73-A0FB-C6646EBD748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758520" y="387360"/>
            <a:ext cx="758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xation des prix et stades de matur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914400" y="1752120"/>
            <a:ext cx="0" cy="4343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09480" y="5791320"/>
            <a:ext cx="815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099480" y="5921280"/>
            <a:ext cx="26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me cumul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600200" y="1905120"/>
            <a:ext cx="6019920" cy="3733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7621920" y="5006880"/>
            <a:ext cx="11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û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rot="16237800">
            <a:off x="-604080" y="2162520"/>
            <a:ext cx="20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ût et p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143000" y="2362320"/>
            <a:ext cx="28954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105520" y="3809880"/>
            <a:ext cx="1295280" cy="7621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4038480" y="2362320"/>
            <a:ext cx="1067040" cy="1447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6553080" y="3733920"/>
            <a:ext cx="914400" cy="761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7467480" y="373392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7697880" y="302580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362320" y="1600200"/>
            <a:ext cx="0" cy="41911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400800" y="1600200"/>
            <a:ext cx="0" cy="41911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5029200" y="1676520"/>
            <a:ext cx="0" cy="41148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448440" y="38354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431320" y="1473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488720" y="1473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391040" y="38354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ECEF-FB32-4CC1-BF4D-BD4EBC87F3AF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124800" y="434880"/>
            <a:ext cx="501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re différenciée perçue par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306240" y="1273320"/>
            <a:ext cx="21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 ’ensemb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 march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5946120" y="1273320"/>
            <a:ext cx="186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 march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512640" y="2873520"/>
            <a:ext cx="208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eur / prix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34960" y="4702320"/>
            <a:ext cx="208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eur / prix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895480" y="2514600"/>
            <a:ext cx="2667240" cy="1828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atégi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 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715000" y="4495680"/>
            <a:ext cx="2590920" cy="1828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atégie d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m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5715000" y="2514600"/>
            <a:ext cx="2590920" cy="1828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atégie d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écia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895480" y="4495680"/>
            <a:ext cx="2667240" cy="1828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atégi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 ’ép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AFD3-BE8F-45DC-8FC2-AA50CCC2A346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2382120" y="357120"/>
            <a:ext cx="440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 cannes à pèche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066680" y="4114800"/>
            <a:ext cx="7467840" cy="1905120"/>
          </a:xfrm>
          <a:prstGeom prst="rightArrow">
            <a:avLst>
              <a:gd name="adj1" fmla="val 61000"/>
              <a:gd name="adj2" fmla="val 30252"/>
            </a:avLst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895480" y="1981080"/>
            <a:ext cx="3353040" cy="685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é actu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49160" y="3025800"/>
            <a:ext cx="1922760" cy="947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écaniq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012480" y="3254400"/>
            <a:ext cx="152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li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5107680" y="325440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ê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631560" y="3254400"/>
            <a:ext cx="168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êch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609480" y="4724280"/>
            <a:ext cx="2057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2819520" y="4724280"/>
            <a:ext cx="1904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4876920" y="4724280"/>
            <a:ext cx="14475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o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705720" y="4724280"/>
            <a:ext cx="12189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1676520" y="403848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3809880" y="38098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638680" y="38098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315200" y="38098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9C74-5370-4CB3-A499-D64ACBC7BFB0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/>
          <p:nvPr/>
        </p:nvSpPr>
        <p:spPr>
          <a:xfrm>
            <a:off x="1978560" y="387360"/>
            <a:ext cx="519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 pivot de diver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1447920" y="3200400"/>
            <a:ext cx="7467480" cy="1905120"/>
          </a:xfrm>
          <a:prstGeom prst="rightArrow">
            <a:avLst>
              <a:gd name="adj1" fmla="val 61000"/>
              <a:gd name="adj2" fmla="val 30251"/>
            </a:avLst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895480" y="1676520"/>
            <a:ext cx="3353040" cy="685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é actu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17680" y="43369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130040" y="2416320"/>
            <a:ext cx="1922760" cy="947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écaniq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2895480" y="5867280"/>
            <a:ext cx="3353040" cy="685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velle activ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3393720" y="2644920"/>
            <a:ext cx="152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li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488560" y="264492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ê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7012440" y="2644920"/>
            <a:ext cx="168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êch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1130040" y="4746600"/>
            <a:ext cx="1922760" cy="947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écaniq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168360" y="4746600"/>
            <a:ext cx="200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rmetur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s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5411880" y="4930920"/>
            <a:ext cx="14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écur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088400" y="4930920"/>
            <a:ext cx="13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rot="16200000">
            <a:off x="-1616760" y="3887280"/>
            <a:ext cx="3725640" cy="520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vot de diver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1219320" y="1980720"/>
            <a:ext cx="7238880" cy="381240"/>
            <a:chOff x="1219320" y="1980720"/>
            <a:chExt cx="7238880" cy="381240"/>
          </a:xfrm>
        </p:grpSpPr>
        <p:sp>
          <p:nvSpPr>
            <p:cNvPr id="885" name=""/>
            <p:cNvSpPr/>
            <p:nvPr/>
          </p:nvSpPr>
          <p:spPr>
            <a:xfrm flipV="1">
              <a:off x="1219320" y="198072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1219320" y="1981080"/>
              <a:ext cx="167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6248520" y="1981080"/>
              <a:ext cx="22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8458200" y="198072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1219320" y="5866920"/>
            <a:ext cx="7238880" cy="381600"/>
            <a:chOff x="1219320" y="5866920"/>
            <a:chExt cx="7238880" cy="381600"/>
          </a:xfrm>
        </p:grpSpPr>
        <p:sp>
          <p:nvSpPr>
            <p:cNvPr id="890" name=""/>
            <p:cNvSpPr/>
            <p:nvPr/>
          </p:nvSpPr>
          <p:spPr>
            <a:xfrm flipV="1">
              <a:off x="1219320" y="5866920"/>
              <a:ext cx="144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1219320" y="6248520"/>
              <a:ext cx="167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6248520" y="6248520"/>
              <a:ext cx="22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8458200" y="586692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990720" y="3809880"/>
            <a:ext cx="2057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3200400" y="3809880"/>
            <a:ext cx="19051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257800" y="3809880"/>
            <a:ext cx="14479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o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086600" y="3809880"/>
            <a:ext cx="12193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609480" y="312588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609480" y="548784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99CC-0AF9-418F-9223-E7DCC49C5255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/>
          <p:nvPr/>
        </p:nvSpPr>
        <p:spPr>
          <a:xfrm>
            <a:off x="1245240" y="357120"/>
            <a:ext cx="66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fusion égalitaire est assez r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1981080" y="1980720"/>
            <a:ext cx="5257080" cy="4381560"/>
            <a:chOff x="1981080" y="1980720"/>
            <a:chExt cx="5257080" cy="4381560"/>
          </a:xfrm>
        </p:grpSpPr>
        <p:pic>
          <p:nvPicPr>
            <p:cNvPr id="902" name="" descr=""/>
            <p:cNvPicPr/>
            <p:nvPr/>
          </p:nvPicPr>
          <p:blipFill>
            <a:blip r:embed="rId1"/>
            <a:stretch/>
          </p:blipFill>
          <p:spPr>
            <a:xfrm>
              <a:off x="2086920" y="2208240"/>
              <a:ext cx="1699560" cy="12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3" name="" descr=""/>
            <p:cNvPicPr/>
            <p:nvPr/>
          </p:nvPicPr>
          <p:blipFill>
            <a:blip r:embed="rId2"/>
            <a:stretch/>
          </p:blipFill>
          <p:spPr>
            <a:xfrm>
              <a:off x="5486040" y="2208240"/>
              <a:ext cx="1698840" cy="12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3574080" y="4663080"/>
              <a:ext cx="2336400" cy="169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5" name=""/>
            <p:cNvSpPr/>
            <p:nvPr/>
          </p:nvSpPr>
          <p:spPr>
            <a:xfrm rot="3801600">
              <a:off x="2815560" y="3495240"/>
              <a:ext cx="1090800" cy="1062360"/>
            </a:xfrm>
            <a:prstGeom prst="rightArrow">
              <a:avLst>
                <a:gd name="adj1" fmla="val 50000"/>
                <a:gd name="adj2" fmla="val 25669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 rot="7327800">
              <a:off x="5577120" y="3585600"/>
              <a:ext cx="1090800" cy="1062360"/>
            </a:xfrm>
            <a:prstGeom prst="rightArrow">
              <a:avLst>
                <a:gd name="adj1" fmla="val 50000"/>
                <a:gd name="adj2" fmla="val 25669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1981080" y="2026440"/>
              <a:ext cx="2017800" cy="1636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 flipV="1">
              <a:off x="5326200" y="1980720"/>
              <a:ext cx="1911960" cy="1727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 flipV="1">
              <a:off x="2511720" y="2026440"/>
              <a:ext cx="1486800" cy="1363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>
              <a:off x="5698440" y="2117520"/>
              <a:ext cx="1380960" cy="1090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6B79-F58F-44C9-B800-B5235D0A41D3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01320" y="457200"/>
            <a:ext cx="75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ie 1 : Qu ’est-ce que l ’entrepris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0680" y="3078000"/>
            <a:ext cx="688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: Une grande diversité de sit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C374-CD98-4D1C-B34B-A8F7F0A3A1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/>
          <p:nvPr/>
        </p:nvSpPr>
        <p:spPr>
          <a:xfrm>
            <a:off x="756360" y="357120"/>
            <a:ext cx="767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fusion absorption est plus cour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2" name="" descr=""/>
          <p:cNvPicPr/>
          <p:nvPr/>
        </p:nvPicPr>
        <p:blipFill>
          <a:blip r:embed="rId1"/>
          <a:stretch/>
        </p:blipFill>
        <p:spPr>
          <a:xfrm>
            <a:off x="2087640" y="2208240"/>
            <a:ext cx="1698480" cy="1235160"/>
          </a:xfrm>
          <a:prstGeom prst="rect">
            <a:avLst/>
          </a:prstGeom>
          <a:ln w="0">
            <a:noFill/>
          </a:ln>
        </p:spPr>
      </p:pic>
      <p:pic>
        <p:nvPicPr>
          <p:cNvPr id="913" name="" descr=""/>
          <p:cNvPicPr/>
          <p:nvPr/>
        </p:nvPicPr>
        <p:blipFill>
          <a:blip r:embed="rId2"/>
          <a:stretch/>
        </p:blipFill>
        <p:spPr>
          <a:xfrm>
            <a:off x="5486400" y="2209680"/>
            <a:ext cx="1700280" cy="1235160"/>
          </a:xfrm>
          <a:prstGeom prst="rect">
            <a:avLst/>
          </a:prstGeom>
          <a:ln w="0">
            <a:noFill/>
          </a:ln>
        </p:spPr>
      </p:pic>
      <p:pic>
        <p:nvPicPr>
          <p:cNvPr id="914" name="" descr=""/>
          <p:cNvPicPr/>
          <p:nvPr/>
        </p:nvPicPr>
        <p:blipFill>
          <a:blip r:embed="rId3"/>
          <a:stretch/>
        </p:blipFill>
        <p:spPr>
          <a:xfrm>
            <a:off x="3575160" y="4664160"/>
            <a:ext cx="2336760" cy="1698480"/>
          </a:xfrm>
          <a:prstGeom prst="rect">
            <a:avLst/>
          </a:prstGeom>
          <a:ln w="0">
            <a:noFill/>
          </a:ln>
        </p:spPr>
      </p:pic>
      <p:sp>
        <p:nvSpPr>
          <p:cNvPr id="915" name=""/>
          <p:cNvSpPr/>
          <p:nvPr/>
        </p:nvSpPr>
        <p:spPr>
          <a:xfrm rot="3801600">
            <a:off x="2816280" y="3495600"/>
            <a:ext cx="1090440" cy="1062000"/>
          </a:xfrm>
          <a:prstGeom prst="rightArrow">
            <a:avLst>
              <a:gd name="adj1" fmla="val 50000"/>
              <a:gd name="adj2" fmla="val 2566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4034520" y="1981080"/>
            <a:ext cx="3204000" cy="1727280"/>
            <a:chOff x="4034520" y="1981080"/>
            <a:chExt cx="3204000" cy="1727280"/>
          </a:xfrm>
        </p:grpSpPr>
        <p:grpSp>
          <p:nvGrpSpPr>
            <p:cNvPr id="917" name=""/>
            <p:cNvGrpSpPr/>
            <p:nvPr/>
          </p:nvGrpSpPr>
          <p:grpSpPr>
            <a:xfrm>
              <a:off x="5327280" y="1981080"/>
              <a:ext cx="1911240" cy="1727280"/>
              <a:chOff x="5327280" y="1981080"/>
              <a:chExt cx="1911240" cy="1727280"/>
            </a:xfrm>
          </p:grpSpPr>
          <p:sp>
            <p:nvSpPr>
              <p:cNvPr id="918" name=""/>
              <p:cNvSpPr/>
              <p:nvPr/>
            </p:nvSpPr>
            <p:spPr>
              <a:xfrm flipH="1" flipV="1">
                <a:off x="5327280" y="1981080"/>
                <a:ext cx="1911240" cy="17272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flipV="1">
                <a:off x="5699160" y="2117520"/>
                <a:ext cx="1380960" cy="10904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0" name=""/>
            <p:cNvSpPr/>
            <p:nvPr/>
          </p:nvSpPr>
          <p:spPr>
            <a:xfrm rot="10826400">
              <a:off x="4038480" y="2286000"/>
              <a:ext cx="1090800" cy="1062000"/>
            </a:xfrm>
            <a:prstGeom prst="rightArrow">
              <a:avLst>
                <a:gd name="adj1" fmla="val 50000"/>
                <a:gd name="adj2" fmla="val 25678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8165-7BB2-4AEF-96E1-E9B1D7511CD8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3322800" y="357120"/>
            <a:ext cx="23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sc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2" name="" descr=""/>
          <p:cNvPicPr/>
          <p:nvPr/>
        </p:nvPicPr>
        <p:blipFill>
          <a:blip r:embed="rId1"/>
          <a:stretch/>
        </p:blipFill>
        <p:spPr>
          <a:xfrm>
            <a:off x="2011320" y="5103720"/>
            <a:ext cx="1698840" cy="1235160"/>
          </a:xfrm>
          <a:prstGeom prst="rect">
            <a:avLst/>
          </a:prstGeom>
          <a:ln w="0">
            <a:noFill/>
          </a:ln>
        </p:spPr>
      </p:pic>
      <p:pic>
        <p:nvPicPr>
          <p:cNvPr id="923" name="" descr=""/>
          <p:cNvPicPr/>
          <p:nvPr/>
        </p:nvPicPr>
        <p:blipFill>
          <a:blip r:embed="rId2"/>
          <a:stretch/>
        </p:blipFill>
        <p:spPr>
          <a:xfrm>
            <a:off x="5410080" y="5105520"/>
            <a:ext cx="1700280" cy="1234800"/>
          </a:xfrm>
          <a:prstGeom prst="rect">
            <a:avLst/>
          </a:prstGeom>
          <a:ln w="0">
            <a:noFill/>
          </a:ln>
        </p:spPr>
      </p:pic>
      <p:pic>
        <p:nvPicPr>
          <p:cNvPr id="924" name="" descr=""/>
          <p:cNvPicPr/>
          <p:nvPr/>
        </p:nvPicPr>
        <p:blipFill>
          <a:blip r:embed="rId3"/>
          <a:stretch/>
        </p:blipFill>
        <p:spPr>
          <a:xfrm>
            <a:off x="3429000" y="1905120"/>
            <a:ext cx="2336760" cy="1698480"/>
          </a:xfrm>
          <a:prstGeom prst="rect">
            <a:avLst/>
          </a:prstGeom>
          <a:ln w="0">
            <a:noFill/>
          </a:ln>
        </p:spPr>
      </p:pic>
      <p:grpSp>
        <p:nvGrpSpPr>
          <p:cNvPr id="925" name=""/>
          <p:cNvGrpSpPr/>
          <p:nvPr/>
        </p:nvGrpSpPr>
        <p:grpSpPr>
          <a:xfrm>
            <a:off x="3200040" y="1828800"/>
            <a:ext cx="2361960" cy="2057040"/>
            <a:chOff x="3200040" y="1828800"/>
            <a:chExt cx="2361960" cy="2057040"/>
          </a:xfrm>
        </p:grpSpPr>
        <p:sp>
          <p:nvSpPr>
            <p:cNvPr id="926" name=""/>
            <p:cNvSpPr/>
            <p:nvPr/>
          </p:nvSpPr>
          <p:spPr>
            <a:xfrm flipH="1" flipV="1">
              <a:off x="3200040" y="1828800"/>
              <a:ext cx="2361960" cy="2057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3659400" y="1991160"/>
              <a:ext cx="1706760" cy="1298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"/>
          <p:cNvSpPr/>
          <p:nvPr/>
        </p:nvSpPr>
        <p:spPr>
          <a:xfrm rot="18211800">
            <a:off x="2819160" y="3961800"/>
            <a:ext cx="1219320" cy="914400"/>
          </a:xfrm>
          <a:prstGeom prst="leftArrow">
            <a:avLst>
              <a:gd name="adj1" fmla="val 50000"/>
              <a:gd name="adj2" fmla="val 3333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rot="14155800">
            <a:off x="5104800" y="3961800"/>
            <a:ext cx="1219320" cy="914400"/>
          </a:xfrm>
          <a:prstGeom prst="leftArrow">
            <a:avLst>
              <a:gd name="adj1" fmla="val 50000"/>
              <a:gd name="adj2" fmla="val 3333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C61E-DE1D-4224-99BC-CE627116102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/>
          <p:nvPr/>
        </p:nvSpPr>
        <p:spPr>
          <a:xfrm>
            <a:off x="1681560" y="357120"/>
            <a:ext cx="571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se de participation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3505320" y="1905120"/>
            <a:ext cx="2209680" cy="1752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429000" y="4800600"/>
            <a:ext cx="1447920" cy="175248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876920" y="4800600"/>
            <a:ext cx="914400" cy="1752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rot="3800400">
            <a:off x="4419360" y="3809520"/>
            <a:ext cx="914400" cy="914400"/>
          </a:xfrm>
          <a:prstGeom prst="right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6F28-B598-4F47-8B25-5271011745F4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"/>
          <p:cNvSpPr/>
          <p:nvPr/>
        </p:nvSpPr>
        <p:spPr>
          <a:xfrm>
            <a:off x="1680840" y="357120"/>
            <a:ext cx="58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se de participation crois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838080" y="2895480"/>
            <a:ext cx="221004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838080" y="4648320"/>
            <a:ext cx="2210040" cy="60948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5410080" y="2971800"/>
            <a:ext cx="2210040" cy="838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410080" y="3809880"/>
            <a:ext cx="2210040" cy="152424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581280" y="3276720"/>
            <a:ext cx="1143000" cy="761760"/>
          </a:xfrm>
          <a:prstGeom prst="rightArrow">
            <a:avLst>
              <a:gd name="adj1" fmla="val 50000"/>
              <a:gd name="adj2" fmla="val 37512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 rot="10800000">
            <a:off x="3580920" y="4343040"/>
            <a:ext cx="1143000" cy="762120"/>
          </a:xfrm>
          <a:prstGeom prst="rightArrow">
            <a:avLst>
              <a:gd name="adj1" fmla="val 50000"/>
              <a:gd name="adj2" fmla="val 37494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CB46-F68A-4BC5-AFBA-27D356A5F1F9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/>
          <p:cNvSpPr/>
          <p:nvPr/>
        </p:nvSpPr>
        <p:spPr>
          <a:xfrm>
            <a:off x="1216800" y="357120"/>
            <a:ext cx="66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se de participation en casc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09480" y="1828800"/>
            <a:ext cx="2210040" cy="1752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352680" y="3352680"/>
            <a:ext cx="6858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4038480" y="3352680"/>
            <a:ext cx="1676520" cy="1752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324480" y="4724280"/>
            <a:ext cx="762120" cy="1752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7086600" y="4724280"/>
            <a:ext cx="1600200" cy="175284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 rot="5400000">
            <a:off x="2019240" y="3924360"/>
            <a:ext cx="1067040" cy="838080"/>
          </a:xfrm>
          <a:custGeom>
            <a:avLst/>
            <a:gdLst>
              <a:gd name="textAreaLeft" fmla="*/ 355680 w 1067040"/>
              <a:gd name="textAreaRight" fmla="*/ 914040 w 106704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rot="5400000">
            <a:off x="4914720" y="5448240"/>
            <a:ext cx="1066680" cy="838080"/>
          </a:xfrm>
          <a:custGeom>
            <a:avLst/>
            <a:gdLst>
              <a:gd name="textAreaLeft" fmla="*/ 355680 w 1066680"/>
              <a:gd name="textAreaRight" fmla="*/ 913680 w 10666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F2AA-B3C1-4D1D-ABEF-8D7E1214FB3D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1467000" y="357120"/>
            <a:ext cx="623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se de participation circul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3505320" y="1752480"/>
            <a:ext cx="9144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1676520" y="4343400"/>
            <a:ext cx="685800" cy="1752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362320" y="4343400"/>
            <a:ext cx="1676160" cy="1752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5257800" y="4343400"/>
            <a:ext cx="762120" cy="1752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019920" y="4343400"/>
            <a:ext cx="1600200" cy="175248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419720" y="1752480"/>
            <a:ext cx="1295280" cy="175284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4267080" y="4952880"/>
            <a:ext cx="685800" cy="762120"/>
          </a:xfrm>
          <a:prstGeom prst="rightArrow">
            <a:avLst>
              <a:gd name="adj1" fmla="val 50000"/>
              <a:gd name="adj2" fmla="val 250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 rot="7534800">
            <a:off x="2094840" y="3009240"/>
            <a:ext cx="990720" cy="762120"/>
          </a:xfrm>
          <a:prstGeom prst="rightArrow">
            <a:avLst>
              <a:gd name="adj1" fmla="val 50000"/>
              <a:gd name="adj2" fmla="val 32499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 rot="13102800">
            <a:off x="6095880" y="2971440"/>
            <a:ext cx="990720" cy="762120"/>
          </a:xfrm>
          <a:prstGeom prst="rightArrow">
            <a:avLst>
              <a:gd name="adj1" fmla="val 50000"/>
              <a:gd name="adj2" fmla="val 32499"/>
            </a:avLst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4182-3282-422D-8505-CB09D89CD3FD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"/>
          <p:cNvGrpSpPr/>
          <p:nvPr/>
        </p:nvGrpSpPr>
        <p:grpSpPr>
          <a:xfrm>
            <a:off x="3276720" y="1599840"/>
            <a:ext cx="4724280" cy="4876920"/>
            <a:chOff x="3276720" y="1599840"/>
            <a:chExt cx="4724280" cy="4876920"/>
          </a:xfrm>
        </p:grpSpPr>
        <p:sp>
          <p:nvSpPr>
            <p:cNvPr id="961" name=""/>
            <p:cNvSpPr/>
            <p:nvPr/>
          </p:nvSpPr>
          <p:spPr>
            <a:xfrm>
              <a:off x="3276720" y="1600200"/>
              <a:ext cx="4714560" cy="4866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5672160" y="1599840"/>
              <a:ext cx="0" cy="487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276720" y="4003920"/>
              <a:ext cx="4724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4" name=""/>
          <p:cNvSpPr/>
          <p:nvPr/>
        </p:nvSpPr>
        <p:spPr>
          <a:xfrm>
            <a:off x="4116960" y="206280"/>
            <a:ext cx="26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de march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07080" y="3178080"/>
            <a:ext cx="196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issa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l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a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872520" y="892080"/>
            <a:ext cx="123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ev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326640" y="892080"/>
            <a:ext cx="10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 rot="16203000">
            <a:off x="2227680" y="2496600"/>
            <a:ext cx="123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lev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 rot="16204200">
            <a:off x="2312280" y="5056560"/>
            <a:ext cx="10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659040" y="1654200"/>
            <a:ext cx="15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det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5947200" y="165420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lem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354120" y="5692680"/>
            <a:ext cx="22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ches à l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793120" y="5692680"/>
            <a:ext cx="205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ds m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4" name="" descr=""/>
          <p:cNvPicPr/>
          <p:nvPr/>
        </p:nvPicPr>
        <p:blipFill>
          <a:blip r:embed="rId1"/>
          <a:stretch/>
        </p:blipFill>
        <p:spPr>
          <a:xfrm>
            <a:off x="6324480" y="4191120"/>
            <a:ext cx="946440" cy="1523880"/>
          </a:xfrm>
          <a:prstGeom prst="rect">
            <a:avLst/>
          </a:prstGeom>
          <a:ln w="0">
            <a:noFill/>
          </a:ln>
        </p:spPr>
      </p:pic>
      <p:pic>
        <p:nvPicPr>
          <p:cNvPr id="975" name="" descr=""/>
          <p:cNvPicPr/>
          <p:nvPr/>
        </p:nvPicPr>
        <p:blipFill>
          <a:blip r:embed="rId2"/>
          <a:stretch/>
        </p:blipFill>
        <p:spPr>
          <a:xfrm>
            <a:off x="3882960" y="4191120"/>
            <a:ext cx="1222560" cy="1523880"/>
          </a:xfrm>
          <a:prstGeom prst="rect">
            <a:avLst/>
          </a:prstGeom>
          <a:ln w="0">
            <a:noFill/>
          </a:ln>
        </p:spPr>
      </p:pic>
      <p:pic>
        <p:nvPicPr>
          <p:cNvPr id="976" name="" descr=""/>
          <p:cNvPicPr/>
          <p:nvPr/>
        </p:nvPicPr>
        <p:blipFill>
          <a:blip r:embed="rId3"/>
          <a:stretch/>
        </p:blipFill>
        <p:spPr>
          <a:xfrm>
            <a:off x="3809880" y="2362320"/>
            <a:ext cx="1322640" cy="1523880"/>
          </a:xfrm>
          <a:prstGeom prst="rect">
            <a:avLst/>
          </a:prstGeom>
          <a:ln w="0">
            <a:noFill/>
          </a:ln>
        </p:spPr>
      </p:pic>
      <p:sp>
        <p:nvSpPr>
          <p:cNvPr id="977" name=""/>
          <p:cNvSpPr/>
          <p:nvPr/>
        </p:nvSpPr>
        <p:spPr>
          <a:xfrm>
            <a:off x="6465960" y="2532240"/>
            <a:ext cx="64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037D-EA00-462C-8716-147B089230D9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"/>
          <p:cNvGrpSpPr/>
          <p:nvPr/>
        </p:nvGrpSpPr>
        <p:grpSpPr>
          <a:xfrm>
            <a:off x="1905120" y="1599840"/>
            <a:ext cx="6095520" cy="4876920"/>
            <a:chOff x="1905120" y="1599840"/>
            <a:chExt cx="6095520" cy="4876920"/>
          </a:xfrm>
        </p:grpSpPr>
        <p:sp>
          <p:nvSpPr>
            <p:cNvPr id="979" name=""/>
            <p:cNvSpPr/>
            <p:nvPr/>
          </p:nvSpPr>
          <p:spPr>
            <a:xfrm>
              <a:off x="1905120" y="1600200"/>
              <a:ext cx="6082920" cy="4866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 flipV="1">
              <a:off x="4995720" y="1599840"/>
              <a:ext cx="0" cy="487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905120" y="4003920"/>
              <a:ext cx="6095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"/>
          <p:cNvSpPr/>
          <p:nvPr/>
        </p:nvSpPr>
        <p:spPr>
          <a:xfrm>
            <a:off x="3050280" y="130320"/>
            <a:ext cx="386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de marché rel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 rot="16200000">
            <a:off x="-2238840" y="3754440"/>
            <a:ext cx="499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issance relative du march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1602000" y="9684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4800960" y="968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202200" y="968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429000" y="152388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3888000" y="10447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4191120" y="152388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6477120" y="152388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097680" y="96840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7238880" y="152388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6860160" y="1044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802800" y="3649680"/>
            <a:ext cx="109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802800" y="1287360"/>
            <a:ext cx="109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2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802800" y="2949480"/>
            <a:ext cx="109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1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1828800" y="327672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891360" y="608796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208520" y="486900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1828800" y="525780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179720" y="53881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 flipH="1">
            <a:off x="1841400" y="570060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144800" y="58705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 flipH="1">
            <a:off x="1806480" y="61833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425680" y="2197080"/>
            <a:ext cx="4280040" cy="2527200"/>
          </a:xfrm>
          <a:custGeom>
            <a:avLst/>
            <a:gdLst/>
            <a:ahLst/>
            <a:rect l="l" t="t" r="r" b="b"/>
            <a:pathLst>
              <a:path w="2696" h="1592">
                <a:moveTo>
                  <a:pt x="2696" y="56"/>
                </a:moveTo>
                <a:cubicBezTo>
                  <a:pt x="1904" y="28"/>
                  <a:pt x="1112" y="0"/>
                  <a:pt x="680" y="56"/>
                </a:cubicBezTo>
                <a:cubicBezTo>
                  <a:pt x="248" y="112"/>
                  <a:pt x="208" y="136"/>
                  <a:pt x="104" y="392"/>
                </a:cubicBezTo>
                <a:cubicBezTo>
                  <a:pt x="0" y="648"/>
                  <a:pt x="28" y="1120"/>
                  <a:pt x="56" y="159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582720" y="2212920"/>
            <a:ext cx="3027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cle de la réus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2517840" y="160344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D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5564520" y="160344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LE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2213280" y="5870520"/>
            <a:ext cx="25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CHES A L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5946840" y="5870520"/>
            <a:ext cx="12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391520" y="2286000"/>
            <a:ext cx="0" cy="2743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7427520" y="3279600"/>
            <a:ext cx="12992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c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 ’éch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3581280" y="3200400"/>
            <a:ext cx="1979640" cy="1979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Hr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(5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3505320" y="3048120"/>
            <a:ext cx="610920" cy="610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2286000" y="5257800"/>
            <a:ext cx="755640" cy="755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p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238880" y="5943600"/>
            <a:ext cx="611280" cy="611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1984-8BE1-43E0-AF49-2A556A1555A6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2514600" y="1828800"/>
            <a:ext cx="6629400" cy="4800600"/>
            <a:chOff x="2514600" y="1828800"/>
            <a:chExt cx="6629400" cy="4800600"/>
          </a:xfrm>
        </p:grpSpPr>
        <p:sp>
          <p:nvSpPr>
            <p:cNvPr id="1018" name=""/>
            <p:cNvSpPr/>
            <p:nvPr/>
          </p:nvSpPr>
          <p:spPr>
            <a:xfrm>
              <a:off x="2514600" y="1828800"/>
              <a:ext cx="6629400" cy="4800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514600" y="2863800"/>
              <a:ext cx="66294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514600" y="3805200"/>
              <a:ext cx="66294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514600" y="4746600"/>
              <a:ext cx="66294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514600" y="5688000"/>
              <a:ext cx="66294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267440" y="1828800"/>
              <a:ext cx="0" cy="480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943600" y="1828800"/>
              <a:ext cx="0" cy="480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620120" y="1828800"/>
              <a:ext cx="0" cy="480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6" name=""/>
          <p:cNvSpPr/>
          <p:nvPr/>
        </p:nvSpPr>
        <p:spPr>
          <a:xfrm>
            <a:off x="3814200" y="297000"/>
            <a:ext cx="34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urité du sec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2500200" y="114624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émar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4244760" y="114624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iss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6081480" y="11462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u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7849440" y="114624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éc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839160" y="213660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in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1677960" y="30510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1053000" y="396540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vo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687960" y="495612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éfavo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968400" y="587052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gi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 rot="16200000">
            <a:off x="-1859040" y="4062600"/>
            <a:ext cx="423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 concurrenti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410080" y="2514600"/>
            <a:ext cx="1800360" cy="180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038480" y="3200400"/>
            <a:ext cx="99072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800600" y="4419720"/>
            <a:ext cx="99072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7772400" y="2286000"/>
            <a:ext cx="684360" cy="68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3048120" y="487692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819520" y="3962520"/>
            <a:ext cx="360360" cy="36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657600" y="42670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495680" y="62485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3809880" y="60958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2666880" y="5257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B89C-0C17-41E2-B4F5-5D4CCF7BCC86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7" name=""/>
          <p:cNvGrpSpPr/>
          <p:nvPr/>
        </p:nvGrpSpPr>
        <p:grpSpPr>
          <a:xfrm>
            <a:off x="2508120" y="1828800"/>
            <a:ext cx="6629400" cy="4800600"/>
            <a:chOff x="2508120" y="1828800"/>
            <a:chExt cx="6629400" cy="4800600"/>
          </a:xfrm>
        </p:grpSpPr>
        <p:sp>
          <p:nvSpPr>
            <p:cNvPr id="1048" name=""/>
            <p:cNvSpPr/>
            <p:nvPr/>
          </p:nvSpPr>
          <p:spPr>
            <a:xfrm>
              <a:off x="2508120" y="1828800"/>
              <a:ext cx="6629400" cy="4800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508120" y="2863800"/>
              <a:ext cx="66294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508120" y="3805200"/>
              <a:ext cx="66294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508120" y="4746600"/>
              <a:ext cx="66294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508120" y="5688000"/>
              <a:ext cx="66294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260960" y="1828800"/>
              <a:ext cx="0" cy="480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937120" y="1828800"/>
              <a:ext cx="0" cy="480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7613640" y="1828800"/>
              <a:ext cx="0" cy="480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6" name=""/>
          <p:cNvSpPr/>
          <p:nvPr/>
        </p:nvSpPr>
        <p:spPr>
          <a:xfrm>
            <a:off x="3807720" y="297000"/>
            <a:ext cx="34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urité du sec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494080" y="114624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émar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4238280" y="114624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iss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075360" y="11462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u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7843320" y="114624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éc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833040" y="213660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in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671480" y="30510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1046880" y="396540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vo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681840" y="495612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éfavo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961920" y="587052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gi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 rot="16200000">
            <a:off x="-1865520" y="4062600"/>
            <a:ext cx="423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 concurrenti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V="1">
            <a:off x="4267080" y="2819160"/>
            <a:ext cx="487692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2514600" y="4190760"/>
            <a:ext cx="6629400" cy="2438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2590920" y="6248520"/>
            <a:ext cx="40384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6629400" y="4724280"/>
            <a:ext cx="251460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4267080" y="2819520"/>
            <a:ext cx="4876920" cy="3124080"/>
          </a:xfrm>
          <a:custGeom>
            <a:avLst/>
            <a:gdLst/>
            <a:ahLst/>
            <a:rect l="l" t="t" r="r" b="b"/>
            <a:pathLst>
              <a:path w="3024" h="1968">
                <a:moveTo>
                  <a:pt x="0" y="1200"/>
                </a:moveTo>
                <a:lnTo>
                  <a:pt x="3024" y="0"/>
                </a:lnTo>
                <a:lnTo>
                  <a:pt x="3024" y="912"/>
                </a:lnTo>
                <a:lnTo>
                  <a:pt x="0" y="1968"/>
                </a:lnTo>
                <a:lnTo>
                  <a:pt x="0" y="1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2438280" y="4724280"/>
            <a:ext cx="6705720" cy="1905120"/>
          </a:xfrm>
          <a:custGeom>
            <a:avLst/>
            <a:gdLst/>
            <a:ahLst/>
            <a:rect l="l" t="t" r="r" b="b"/>
            <a:pathLst>
              <a:path w="4128" h="1200">
                <a:moveTo>
                  <a:pt x="0" y="1200"/>
                </a:moveTo>
                <a:lnTo>
                  <a:pt x="2592" y="960"/>
                </a:lnTo>
                <a:lnTo>
                  <a:pt x="4128" y="0"/>
                </a:lnTo>
                <a:lnTo>
                  <a:pt x="4128" y="1200"/>
                </a:lnTo>
                <a:lnTo>
                  <a:pt x="0" y="1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6046560" y="3838680"/>
            <a:ext cx="24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éveloppemen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élect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557240" y="5757840"/>
            <a:ext cx="2145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éori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7371360" y="5910120"/>
            <a:ext cx="14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a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9AE0-9CC0-42AB-AC40-0423638142F9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09240" y="457200"/>
            <a:ext cx="652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teur et branche d ’activ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1133640" cy="11620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685800" y="3581280"/>
            <a:ext cx="1133640" cy="11620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685800" y="5029200"/>
            <a:ext cx="1133640" cy="11620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286000" y="259092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0" y="403848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548640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00400" y="2514600"/>
            <a:ext cx="27432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ité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0400" y="3962520"/>
            <a:ext cx="21337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ité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5410080"/>
            <a:ext cx="6858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114800" y="5410080"/>
            <a:ext cx="34290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ité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76520" y="2514600"/>
            <a:ext cx="19119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ité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441C-E757-4C50-B44A-3F56F12E49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"/>
          <p:cNvSpPr/>
          <p:nvPr/>
        </p:nvSpPr>
        <p:spPr>
          <a:xfrm>
            <a:off x="4297320" y="10476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eur du sec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 rot="16200000">
            <a:off x="-1547640" y="4567680"/>
            <a:ext cx="36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ition concurrenti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427200" y="11224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5091120" y="112248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ye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7353720" y="112248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762120" y="2330280"/>
            <a:ext cx="8305560" cy="44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2957400" y="2330280"/>
            <a:ext cx="6110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762120" y="3781440"/>
            <a:ext cx="83055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762120" y="5234040"/>
            <a:ext cx="8305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2957400" y="685800"/>
            <a:ext cx="0" cy="609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5057640" y="685800"/>
            <a:ext cx="0" cy="609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7157880" y="685800"/>
            <a:ext cx="0" cy="609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 flipV="1">
            <a:off x="9067680" y="685440"/>
            <a:ext cx="0" cy="609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2957400" y="685800"/>
            <a:ext cx="611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1241280" y="267012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1019160" y="412128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ye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148400" y="567072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3279600" y="2365200"/>
            <a:ext cx="143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eni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4951080" y="2533680"/>
            <a:ext cx="226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iv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velopp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7208280" y="2365200"/>
            <a:ext cx="182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tabilis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raire l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che à la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3321720" y="3981600"/>
            <a:ext cx="140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roît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 ’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5218200" y="3813120"/>
            <a:ext cx="178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tabilis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u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7434360" y="4041720"/>
            <a:ext cx="136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rai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él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3099960" y="5337000"/>
            <a:ext cx="180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mise o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ando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5251680" y="5337000"/>
            <a:ext cx="175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rai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ess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 sél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7242480" y="571824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sinves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3D8A-44BA-41AC-8853-AB9E067F3F74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08520" y="457200"/>
            <a:ext cx="459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teur d ’activité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85800" y="2133720"/>
            <a:ext cx="6858000" cy="4057560"/>
            <a:chOff x="685800" y="2133720"/>
            <a:chExt cx="6858000" cy="4057560"/>
          </a:xfrm>
        </p:grpSpPr>
        <p:pic>
          <p:nvPicPr>
            <p:cNvPr id="221" name="" descr=""/>
            <p:cNvPicPr/>
            <p:nvPr/>
          </p:nvPicPr>
          <p:blipFill>
            <a:blip r:embed="rId1"/>
            <a:stretch/>
          </p:blipFill>
          <p:spPr>
            <a:xfrm>
              <a:off x="685800" y="2133720"/>
              <a:ext cx="113364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2"/>
            <a:stretch/>
          </p:blipFill>
          <p:spPr>
            <a:xfrm>
              <a:off x="685800" y="3581280"/>
              <a:ext cx="113364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3"/>
            <a:stretch/>
          </p:blipFill>
          <p:spPr>
            <a:xfrm>
              <a:off x="685800" y="5029200"/>
              <a:ext cx="113364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2286000" y="259092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286000" y="403848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86000" y="548640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04360" y="2514600"/>
              <a:ext cx="1935000" cy="581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ctivité 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200400" y="3962520"/>
              <a:ext cx="2133720" cy="581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ctivité 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200400" y="5410080"/>
              <a:ext cx="685800" cy="58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14800" y="5410080"/>
              <a:ext cx="3429000" cy="58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ctivité 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338440" y="2514600"/>
              <a:ext cx="1911960" cy="581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ctivité 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2B27-B418-45F4-9404-7175E53EA7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08160" y="457200"/>
            <a:ext cx="479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ranche d ’activité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85800" y="2133720"/>
            <a:ext cx="6858000" cy="4057560"/>
            <a:chOff x="685800" y="2133720"/>
            <a:chExt cx="6858000" cy="4057560"/>
          </a:xfrm>
        </p:grpSpPr>
        <p:pic>
          <p:nvPicPr>
            <p:cNvPr id="234" name="" descr=""/>
            <p:cNvPicPr/>
            <p:nvPr/>
          </p:nvPicPr>
          <p:blipFill>
            <a:blip r:embed="rId1"/>
            <a:stretch/>
          </p:blipFill>
          <p:spPr>
            <a:xfrm>
              <a:off x="685800" y="2133720"/>
              <a:ext cx="113364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2"/>
            <a:stretch/>
          </p:blipFill>
          <p:spPr>
            <a:xfrm>
              <a:off x="685800" y="3581280"/>
              <a:ext cx="113364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3"/>
            <a:stretch/>
          </p:blipFill>
          <p:spPr>
            <a:xfrm>
              <a:off x="685800" y="5029200"/>
              <a:ext cx="113364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286000" y="259092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86000" y="403848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286000" y="548640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04360" y="2492280"/>
              <a:ext cx="1935000" cy="581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ctivité 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00400" y="3962520"/>
              <a:ext cx="2133720" cy="581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ctivité 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00400" y="5410080"/>
              <a:ext cx="685800" cy="581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14800" y="5410080"/>
              <a:ext cx="3429000" cy="58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ctivité 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414400" y="2514600"/>
              <a:ext cx="1911960" cy="58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ctivité 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D43F-D356-4D9A-BC47-914CE64111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03:56:01Z</dcterms:created>
  <dc:creator>LE VOURCH</dc:creator>
  <dc:description/>
  <dc:language>en-US</dc:language>
  <cp:lastModifiedBy>The Computer</cp:lastModifiedBy>
  <cp:lastPrinted>2004-10-12T14:47:36Z</cp:lastPrinted>
  <dcterms:modified xsi:type="dcterms:W3CDTF">2004-10-12T14:49:14Z</dcterms:modified>
  <cp:revision>39</cp:revision>
  <dc:subject/>
  <dc:title>Diapositive 1</dc:title>
</cp:coreProperties>
</file>