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11.wmf" ContentType="image/x-wmf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637F1-22D5-4D7A-B15C-D567EAC8F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67439-436A-421D-886C-886D660B8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BD846-E485-41B0-9B73-0BD93739D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F9EA3-ADC8-4DAD-91D3-6AB47AC7D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48F49-595C-44BC-81D5-5D8B9C594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ECF92-52DA-48FA-A26D-0C653B116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30B87-EF1F-4589-A71A-FB37B7A9B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7300C-7A59-4468-990F-EADDD6085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B04F1-38D1-4EF7-BAE8-1D6FB63EE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0307D-CB65-4AB9-BB98-FB0B1C764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15B5A-3D6E-41ED-8BB5-51260CCD0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6EE4B-C617-4F86-939D-3030BCBC9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DA422-96A5-47EF-AD72-D958C1D69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DD274-A4E5-40A1-9125-1FF5C5F2C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516E4-3B03-4B04-8922-7F95FC6B0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5150E-17CB-46F0-A8D5-90CEF8C92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BB4CF-84DC-47BC-9396-47C6989BD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CFAA8-6A94-4319-A14D-EE916DB0A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88BBB-93EA-493E-BC0A-EB7825727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290A2-7C94-4C73-8B8D-AE1A62419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1A97A-4F4E-4A4D-AAA4-6A340882A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25812-6250-4A3F-9F03-49F0C2FAF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627C8-5B38-48C0-B223-414D01623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28300-BDCB-418C-8839-BCC93F923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886F8-8C60-47C7-8196-3FB03231EB5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aint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7216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D31D4-613E-42CD-ACE2-2DFF3CD7F28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aint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6.png"/><Relationship Id="rId9" Type="http://schemas.openxmlformats.org/officeDocument/2006/relationships/image" Target="../media/image7.png"/><Relationship Id="rId10" Type="http://schemas.openxmlformats.org/officeDocument/2006/relationships/image" Target="../media/image8.png"/><Relationship Id="rId11" Type="http://schemas.openxmlformats.org/officeDocument/2006/relationships/image" Target="../media/image9.png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023840" y="2498760"/>
            <a:ext cx="72885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Caractériser l’environnement de l’entrepri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708560" y="4175280"/>
            <a:ext cx="59047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Les nouveaux défis de l ’entrepri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987480" y="457200"/>
            <a:ext cx="695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 ’entreprise et son environn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8" name=""/>
          <p:cNvGrpSpPr/>
          <p:nvPr/>
        </p:nvGrpSpPr>
        <p:grpSpPr>
          <a:xfrm>
            <a:off x="0" y="762120"/>
            <a:ext cx="9240840" cy="6024600"/>
            <a:chOff x="0" y="762120"/>
            <a:chExt cx="9240840" cy="6024600"/>
          </a:xfrm>
        </p:grpSpPr>
        <p:pic>
          <p:nvPicPr>
            <p:cNvPr id="309" name="" descr=""/>
            <p:cNvPicPr/>
            <p:nvPr/>
          </p:nvPicPr>
          <p:blipFill>
            <a:blip r:embed="rId1"/>
            <a:stretch/>
          </p:blipFill>
          <p:spPr>
            <a:xfrm>
              <a:off x="0" y="762120"/>
              <a:ext cx="9240840" cy="5749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10" name=""/>
            <p:cNvGrpSpPr/>
            <p:nvPr/>
          </p:nvGrpSpPr>
          <p:grpSpPr>
            <a:xfrm>
              <a:off x="143640" y="2182680"/>
              <a:ext cx="6716880" cy="4604040"/>
              <a:chOff x="143640" y="2182680"/>
              <a:chExt cx="6716880" cy="4604040"/>
            </a:xfrm>
          </p:grpSpPr>
          <p:sp>
            <p:nvSpPr>
              <p:cNvPr id="311" name=""/>
              <p:cNvSpPr/>
              <p:nvPr/>
            </p:nvSpPr>
            <p:spPr>
              <a:xfrm>
                <a:off x="5172480" y="3249720"/>
                <a:ext cx="1688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Etats-Unis</a:t>
                </a:r>
                <a:br>
                  <a:rPr sz="2400"/>
                </a:b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46,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48520" y="5961240"/>
                <a:ext cx="116208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Suisse</a:t>
                </a:r>
                <a:br>
                  <a:rPr sz="2400"/>
                </a:b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13,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2326680" y="5459400"/>
                <a:ext cx="90756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400" spc="-1" strike="noStrike">
                    <a:solidFill>
                      <a:srgbClr val="000000"/>
                    </a:solidFill>
                    <a:latin typeface="Arial"/>
                  </a:rPr>
                  <a:t>Peco</a:t>
                </a:r>
                <a:br>
                  <a:rPr sz="2400"/>
                </a:br>
                <a:r>
                  <a:rPr b="1" lang="fr-FR" sz="2400" spc="-1" strike="noStrike">
                    <a:solidFill>
                      <a:srgbClr val="000000"/>
                    </a:solidFill>
                    <a:latin typeface="Arial"/>
                  </a:rPr>
                  <a:t>(4,2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931320" y="4940280"/>
                <a:ext cx="178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Japon (3,2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713520" y="4483080"/>
                <a:ext cx="1739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Chine (3,1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143640" y="4102200"/>
                <a:ext cx="21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Maghreb (0,7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551160" y="3630600"/>
                <a:ext cx="1520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Inde (0,6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2133720" y="38862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2590920" y="388620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2838240" y="2182680"/>
                <a:ext cx="97776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400" spc="-1" strike="noStrike">
                    <a:solidFill>
                      <a:srgbClr val="000000"/>
                    </a:solidFill>
                    <a:latin typeface="Arial"/>
                  </a:rPr>
                  <a:t>RdM</a:t>
                </a:r>
                <a:br>
                  <a:rPr sz="2400"/>
                </a:br>
                <a:r>
                  <a:rPr b="1" lang="fr-FR" sz="2400" spc="-1" strike="noStrike">
                    <a:solidFill>
                      <a:srgbClr val="000000"/>
                    </a:solidFill>
                    <a:latin typeface="Arial"/>
                  </a:rPr>
                  <a:t>(28,7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1" name=""/>
          <p:cNvSpPr/>
          <p:nvPr/>
        </p:nvSpPr>
        <p:spPr>
          <a:xfrm>
            <a:off x="-14760" y="227160"/>
            <a:ext cx="91922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venance des importations de services des Quin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 2002 hors tourisme et transports (en %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2" name=""/>
          <p:cNvGrpSpPr/>
          <p:nvPr/>
        </p:nvGrpSpPr>
        <p:grpSpPr>
          <a:xfrm>
            <a:off x="339840" y="1770120"/>
            <a:ext cx="8042040" cy="485640"/>
            <a:chOff x="339840" y="1770120"/>
            <a:chExt cx="8042040" cy="485640"/>
          </a:xfrm>
        </p:grpSpPr>
        <p:grpSp>
          <p:nvGrpSpPr>
            <p:cNvPr id="323" name=""/>
            <p:cNvGrpSpPr/>
            <p:nvPr/>
          </p:nvGrpSpPr>
          <p:grpSpPr>
            <a:xfrm>
              <a:off x="974880" y="1770120"/>
              <a:ext cx="7407000" cy="396720"/>
              <a:chOff x="974880" y="1770120"/>
              <a:chExt cx="7407000" cy="396720"/>
            </a:xfrm>
          </p:grpSpPr>
          <p:sp>
            <p:nvSpPr>
              <p:cNvPr id="324" name=""/>
              <p:cNvSpPr/>
              <p:nvPr/>
            </p:nvSpPr>
            <p:spPr>
              <a:xfrm>
                <a:off x="974880" y="1770120"/>
                <a:ext cx="7407000" cy="79200"/>
              </a:xfrm>
              <a:custGeom>
                <a:avLst/>
                <a:gdLst/>
                <a:ahLst/>
                <a:rect l="l" t="t" r="r" b="b"/>
                <a:pathLst>
                  <a:path w="9330" h="102">
                    <a:moveTo>
                      <a:pt x="0" y="102"/>
                    </a:moveTo>
                    <a:lnTo>
                      <a:pt x="9194" y="102"/>
                    </a:lnTo>
                    <a:lnTo>
                      <a:pt x="9330" y="0"/>
                    </a:lnTo>
                    <a:lnTo>
                      <a:pt x="136" y="0"/>
                    </a:lnTo>
                    <a:lnTo>
                      <a:pt x="0" y="102"/>
                    </a:lnTo>
                    <a:close/>
                  </a:path>
                </a:pathLst>
              </a:custGeom>
              <a:solidFill>
                <a:srgbClr val="bf99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974880" y="1849320"/>
                <a:ext cx="7297560" cy="31752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8272440" y="1770120"/>
                <a:ext cx="109080" cy="396720"/>
              </a:xfrm>
              <a:custGeom>
                <a:avLst/>
                <a:gdLst/>
                <a:ahLst/>
                <a:rect l="l" t="t" r="r" b="b"/>
                <a:pathLst>
                  <a:path w="136" h="501">
                    <a:moveTo>
                      <a:pt x="136" y="398"/>
                    </a:moveTo>
                    <a:lnTo>
                      <a:pt x="0" y="501"/>
                    </a:lnTo>
                    <a:lnTo>
                      <a:pt x="0" y="102"/>
                    </a:lnTo>
                    <a:lnTo>
                      <a:pt x="136" y="0"/>
                    </a:lnTo>
                    <a:lnTo>
                      <a:pt x="136" y="398"/>
                    </a:lnTo>
                    <a:close/>
                  </a:path>
                </a:pathLst>
              </a:custGeom>
              <a:solidFill>
                <a:srgbClr val="8066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7" name=""/>
            <p:cNvSpPr/>
            <p:nvPr/>
          </p:nvSpPr>
          <p:spPr>
            <a:xfrm>
              <a:off x="1219320" y="1828800"/>
              <a:ext cx="8967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Jap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39840" y="1828800"/>
              <a:ext cx="1987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7239240" y="1844640"/>
              <a:ext cx="8647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6,9%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0" name=""/>
          <p:cNvGrpSpPr/>
          <p:nvPr/>
        </p:nvGrpSpPr>
        <p:grpSpPr>
          <a:xfrm>
            <a:off x="339840" y="2558880"/>
            <a:ext cx="5709960" cy="459000"/>
            <a:chOff x="339840" y="2558880"/>
            <a:chExt cx="5709960" cy="459000"/>
          </a:xfrm>
        </p:grpSpPr>
        <p:grpSp>
          <p:nvGrpSpPr>
            <p:cNvPr id="331" name=""/>
            <p:cNvGrpSpPr/>
            <p:nvPr/>
          </p:nvGrpSpPr>
          <p:grpSpPr>
            <a:xfrm>
              <a:off x="974880" y="2558880"/>
              <a:ext cx="5074920" cy="397080"/>
              <a:chOff x="974880" y="2558880"/>
              <a:chExt cx="5074920" cy="397080"/>
            </a:xfrm>
          </p:grpSpPr>
          <p:sp>
            <p:nvSpPr>
              <p:cNvPr id="332" name=""/>
              <p:cNvSpPr/>
              <p:nvPr/>
            </p:nvSpPr>
            <p:spPr>
              <a:xfrm>
                <a:off x="974880" y="2558880"/>
                <a:ext cx="5074920" cy="82800"/>
              </a:xfrm>
              <a:custGeom>
                <a:avLst/>
                <a:gdLst/>
                <a:ahLst/>
                <a:rect l="l" t="t" r="r" b="b"/>
                <a:pathLst>
                  <a:path w="6393" h="103">
                    <a:moveTo>
                      <a:pt x="0" y="103"/>
                    </a:moveTo>
                    <a:lnTo>
                      <a:pt x="6257" y="103"/>
                    </a:lnTo>
                    <a:lnTo>
                      <a:pt x="6393" y="0"/>
                    </a:lnTo>
                    <a:lnTo>
                      <a:pt x="136" y="0"/>
                    </a:lnTo>
                    <a:lnTo>
                      <a:pt x="0" y="103"/>
                    </a:lnTo>
                    <a:close/>
                  </a:path>
                </a:pathLst>
              </a:custGeom>
              <a:solidFill>
                <a:srgbClr val="bf99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974880" y="2641680"/>
                <a:ext cx="4967280" cy="31428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5942160" y="2558880"/>
                <a:ext cx="107280" cy="397080"/>
              </a:xfrm>
              <a:custGeom>
                <a:avLst/>
                <a:gdLst/>
                <a:ahLst/>
                <a:rect l="l" t="t" r="r" b="b"/>
                <a:pathLst>
                  <a:path w="136" h="501">
                    <a:moveTo>
                      <a:pt x="136" y="397"/>
                    </a:moveTo>
                    <a:lnTo>
                      <a:pt x="0" y="501"/>
                    </a:lnTo>
                    <a:lnTo>
                      <a:pt x="0" y="103"/>
                    </a:lnTo>
                    <a:lnTo>
                      <a:pt x="136" y="0"/>
                    </a:lnTo>
                    <a:lnTo>
                      <a:pt x="136" y="397"/>
                    </a:lnTo>
                    <a:close/>
                  </a:path>
                </a:pathLst>
              </a:custGeom>
              <a:solidFill>
                <a:srgbClr val="8066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5" name=""/>
            <p:cNvSpPr/>
            <p:nvPr/>
          </p:nvSpPr>
          <p:spPr>
            <a:xfrm>
              <a:off x="1141920" y="2590920"/>
              <a:ext cx="1033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</a:rPr>
                <a:t>Taïwa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39840" y="2590920"/>
              <a:ext cx="1987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4876920" y="2606760"/>
              <a:ext cx="8647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1,5%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8" name=""/>
          <p:cNvGrpSpPr/>
          <p:nvPr/>
        </p:nvGrpSpPr>
        <p:grpSpPr>
          <a:xfrm>
            <a:off x="339840" y="3348000"/>
            <a:ext cx="5494320" cy="523800"/>
            <a:chOff x="339840" y="3348000"/>
            <a:chExt cx="5494320" cy="523800"/>
          </a:xfrm>
        </p:grpSpPr>
        <p:grpSp>
          <p:nvGrpSpPr>
            <p:cNvPr id="339" name=""/>
            <p:cNvGrpSpPr/>
            <p:nvPr/>
          </p:nvGrpSpPr>
          <p:grpSpPr>
            <a:xfrm>
              <a:off x="974880" y="3348000"/>
              <a:ext cx="4859280" cy="398520"/>
              <a:chOff x="974880" y="3348000"/>
              <a:chExt cx="4859280" cy="398520"/>
            </a:xfrm>
          </p:grpSpPr>
          <p:sp>
            <p:nvSpPr>
              <p:cNvPr id="340" name=""/>
              <p:cNvSpPr/>
              <p:nvPr/>
            </p:nvSpPr>
            <p:spPr>
              <a:xfrm>
                <a:off x="974880" y="3348000"/>
                <a:ext cx="4859280" cy="82440"/>
              </a:xfrm>
              <a:custGeom>
                <a:avLst/>
                <a:gdLst/>
                <a:ahLst/>
                <a:rect l="l" t="t" r="r" b="b"/>
                <a:pathLst>
                  <a:path w="6120" h="104">
                    <a:moveTo>
                      <a:pt x="0" y="104"/>
                    </a:moveTo>
                    <a:lnTo>
                      <a:pt x="5984" y="104"/>
                    </a:lnTo>
                    <a:lnTo>
                      <a:pt x="6120" y="0"/>
                    </a:lnTo>
                    <a:lnTo>
                      <a:pt x="136" y="0"/>
                    </a:lnTo>
                    <a:lnTo>
                      <a:pt x="0" y="104"/>
                    </a:lnTo>
                    <a:close/>
                  </a:path>
                </a:pathLst>
              </a:custGeom>
              <a:solidFill>
                <a:srgbClr val="bf99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974880" y="3430440"/>
                <a:ext cx="4749480" cy="31608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5724360" y="3348000"/>
                <a:ext cx="109440" cy="398520"/>
              </a:xfrm>
              <a:custGeom>
                <a:avLst/>
                <a:gdLst/>
                <a:ahLst/>
                <a:rect l="l" t="t" r="r" b="b"/>
                <a:pathLst>
                  <a:path w="136" h="501">
                    <a:moveTo>
                      <a:pt x="136" y="400"/>
                    </a:moveTo>
                    <a:lnTo>
                      <a:pt x="0" y="501"/>
                    </a:lnTo>
                    <a:lnTo>
                      <a:pt x="0" y="104"/>
                    </a:lnTo>
                    <a:lnTo>
                      <a:pt x="136" y="0"/>
                    </a:lnTo>
                    <a:lnTo>
                      <a:pt x="136" y="400"/>
                    </a:lnTo>
                    <a:close/>
                  </a:path>
                </a:pathLst>
              </a:custGeom>
              <a:solidFill>
                <a:srgbClr val="8066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1142640" y="3352680"/>
              <a:ext cx="19803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orée du Su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39840" y="3444840"/>
              <a:ext cx="1987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4951800" y="3429000"/>
              <a:ext cx="6102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1%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6" name=""/>
          <p:cNvGrpSpPr/>
          <p:nvPr/>
        </p:nvGrpSpPr>
        <p:grpSpPr>
          <a:xfrm>
            <a:off x="339840" y="4138560"/>
            <a:ext cx="4457520" cy="495360"/>
            <a:chOff x="339840" y="4138560"/>
            <a:chExt cx="4457520" cy="495360"/>
          </a:xfrm>
        </p:grpSpPr>
        <p:grpSp>
          <p:nvGrpSpPr>
            <p:cNvPr id="347" name=""/>
            <p:cNvGrpSpPr/>
            <p:nvPr/>
          </p:nvGrpSpPr>
          <p:grpSpPr>
            <a:xfrm>
              <a:off x="974880" y="4138560"/>
              <a:ext cx="3822480" cy="398520"/>
              <a:chOff x="974880" y="4138560"/>
              <a:chExt cx="3822480" cy="398520"/>
            </a:xfrm>
          </p:grpSpPr>
          <p:sp>
            <p:nvSpPr>
              <p:cNvPr id="348" name=""/>
              <p:cNvSpPr/>
              <p:nvPr/>
            </p:nvSpPr>
            <p:spPr>
              <a:xfrm>
                <a:off x="974880" y="4138560"/>
                <a:ext cx="3822480" cy="81000"/>
              </a:xfrm>
              <a:custGeom>
                <a:avLst/>
                <a:gdLst/>
                <a:ahLst/>
                <a:rect l="l" t="t" r="r" b="b"/>
                <a:pathLst>
                  <a:path w="4815" h="101">
                    <a:moveTo>
                      <a:pt x="0" y="101"/>
                    </a:moveTo>
                    <a:lnTo>
                      <a:pt x="4678" y="101"/>
                    </a:lnTo>
                    <a:lnTo>
                      <a:pt x="4815" y="0"/>
                    </a:lnTo>
                    <a:lnTo>
                      <a:pt x="136" y="0"/>
                    </a:lnTo>
                    <a:lnTo>
                      <a:pt x="0" y="101"/>
                    </a:lnTo>
                    <a:close/>
                  </a:path>
                </a:pathLst>
              </a:custGeom>
              <a:solidFill>
                <a:srgbClr val="bf99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974880" y="4219560"/>
                <a:ext cx="3714480" cy="31752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4689360" y="4138560"/>
                <a:ext cx="107640" cy="398520"/>
              </a:xfrm>
              <a:custGeom>
                <a:avLst/>
                <a:gdLst/>
                <a:ahLst/>
                <a:rect l="l" t="t" r="r" b="b"/>
                <a:pathLst>
                  <a:path w="137" h="501">
                    <a:moveTo>
                      <a:pt x="137" y="397"/>
                    </a:moveTo>
                    <a:lnTo>
                      <a:pt x="0" y="501"/>
                    </a:lnTo>
                    <a:lnTo>
                      <a:pt x="0" y="101"/>
                    </a:lnTo>
                    <a:lnTo>
                      <a:pt x="137" y="0"/>
                    </a:lnTo>
                    <a:lnTo>
                      <a:pt x="137" y="397"/>
                    </a:lnTo>
                    <a:close/>
                  </a:path>
                </a:pathLst>
              </a:custGeom>
              <a:solidFill>
                <a:srgbClr val="8066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1" name=""/>
            <p:cNvSpPr/>
            <p:nvPr/>
          </p:nvSpPr>
          <p:spPr>
            <a:xfrm>
              <a:off x="1158840" y="4149720"/>
              <a:ext cx="15080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Etats-Uni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39840" y="4206960"/>
              <a:ext cx="1987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809880" y="4206960"/>
              <a:ext cx="6955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8,6%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4" name=""/>
          <p:cNvGrpSpPr/>
          <p:nvPr/>
        </p:nvGrpSpPr>
        <p:grpSpPr>
          <a:xfrm>
            <a:off x="322200" y="4929120"/>
            <a:ext cx="4183200" cy="450720"/>
            <a:chOff x="322200" y="4929120"/>
            <a:chExt cx="4183200" cy="450720"/>
          </a:xfrm>
        </p:grpSpPr>
        <p:grpSp>
          <p:nvGrpSpPr>
            <p:cNvPr id="355" name=""/>
            <p:cNvGrpSpPr/>
            <p:nvPr/>
          </p:nvGrpSpPr>
          <p:grpSpPr>
            <a:xfrm>
              <a:off x="974880" y="4929120"/>
              <a:ext cx="2527200" cy="397080"/>
              <a:chOff x="974880" y="4929120"/>
              <a:chExt cx="2527200" cy="397080"/>
            </a:xfrm>
          </p:grpSpPr>
          <p:sp>
            <p:nvSpPr>
              <p:cNvPr id="356" name=""/>
              <p:cNvSpPr/>
              <p:nvPr/>
            </p:nvSpPr>
            <p:spPr>
              <a:xfrm>
                <a:off x="974880" y="4929120"/>
                <a:ext cx="2527200" cy="81000"/>
              </a:xfrm>
              <a:custGeom>
                <a:avLst/>
                <a:gdLst/>
                <a:ahLst/>
                <a:rect l="l" t="t" r="r" b="b"/>
                <a:pathLst>
                  <a:path w="3183" h="104">
                    <a:moveTo>
                      <a:pt x="0" y="104"/>
                    </a:moveTo>
                    <a:lnTo>
                      <a:pt x="3047" y="104"/>
                    </a:lnTo>
                    <a:lnTo>
                      <a:pt x="3183" y="0"/>
                    </a:lnTo>
                    <a:lnTo>
                      <a:pt x="136" y="0"/>
                    </a:lnTo>
                    <a:lnTo>
                      <a:pt x="0" y="104"/>
                    </a:lnTo>
                    <a:close/>
                  </a:path>
                </a:pathLst>
              </a:custGeom>
              <a:solidFill>
                <a:srgbClr val="bf99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974880" y="5010120"/>
                <a:ext cx="2419200" cy="31608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3394080" y="4929120"/>
                <a:ext cx="107640" cy="397080"/>
              </a:xfrm>
              <a:custGeom>
                <a:avLst/>
                <a:gdLst/>
                <a:ahLst/>
                <a:rect l="l" t="t" r="r" b="b"/>
                <a:pathLst>
                  <a:path w="136" h="501">
                    <a:moveTo>
                      <a:pt x="136" y="398"/>
                    </a:moveTo>
                    <a:lnTo>
                      <a:pt x="0" y="501"/>
                    </a:lnTo>
                    <a:lnTo>
                      <a:pt x="0" y="104"/>
                    </a:lnTo>
                    <a:lnTo>
                      <a:pt x="136" y="0"/>
                    </a:lnTo>
                    <a:lnTo>
                      <a:pt x="136" y="398"/>
                    </a:lnTo>
                    <a:close/>
                  </a:path>
                </a:pathLst>
              </a:custGeom>
              <a:solidFill>
                <a:srgbClr val="8066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9" name=""/>
            <p:cNvSpPr/>
            <p:nvPr/>
          </p:nvSpPr>
          <p:spPr>
            <a:xfrm>
              <a:off x="1125360" y="4941720"/>
              <a:ext cx="15415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llemagn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22200" y="4952880"/>
              <a:ext cx="1987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809880" y="4952880"/>
              <a:ext cx="6955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5,6%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2" name=""/>
          <p:cNvGrpSpPr/>
          <p:nvPr/>
        </p:nvGrpSpPr>
        <p:grpSpPr>
          <a:xfrm>
            <a:off x="152280" y="6308640"/>
            <a:ext cx="4353120" cy="458640"/>
            <a:chOff x="152280" y="6308640"/>
            <a:chExt cx="4353120" cy="458640"/>
          </a:xfrm>
        </p:grpSpPr>
        <p:grpSp>
          <p:nvGrpSpPr>
            <p:cNvPr id="363" name=""/>
            <p:cNvGrpSpPr/>
            <p:nvPr/>
          </p:nvGrpSpPr>
          <p:grpSpPr>
            <a:xfrm>
              <a:off x="974880" y="6308640"/>
              <a:ext cx="626760" cy="396720"/>
              <a:chOff x="974880" y="6308640"/>
              <a:chExt cx="626760" cy="396720"/>
            </a:xfrm>
          </p:grpSpPr>
          <p:sp>
            <p:nvSpPr>
              <p:cNvPr id="364" name=""/>
              <p:cNvSpPr/>
              <p:nvPr/>
            </p:nvSpPr>
            <p:spPr>
              <a:xfrm>
                <a:off x="974880" y="6308640"/>
                <a:ext cx="626760" cy="82440"/>
              </a:xfrm>
              <a:custGeom>
                <a:avLst/>
                <a:gdLst/>
                <a:ahLst/>
                <a:rect l="l" t="t" r="r" b="b"/>
                <a:pathLst>
                  <a:path w="789" h="103">
                    <a:moveTo>
                      <a:pt x="0" y="103"/>
                    </a:moveTo>
                    <a:lnTo>
                      <a:pt x="653" y="103"/>
                    </a:lnTo>
                    <a:lnTo>
                      <a:pt x="789" y="0"/>
                    </a:lnTo>
                    <a:lnTo>
                      <a:pt x="136" y="0"/>
                    </a:lnTo>
                    <a:lnTo>
                      <a:pt x="0" y="103"/>
                    </a:lnTo>
                    <a:close/>
                  </a:path>
                </a:pathLst>
              </a:custGeom>
              <a:solidFill>
                <a:srgbClr val="bf99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974880" y="6391080"/>
                <a:ext cx="518760" cy="31428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1493640" y="6308640"/>
                <a:ext cx="107640" cy="396720"/>
              </a:xfrm>
              <a:custGeom>
                <a:avLst/>
                <a:gdLst/>
                <a:ahLst/>
                <a:rect l="l" t="t" r="r" b="b"/>
                <a:pathLst>
                  <a:path w="136" h="501">
                    <a:moveTo>
                      <a:pt x="136" y="399"/>
                    </a:moveTo>
                    <a:lnTo>
                      <a:pt x="0" y="501"/>
                    </a:lnTo>
                    <a:lnTo>
                      <a:pt x="0" y="103"/>
                    </a:lnTo>
                    <a:lnTo>
                      <a:pt x="136" y="0"/>
                    </a:lnTo>
                    <a:lnTo>
                      <a:pt x="136" y="399"/>
                    </a:lnTo>
                    <a:close/>
                  </a:path>
                </a:pathLst>
              </a:custGeom>
              <a:solidFill>
                <a:srgbClr val="8066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7" name=""/>
            <p:cNvSpPr/>
            <p:nvPr/>
          </p:nvSpPr>
          <p:spPr>
            <a:xfrm>
              <a:off x="1829160" y="6321600"/>
              <a:ext cx="999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Fran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152280" y="6340320"/>
              <a:ext cx="3970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1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3809880" y="6324480"/>
              <a:ext cx="6955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,2%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0" name=""/>
          <p:cNvSpPr/>
          <p:nvPr/>
        </p:nvSpPr>
        <p:spPr>
          <a:xfrm>
            <a:off x="839160" y="274680"/>
            <a:ext cx="74548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incipaux fournisseurs de la Chine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en % des importations totales - 1er semestre ‘ 0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1986480" y="3840120"/>
            <a:ext cx="51487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TIC et gestion des entrepri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022400" y="5516640"/>
            <a:ext cx="70704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L’investissement socialement respons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71960" y="4678200"/>
            <a:ext cx="82576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Brevets, standards… règle du jeu, maître du jeu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946800" y="533520"/>
            <a:ext cx="7229160" cy="2895480"/>
            <a:chOff x="946800" y="533520"/>
            <a:chExt cx="7229160" cy="2895480"/>
          </a:xfrm>
        </p:grpSpPr>
        <p:sp>
          <p:nvSpPr>
            <p:cNvPr id="375" name=""/>
            <p:cNvSpPr/>
            <p:nvPr/>
          </p:nvSpPr>
          <p:spPr>
            <a:xfrm>
              <a:off x="1212480" y="533520"/>
              <a:ext cx="665892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Les nouveaux défis de l’entrepris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946800" y="2163600"/>
              <a:ext cx="722916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1. Mondialisation de l’économie et entreprise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281680" y="3002040"/>
              <a:ext cx="457740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0000"/>
                  </a:solidFill>
                  <a:latin typeface="Arial"/>
                </a:rPr>
                <a:t>2. Le défi des délocalisation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/>
          <p:nvPr/>
        </p:nvSpPr>
        <p:spPr>
          <a:xfrm>
            <a:off x="416880" y="533520"/>
            <a:ext cx="82609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’investissement socialement respons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916920" y="1989000"/>
            <a:ext cx="7349400" cy="38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’est un investissement do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 bénéfice est collectif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 rendement ne concerne pas que l’entrepri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 bénéficie pas seulement à l’entrepri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s produit des bienfa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aux et environnementau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/>
          <p:nvPr/>
        </p:nvSpPr>
        <p:spPr>
          <a:xfrm>
            <a:off x="3522240" y="3840120"/>
            <a:ext cx="20851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 mécén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2084760" y="4678200"/>
            <a:ext cx="50583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s fonds de pension éthiq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758520" y="533520"/>
            <a:ext cx="75841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s formes de l’investissement éthi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2615760" y="2163600"/>
            <a:ext cx="3907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L’activisme actionnar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63720" y="3002040"/>
            <a:ext cx="36306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 placement éthi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3233880" y="533520"/>
            <a:ext cx="26416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 mécénat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870560" y="2276640"/>
            <a:ext cx="5328720" cy="12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jourd’hui, le mécénat désign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ute forme de protection des art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t des activités relevant du tal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902520" y="4257720"/>
            <a:ext cx="73116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t mécène quiconque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sonne physique ou morale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s exercer lui-même d’activité artistique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ibue à promouvoir la pratique de l’artis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758880" y="457200"/>
            <a:ext cx="756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s composantes de l ’environn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1447560" cy="122868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914400" y="3581280"/>
            <a:ext cx="2862720" cy="1371600"/>
            <a:chOff x="914400" y="3581280"/>
            <a:chExt cx="2862720" cy="137160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914400" y="3581280"/>
              <a:ext cx="133020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 rot="20640000">
              <a:off x="2657160" y="3898440"/>
              <a:ext cx="1066680" cy="533520"/>
            </a:xfrm>
            <a:prstGeom prst="rightArrow">
              <a:avLst>
                <a:gd name="adj1" fmla="val 50000"/>
                <a:gd name="adj2" fmla="val 49983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1371600" y="1905120"/>
            <a:ext cx="2500200" cy="1676880"/>
            <a:chOff x="1371600" y="1905120"/>
            <a:chExt cx="2500200" cy="1676880"/>
          </a:xfrm>
        </p:grpSpPr>
        <p:pic>
          <p:nvPicPr>
            <p:cNvPr id="92" name="" descr=""/>
            <p:cNvPicPr/>
            <p:nvPr/>
          </p:nvPicPr>
          <p:blipFill>
            <a:blip r:embed="rId3"/>
            <a:stretch/>
          </p:blipFill>
          <p:spPr>
            <a:xfrm>
              <a:off x="1371600" y="1905120"/>
              <a:ext cx="1106640" cy="121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 rot="1783200">
              <a:off x="2743200" y="2819520"/>
              <a:ext cx="1066680" cy="533160"/>
            </a:xfrm>
            <a:prstGeom prst="rightArrow">
              <a:avLst>
                <a:gd name="adj1" fmla="val 50000"/>
                <a:gd name="adj2" fmla="val 50017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3886200" y="1295280"/>
            <a:ext cx="1201680" cy="1926360"/>
            <a:chOff x="3886200" y="1295280"/>
            <a:chExt cx="1201680" cy="1926360"/>
          </a:xfrm>
        </p:grpSpPr>
        <p:pic>
          <p:nvPicPr>
            <p:cNvPr id="95" name="" descr=""/>
            <p:cNvPicPr/>
            <p:nvPr/>
          </p:nvPicPr>
          <p:blipFill>
            <a:blip r:embed="rId4"/>
            <a:stretch/>
          </p:blipFill>
          <p:spPr>
            <a:xfrm>
              <a:off x="3886200" y="1295280"/>
              <a:ext cx="110016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 rot="4408800">
              <a:off x="4517640" y="2644560"/>
              <a:ext cx="489240" cy="53352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5961240" y="1600200"/>
            <a:ext cx="2478960" cy="2157840"/>
            <a:chOff x="5961240" y="1600200"/>
            <a:chExt cx="2478960" cy="2157840"/>
          </a:xfrm>
        </p:grpSpPr>
        <p:grpSp>
          <p:nvGrpSpPr>
            <p:cNvPr id="98" name=""/>
            <p:cNvGrpSpPr/>
            <p:nvPr/>
          </p:nvGrpSpPr>
          <p:grpSpPr>
            <a:xfrm>
              <a:off x="6248520" y="1600200"/>
              <a:ext cx="2191680" cy="1343160"/>
              <a:chOff x="6248520" y="1600200"/>
              <a:chExt cx="2191680" cy="1343160"/>
            </a:xfrm>
          </p:grpSpPr>
          <p:pic>
            <p:nvPicPr>
              <p:cNvPr id="99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7010280" y="1600200"/>
                <a:ext cx="667800" cy="685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7010280" y="2362320"/>
                <a:ext cx="685440" cy="581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1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6248520" y="1981440"/>
                <a:ext cx="685440" cy="581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2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7772400" y="1981440"/>
                <a:ext cx="667800" cy="685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03" name=""/>
            <p:cNvSpPr/>
            <p:nvPr/>
          </p:nvSpPr>
          <p:spPr>
            <a:xfrm rot="8750400">
              <a:off x="6038640" y="3035160"/>
              <a:ext cx="838080" cy="533520"/>
            </a:xfrm>
            <a:prstGeom prst="rightArrow">
              <a:avLst>
                <a:gd name="adj1" fmla="val 50000"/>
                <a:gd name="adj2" fmla="val 39271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2666880" y="4458960"/>
            <a:ext cx="1983960" cy="2094120"/>
            <a:chOff x="2666880" y="4458960"/>
            <a:chExt cx="1983960" cy="2094120"/>
          </a:xfrm>
        </p:grpSpPr>
        <p:pic>
          <p:nvPicPr>
            <p:cNvPr id="105" name="" descr=""/>
            <p:cNvPicPr/>
            <p:nvPr/>
          </p:nvPicPr>
          <p:blipFill>
            <a:blip r:embed="rId9"/>
            <a:stretch/>
          </p:blipFill>
          <p:spPr>
            <a:xfrm>
              <a:off x="2666880" y="5257800"/>
              <a:ext cx="115092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 rot="18987000">
              <a:off x="3809520" y="4647960"/>
              <a:ext cx="762120" cy="533160"/>
            </a:xfrm>
            <a:prstGeom prst="rightArrow">
              <a:avLst>
                <a:gd name="adj1" fmla="val 50000"/>
                <a:gd name="adj2" fmla="val 35736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5538240" y="4420440"/>
            <a:ext cx="1460880" cy="2208960"/>
            <a:chOff x="5538240" y="4420440"/>
            <a:chExt cx="1460880" cy="2208960"/>
          </a:xfrm>
        </p:grpSpPr>
        <p:pic>
          <p:nvPicPr>
            <p:cNvPr id="108" name="" descr=""/>
            <p:cNvPicPr/>
            <p:nvPr/>
          </p:nvPicPr>
          <p:blipFill>
            <a:blip r:embed="rId10"/>
            <a:stretch/>
          </p:blipFill>
          <p:spPr>
            <a:xfrm>
              <a:off x="5715000" y="5257800"/>
              <a:ext cx="128412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"/>
            <p:cNvSpPr/>
            <p:nvPr/>
          </p:nvSpPr>
          <p:spPr>
            <a:xfrm rot="14910000">
              <a:off x="5581080" y="4552920"/>
              <a:ext cx="648000" cy="533520"/>
            </a:xfrm>
            <a:prstGeom prst="rightArrow">
              <a:avLst>
                <a:gd name="adj1" fmla="val 50000"/>
                <a:gd name="adj2" fmla="val 30364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6211800" y="3733920"/>
            <a:ext cx="2314800" cy="1371600"/>
            <a:chOff x="6211800" y="3733920"/>
            <a:chExt cx="2314800" cy="1371600"/>
          </a:xfrm>
        </p:grpSpPr>
        <p:pic>
          <p:nvPicPr>
            <p:cNvPr id="111" name="" descr=""/>
            <p:cNvPicPr/>
            <p:nvPr/>
          </p:nvPicPr>
          <p:blipFill>
            <a:blip r:embed="rId11"/>
            <a:stretch/>
          </p:blipFill>
          <p:spPr>
            <a:xfrm>
              <a:off x="7467480" y="3733920"/>
              <a:ext cx="105912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 rot="11369400">
              <a:off x="6248160" y="4038120"/>
              <a:ext cx="1066680" cy="533520"/>
            </a:xfrm>
            <a:prstGeom prst="rightArrow">
              <a:avLst>
                <a:gd name="adj1" fmla="val 50000"/>
                <a:gd name="adj2" fmla="val 49983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909360" y="228600"/>
            <a:ext cx="7404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s différents acteurs qui influencent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 vie de l ’entrepri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3581280" y="3429000"/>
            <a:ext cx="1447920" cy="1228680"/>
          </a:xfrm>
          <a:prstGeom prst="rect">
            <a:avLst/>
          </a:prstGeom>
          <a:ln w="0">
            <a:noFill/>
          </a:ln>
        </p:spPr>
      </p:pic>
      <p:grpSp>
        <p:nvGrpSpPr>
          <p:cNvPr id="115" name=""/>
          <p:cNvGrpSpPr/>
          <p:nvPr/>
        </p:nvGrpSpPr>
        <p:grpSpPr>
          <a:xfrm>
            <a:off x="838800" y="4724280"/>
            <a:ext cx="2742480" cy="1099800"/>
            <a:chOff x="838800" y="4724280"/>
            <a:chExt cx="2742480" cy="1099800"/>
          </a:xfrm>
        </p:grpSpPr>
        <p:sp>
          <p:nvSpPr>
            <p:cNvPr id="116" name=""/>
            <p:cNvSpPr/>
            <p:nvPr/>
          </p:nvSpPr>
          <p:spPr>
            <a:xfrm>
              <a:off x="838800" y="4876920"/>
              <a:ext cx="20034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Etat et</a:t>
              </a:r>
              <a:br>
                <a:rPr sz="2800"/>
              </a:b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collectivité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flipV="1">
              <a:off x="2819520" y="4724280"/>
              <a:ext cx="761760" cy="53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1678680" y="4876560"/>
            <a:ext cx="2207520" cy="1587600"/>
            <a:chOff x="1678680" y="4876560"/>
            <a:chExt cx="2207520" cy="1587600"/>
          </a:xfrm>
        </p:grpSpPr>
        <p:sp>
          <p:nvSpPr>
            <p:cNvPr id="119" name=""/>
            <p:cNvSpPr/>
            <p:nvPr/>
          </p:nvSpPr>
          <p:spPr>
            <a:xfrm>
              <a:off x="1678680" y="5943600"/>
              <a:ext cx="2120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Concurren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>
              <a:off x="3429000" y="4876560"/>
              <a:ext cx="457200" cy="1066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4041000" y="4876560"/>
            <a:ext cx="1328400" cy="1739880"/>
            <a:chOff x="4041000" y="4876560"/>
            <a:chExt cx="1328400" cy="1739880"/>
          </a:xfrm>
        </p:grpSpPr>
        <p:sp>
          <p:nvSpPr>
            <p:cNvPr id="122" name=""/>
            <p:cNvSpPr/>
            <p:nvPr/>
          </p:nvSpPr>
          <p:spPr>
            <a:xfrm>
              <a:off x="4041000" y="6095880"/>
              <a:ext cx="1328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édia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flipH="1" flipV="1">
              <a:off x="4419360" y="4876560"/>
              <a:ext cx="228600" cy="1143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4952880" y="4648320"/>
            <a:ext cx="3283920" cy="1328040"/>
            <a:chOff x="4952880" y="4648320"/>
            <a:chExt cx="3283920" cy="1328040"/>
          </a:xfrm>
        </p:grpSpPr>
        <p:sp>
          <p:nvSpPr>
            <p:cNvPr id="125" name=""/>
            <p:cNvSpPr/>
            <p:nvPr/>
          </p:nvSpPr>
          <p:spPr>
            <a:xfrm>
              <a:off x="5640480" y="5029200"/>
              <a:ext cx="25963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Autres groupes</a:t>
              </a:r>
              <a:br>
                <a:rPr sz="2800"/>
              </a:b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d ’intérê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 flipH="1" flipV="1">
              <a:off x="4952880" y="4648320"/>
              <a:ext cx="60984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5333760" y="3886200"/>
            <a:ext cx="3481200" cy="520560"/>
            <a:chOff x="5333760" y="3886200"/>
            <a:chExt cx="3481200" cy="520560"/>
          </a:xfrm>
        </p:grpSpPr>
        <p:sp>
          <p:nvSpPr>
            <p:cNvPr id="128" name=""/>
            <p:cNvSpPr/>
            <p:nvPr/>
          </p:nvSpPr>
          <p:spPr>
            <a:xfrm>
              <a:off x="6023520" y="3886200"/>
              <a:ext cx="279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Consommateu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 flipH="1">
              <a:off x="5333760" y="4114800"/>
              <a:ext cx="685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5257440" y="2971800"/>
            <a:ext cx="3243960" cy="762120"/>
            <a:chOff x="5257440" y="2971800"/>
            <a:chExt cx="3243960" cy="762120"/>
          </a:xfrm>
        </p:grpSpPr>
        <p:sp>
          <p:nvSpPr>
            <p:cNvPr id="131" name=""/>
            <p:cNvSpPr/>
            <p:nvPr/>
          </p:nvSpPr>
          <p:spPr>
            <a:xfrm>
              <a:off x="5946120" y="2971800"/>
              <a:ext cx="2555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Consumériste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H="1">
              <a:off x="5257440" y="3352680"/>
              <a:ext cx="609480" cy="381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5029200" y="2362320"/>
            <a:ext cx="2460600" cy="914400"/>
            <a:chOff x="5029200" y="2362320"/>
            <a:chExt cx="2460600" cy="914400"/>
          </a:xfrm>
        </p:grpSpPr>
        <p:sp>
          <p:nvSpPr>
            <p:cNvPr id="134" name=""/>
            <p:cNvSpPr/>
            <p:nvPr/>
          </p:nvSpPr>
          <p:spPr>
            <a:xfrm>
              <a:off x="5487840" y="2362320"/>
              <a:ext cx="2001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Ecologiste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5029200" y="2819520"/>
              <a:ext cx="45720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3431160" y="1828800"/>
            <a:ext cx="2140560" cy="1295280"/>
            <a:chOff x="3431160" y="1828800"/>
            <a:chExt cx="2140560" cy="1295280"/>
          </a:xfrm>
        </p:grpSpPr>
        <p:sp>
          <p:nvSpPr>
            <p:cNvPr id="137" name=""/>
            <p:cNvSpPr/>
            <p:nvPr/>
          </p:nvSpPr>
          <p:spPr>
            <a:xfrm>
              <a:off x="3431160" y="1828800"/>
              <a:ext cx="2140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Actionnaire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419720" y="2362320"/>
              <a:ext cx="0" cy="761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1525320" y="2362320"/>
            <a:ext cx="2055960" cy="990360"/>
            <a:chOff x="1525320" y="2362320"/>
            <a:chExt cx="2055960" cy="990360"/>
          </a:xfrm>
        </p:grpSpPr>
        <p:sp>
          <p:nvSpPr>
            <p:cNvPr id="140" name=""/>
            <p:cNvSpPr/>
            <p:nvPr/>
          </p:nvSpPr>
          <p:spPr>
            <a:xfrm>
              <a:off x="1525320" y="2362320"/>
              <a:ext cx="1724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Syndica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200400" y="2819520"/>
              <a:ext cx="380880" cy="533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916920" y="3276720"/>
            <a:ext cx="2512080" cy="609480"/>
            <a:chOff x="916920" y="3276720"/>
            <a:chExt cx="2512080" cy="609480"/>
          </a:xfrm>
        </p:grpSpPr>
        <p:sp>
          <p:nvSpPr>
            <p:cNvPr id="143" name=""/>
            <p:cNvSpPr/>
            <p:nvPr/>
          </p:nvSpPr>
          <p:spPr>
            <a:xfrm>
              <a:off x="916920" y="3276720"/>
              <a:ext cx="1742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Employé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743200" y="3733920"/>
              <a:ext cx="68580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536040" y="4114800"/>
            <a:ext cx="2816640" cy="520560"/>
            <a:chOff x="536040" y="4114800"/>
            <a:chExt cx="2816640" cy="520560"/>
          </a:xfrm>
        </p:grpSpPr>
        <p:sp>
          <p:nvSpPr>
            <p:cNvPr id="146" name=""/>
            <p:cNvSpPr/>
            <p:nvPr/>
          </p:nvSpPr>
          <p:spPr>
            <a:xfrm>
              <a:off x="536040" y="4114800"/>
              <a:ext cx="2239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Fournisseu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V="1">
              <a:off x="2895480" y="4343400"/>
              <a:ext cx="457200" cy="76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1212480" y="533520"/>
            <a:ext cx="66589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s nouveaux défis de l’entrepri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946800" y="2163600"/>
            <a:ext cx="72291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Mondialisation de l’économie et entrepri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281680" y="3002040"/>
            <a:ext cx="45774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2. Le défi des délocalis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044720" y="1335240"/>
            <a:ext cx="5813280" cy="58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887560" y="6545160"/>
            <a:ext cx="419040" cy="1461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887560" y="6203880"/>
            <a:ext cx="419040" cy="14760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887560" y="5864400"/>
            <a:ext cx="534960" cy="14580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887560" y="5522760"/>
            <a:ext cx="766800" cy="1461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865600" y="5183280"/>
            <a:ext cx="1139760" cy="1443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865600" y="4842000"/>
            <a:ext cx="1604880" cy="14580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865600" y="4502160"/>
            <a:ext cx="1836720" cy="1443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865600" y="4160880"/>
            <a:ext cx="1930320" cy="1461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865600" y="3821040"/>
            <a:ext cx="2116080" cy="1443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865600" y="3481560"/>
            <a:ext cx="2209680" cy="1443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865600" y="3139920"/>
            <a:ext cx="3186000" cy="1461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65600" y="2800440"/>
            <a:ext cx="3720960" cy="1443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865600" y="2459160"/>
            <a:ext cx="3813120" cy="14580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65600" y="2117880"/>
            <a:ext cx="4092480" cy="14580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65600" y="1776240"/>
            <a:ext cx="5046480" cy="147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865600" y="1436760"/>
            <a:ext cx="5440320" cy="14580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344400" y="6402240"/>
            <a:ext cx="4960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,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344400" y="6062760"/>
            <a:ext cx="4960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,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420720" y="5721480"/>
            <a:ext cx="4960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,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725640" y="5380200"/>
            <a:ext cx="4960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,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039920" y="5040360"/>
            <a:ext cx="4960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,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487400" y="4700520"/>
            <a:ext cx="4960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,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716000" y="4359240"/>
            <a:ext cx="4960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7,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868640" y="4017960"/>
            <a:ext cx="4960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8,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020920" y="3678120"/>
            <a:ext cx="4960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9,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097240" y="3338640"/>
            <a:ext cx="4960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9,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48360" y="2997360"/>
            <a:ext cx="6940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3,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621480" y="2657520"/>
            <a:ext cx="3970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689880" y="2317680"/>
            <a:ext cx="6940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6,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994440" y="1976400"/>
            <a:ext cx="6940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7,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916760" y="1635120"/>
            <a:ext cx="6940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1,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8298000" y="1295280"/>
            <a:ext cx="6940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3,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10560" y="6400800"/>
            <a:ext cx="15231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ucar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11640" y="6019920"/>
            <a:ext cx="15004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ngko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74000" y="5668920"/>
            <a:ext cx="12063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x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8400" y="5334120"/>
            <a:ext cx="15980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hangha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16360" y="4994280"/>
            <a:ext cx="24469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ohannesbur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35320" y="4653000"/>
            <a:ext cx="17550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ngapou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86600" y="4313160"/>
            <a:ext cx="966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éou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63920" y="3971880"/>
            <a:ext cx="1027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Taipe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23240" y="3632040"/>
            <a:ext cx="1164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dr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67880" y="3290760"/>
            <a:ext cx="9867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o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818640" y="2951280"/>
            <a:ext cx="8708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85880" y="2610000"/>
            <a:ext cx="10080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8240" y="2270160"/>
            <a:ext cx="10080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iam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65000" y="1930320"/>
            <a:ext cx="10461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ky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61240" y="1589040"/>
            <a:ext cx="1619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Y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66000" y="1247760"/>
            <a:ext cx="12855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enè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154160" y="76320"/>
            <a:ext cx="66258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 gouffre salarial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alaire brut horaire en dollars en 200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1957680" y="533520"/>
            <a:ext cx="51685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Le défi des délocalis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-156960" y="2438280"/>
            <a:ext cx="9254520" cy="30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380880" algn="ctr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000000"/>
                </a:solidFill>
                <a:latin typeface="Arial"/>
              </a:rPr>
              <a:t>La délocalisaiton est le transfert de capacités de p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380880" algn="ctr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000000"/>
                </a:solidFill>
                <a:latin typeface="Arial"/>
              </a:rPr>
              <a:t>d’un site national vers un site étran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380880" algn="ctr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000000"/>
                </a:solidFill>
                <a:latin typeface="Arial"/>
              </a:rPr>
              <a:t>afin d’importer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380880" algn="ctr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000000"/>
                </a:solidFill>
                <a:latin typeface="Arial"/>
              </a:rPr>
              <a:t>pour satisfaire la consommation national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380880" algn="ctr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000000"/>
                </a:solidFill>
                <a:latin typeface="Arial"/>
              </a:rPr>
              <a:t>des biens et des ser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380880" algn="ctr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000000"/>
                </a:solidFill>
                <a:latin typeface="Arial"/>
              </a:rPr>
              <a:t>jusqu’alors produits local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 rot="60000">
            <a:off x="0" y="0"/>
            <a:ext cx="9144000" cy="68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744120" y="168120"/>
            <a:ext cx="76302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s plus du commerce extérieur des Quinze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en milliards d ’eur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-9000" y="1076400"/>
            <a:ext cx="9153000" cy="5449680"/>
            <a:chOff x="-9000" y="1076400"/>
            <a:chExt cx="9153000" cy="5449680"/>
          </a:xfrm>
        </p:grpSpPr>
        <p:sp>
          <p:nvSpPr>
            <p:cNvPr id="206" name=""/>
            <p:cNvSpPr/>
            <p:nvPr/>
          </p:nvSpPr>
          <p:spPr>
            <a:xfrm>
              <a:off x="2462040" y="1076400"/>
              <a:ext cx="6681960" cy="544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462040" y="6135840"/>
              <a:ext cx="489240" cy="222120"/>
            </a:xfrm>
            <a:prstGeom prst="rect">
              <a:avLst/>
            </a:prstGeom>
            <a:solidFill>
              <a:srgbClr val="99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462040" y="5357880"/>
              <a:ext cx="476280" cy="222120"/>
            </a:xfrm>
            <a:prstGeom prst="rect">
              <a:avLst/>
            </a:prstGeom>
            <a:solidFill>
              <a:srgbClr val="99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462040" y="4579920"/>
              <a:ext cx="36720" cy="222120"/>
            </a:xfrm>
            <a:prstGeom prst="rect">
              <a:avLst/>
            </a:prstGeom>
            <a:solidFill>
              <a:srgbClr val="99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462040" y="3800520"/>
              <a:ext cx="266760" cy="223920"/>
            </a:xfrm>
            <a:prstGeom prst="rect">
              <a:avLst/>
            </a:prstGeom>
            <a:solidFill>
              <a:srgbClr val="99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462040" y="3022560"/>
              <a:ext cx="452520" cy="222120"/>
            </a:xfrm>
            <a:prstGeom prst="rect">
              <a:avLst/>
            </a:prstGeom>
            <a:solidFill>
              <a:srgbClr val="99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462040" y="2243160"/>
              <a:ext cx="1122480" cy="223920"/>
            </a:xfrm>
            <a:prstGeom prst="rect">
              <a:avLst/>
            </a:prstGeom>
            <a:solidFill>
              <a:srgbClr val="99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462040" y="1467000"/>
              <a:ext cx="2508480" cy="222120"/>
            </a:xfrm>
            <a:prstGeom prst="rect">
              <a:avLst/>
            </a:prstGeom>
            <a:solidFill>
              <a:srgbClr val="99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462040" y="5913360"/>
              <a:ext cx="535320" cy="222480"/>
            </a:xfrm>
            <a:prstGeom prst="rect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462040" y="5135400"/>
              <a:ext cx="638280" cy="222480"/>
            </a:xfrm>
            <a:prstGeom prst="rect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462040" y="4357800"/>
              <a:ext cx="743040" cy="222120"/>
            </a:xfrm>
            <a:prstGeom prst="rect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462040" y="3578400"/>
              <a:ext cx="1872000" cy="222120"/>
            </a:xfrm>
            <a:prstGeom prst="rect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462040" y="2800440"/>
              <a:ext cx="2116440" cy="222120"/>
            </a:xfrm>
            <a:prstGeom prst="rect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462040" y="2022480"/>
              <a:ext cx="3948120" cy="220680"/>
            </a:xfrm>
            <a:prstGeom prst="rect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462040" y="1244520"/>
              <a:ext cx="5924880" cy="222480"/>
            </a:xfrm>
            <a:prstGeom prst="rect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462040" y="1076400"/>
              <a:ext cx="1800" cy="5448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424240" y="6524640"/>
              <a:ext cx="378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424240" y="5745240"/>
              <a:ext cx="378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424240" y="4968720"/>
              <a:ext cx="378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424240" y="4189320"/>
              <a:ext cx="378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424240" y="3411360"/>
              <a:ext cx="378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424240" y="2631960"/>
              <a:ext cx="378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424240" y="1855800"/>
              <a:ext cx="378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424240" y="1076400"/>
              <a:ext cx="378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993760" y="6081840"/>
              <a:ext cx="4244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6,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981160" y="5299200"/>
              <a:ext cx="4244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6,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541240" y="4535640"/>
              <a:ext cx="4244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0,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771640" y="3774960"/>
              <a:ext cx="4244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3,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957400" y="2968560"/>
              <a:ext cx="4244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6,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627360" y="2187720"/>
              <a:ext cx="5936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5,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013360" y="1411200"/>
              <a:ext cx="5936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33,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039840" y="5837400"/>
              <a:ext cx="4244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7,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143160" y="5075280"/>
              <a:ext cx="4244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8,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248280" y="4313160"/>
              <a:ext cx="3391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376880" y="3551400"/>
              <a:ext cx="5936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25,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621320" y="2746440"/>
              <a:ext cx="5936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28,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453360" y="1967040"/>
              <a:ext cx="5936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53,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427960" y="1189080"/>
              <a:ext cx="5936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79,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06160" y="6066000"/>
              <a:ext cx="16282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Fer et aci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25320" y="5151600"/>
              <a:ext cx="135540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rticles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inérau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2480" y="4237200"/>
              <a:ext cx="110088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apiers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arton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-9000" y="3430440"/>
              <a:ext cx="252288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roduits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harmaceutiqu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50080" y="2637000"/>
              <a:ext cx="150804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roduits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himiqu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35040" y="2027160"/>
              <a:ext cx="14227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Véhicul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99880" y="1112760"/>
              <a:ext cx="213876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Biens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'équipemen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719840" y="3932280"/>
              <a:ext cx="1233720" cy="8380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872480" y="4084560"/>
              <a:ext cx="199800" cy="149400"/>
            </a:xfrm>
            <a:prstGeom prst="rect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178120" y="3932280"/>
              <a:ext cx="6775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200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872480" y="4468680"/>
              <a:ext cx="199800" cy="149400"/>
            </a:xfrm>
            <a:prstGeom prst="rect">
              <a:avLst/>
            </a:prstGeom>
            <a:solidFill>
              <a:srgbClr val="99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8184240" y="4313160"/>
              <a:ext cx="6775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99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585720" y="198360"/>
            <a:ext cx="794556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s moins du commerce extérieur des Quinze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en milliards d ’eur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0" y="1106640"/>
            <a:ext cx="9143640" cy="5449680"/>
            <a:chOff x="0" y="1106640"/>
            <a:chExt cx="9143640" cy="5449680"/>
          </a:xfrm>
        </p:grpSpPr>
        <p:sp>
          <p:nvSpPr>
            <p:cNvPr id="258" name=""/>
            <p:cNvSpPr/>
            <p:nvPr/>
          </p:nvSpPr>
          <p:spPr>
            <a:xfrm>
              <a:off x="0" y="1106640"/>
              <a:ext cx="8421840" cy="544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446960" y="6165720"/>
              <a:ext cx="38160" cy="2224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485120" y="5388120"/>
              <a:ext cx="355680" cy="22212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792840" y="4610160"/>
              <a:ext cx="692280" cy="22212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969160" y="3830760"/>
              <a:ext cx="1515960" cy="22356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156360" y="3052800"/>
              <a:ext cx="1328760" cy="22212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809960" y="2273400"/>
              <a:ext cx="2675160" cy="22356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276880" y="1496880"/>
              <a:ext cx="2208240" cy="2224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7261200" y="5943600"/>
              <a:ext cx="223920" cy="22212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7110360" y="5165640"/>
              <a:ext cx="374760" cy="22248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7485120" y="4387680"/>
              <a:ext cx="57240" cy="22248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783400" y="3608280"/>
              <a:ext cx="1701720" cy="22248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762520" y="2830680"/>
              <a:ext cx="1722600" cy="22212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254240" y="2052720"/>
              <a:ext cx="6230880" cy="22068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73200" y="1274760"/>
              <a:ext cx="6811920" cy="22212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7485120" y="1106640"/>
              <a:ext cx="1440" cy="5448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446960" y="6554880"/>
              <a:ext cx="38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446960" y="5775480"/>
              <a:ext cx="38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446960" y="4998960"/>
              <a:ext cx="381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446960" y="4219560"/>
              <a:ext cx="38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7446960" y="3441600"/>
              <a:ext cx="381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7446960" y="2662200"/>
              <a:ext cx="381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446960" y="1886040"/>
              <a:ext cx="38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446960" y="1106640"/>
              <a:ext cx="38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843240" y="6111720"/>
              <a:ext cx="5266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-0,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7805520" y="5335560"/>
              <a:ext cx="4244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,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189120" y="4557600"/>
              <a:ext cx="5266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-3,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365080" y="3778200"/>
              <a:ext cx="5266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-8,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552640" y="3000240"/>
              <a:ext cx="5266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-7,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135320" y="2219400"/>
              <a:ext cx="6955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-14,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603680" y="1442880"/>
              <a:ext cx="6955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-11,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657480" y="5889600"/>
              <a:ext cx="5266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-1,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611760" y="5111640"/>
              <a:ext cx="2721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-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576920" y="4335480"/>
              <a:ext cx="4244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0,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179680" y="3554280"/>
              <a:ext cx="5266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-9,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158800" y="2778120"/>
              <a:ext cx="5266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-9,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81040" y="1998720"/>
              <a:ext cx="6955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-33,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0" y="1220760"/>
              <a:ext cx="6955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-36,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810240" y="6019920"/>
              <a:ext cx="26935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rticles de voyag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181120" y="5181480"/>
              <a:ext cx="12200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eubl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199040" y="4495680"/>
              <a:ext cx="17427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haussur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579840" y="3733920"/>
              <a:ext cx="1355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V, vidé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1546200" y="2895480"/>
              <a:ext cx="34070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rticles manufacturier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365960" y="2073240"/>
              <a:ext cx="17776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Bureautiqu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7601760" y="1295280"/>
              <a:ext cx="15415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Vêtemen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90480" y="3975120"/>
              <a:ext cx="986040" cy="9018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33320" y="4114800"/>
              <a:ext cx="160560" cy="18576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991440" y="4038480"/>
              <a:ext cx="6775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200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62120" y="4572000"/>
              <a:ext cx="160200" cy="18576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991440" y="4495680"/>
              <a:ext cx="6775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99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18:58:31Z</dcterms:created>
  <dc:creator>The Computer</dc:creator>
  <dc:description/>
  <dc:language>en-US</dc:language>
  <cp:lastModifiedBy>LE VOURCH</cp:lastModifiedBy>
  <dcterms:modified xsi:type="dcterms:W3CDTF">2004-10-18T06:36:18Z</dcterms:modified>
  <cp:revision>42</cp:revision>
  <dc:subject/>
  <dc:title>Aucun titre de diapositive</dc:title>
</cp:coreProperties>
</file>