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41A-7F34-4623-8078-C0AD94D8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AF0-7898-4839-A2BB-7DE61A42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C90-4801-4796-B6E5-8E32110A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359-6E66-45CB-ABCA-9DEAFE48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1682-2AF6-4ABA-A324-7D3A55AD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CA3B-FACA-4DAC-8717-A85A9BAA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A4C-8E48-431C-B9CA-AF07579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463-36D1-47E5-A512-E82A664E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016-187E-4FE2-9D64-C27D1AD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1EC6-C413-4D71-A074-8198BBA6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1255-302C-4BEF-88EA-D76FA35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0CF-A1AB-4162-88C8-4BC6E2D9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F10C-C52E-44D7-BF58-EFBDA89E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EFD6-DE39-45CC-8A18-50A1246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605-8F5D-49C6-8A02-84D16CF6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F3E-7774-4E43-9189-2AE0CEE9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CCF7-F88E-4B26-B200-1AE9B28D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51E-54FA-41D4-BB2B-6DC775B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4FA-CFE0-438E-9C57-0144060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91D-26AA-47D2-9F2B-0DDF22C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647-FA62-4FB4-941A-0D5884A5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B6D-9822-4A8D-AC54-DCAA240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9D5-AC3E-401A-964A-A7B071B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CC5-AEB6-4109-9141-CA46A99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BF73-4532-493F-9EBB-90D473A6E3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6C8D-3097-400D-A567-064E510D57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01520" y="2778120"/>
            <a:ext cx="5452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fonction financiè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l’entre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3880" y="47304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III - Chapitre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55960" y="41112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de la trésor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219320" y="205704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943600"/>
            <a:ext cx="670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279360" y="24598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7760" y="60339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1480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048120"/>
            <a:ext cx="6400800" cy="2158920"/>
          </a:xfrm>
          <a:custGeom>
            <a:avLst/>
            <a:gdLst/>
            <a:ahLst/>
            <a:rect l="l" t="t" r="r" b="b"/>
            <a:pathLst>
              <a:path w="4032" h="1360">
                <a:moveTo>
                  <a:pt x="0" y="816"/>
                </a:moveTo>
                <a:cubicBezTo>
                  <a:pt x="88" y="840"/>
                  <a:pt x="176" y="864"/>
                  <a:pt x="288" y="768"/>
                </a:cubicBezTo>
                <a:cubicBezTo>
                  <a:pt x="400" y="672"/>
                  <a:pt x="536" y="344"/>
                  <a:pt x="672" y="240"/>
                </a:cubicBezTo>
                <a:cubicBezTo>
                  <a:pt x="808" y="136"/>
                  <a:pt x="936" y="0"/>
                  <a:pt x="1104" y="144"/>
                </a:cubicBezTo>
                <a:cubicBezTo>
                  <a:pt x="1272" y="288"/>
                  <a:pt x="1480" y="904"/>
                  <a:pt x="1680" y="1104"/>
                </a:cubicBezTo>
                <a:cubicBezTo>
                  <a:pt x="1880" y="1304"/>
                  <a:pt x="2120" y="1360"/>
                  <a:pt x="2304" y="1344"/>
                </a:cubicBezTo>
                <a:cubicBezTo>
                  <a:pt x="2488" y="1328"/>
                  <a:pt x="2664" y="1160"/>
                  <a:pt x="2784" y="1008"/>
                </a:cubicBezTo>
                <a:cubicBezTo>
                  <a:pt x="2904" y="856"/>
                  <a:pt x="2944" y="576"/>
                  <a:pt x="3024" y="432"/>
                </a:cubicBezTo>
                <a:cubicBezTo>
                  <a:pt x="3104" y="288"/>
                  <a:pt x="3176" y="200"/>
                  <a:pt x="3264" y="144"/>
                </a:cubicBezTo>
                <a:cubicBezTo>
                  <a:pt x="3352" y="88"/>
                  <a:pt x="3472" y="80"/>
                  <a:pt x="3552" y="96"/>
                </a:cubicBezTo>
                <a:cubicBezTo>
                  <a:pt x="3632" y="112"/>
                  <a:pt x="3672" y="120"/>
                  <a:pt x="3744" y="240"/>
                </a:cubicBezTo>
                <a:cubicBezTo>
                  <a:pt x="3816" y="360"/>
                  <a:pt x="3936" y="704"/>
                  <a:pt x="3984" y="816"/>
                </a:cubicBezTo>
                <a:cubicBezTo>
                  <a:pt x="4032" y="928"/>
                  <a:pt x="4032" y="896"/>
                  <a:pt x="4032" y="912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7160" y="373392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57560" y="42670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30000" y="5105520"/>
            <a:ext cx="218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ésorerie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43040" y="2505240"/>
            <a:ext cx="218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ésorerie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457164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895120" y="2819520"/>
            <a:ext cx="38124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7432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2160" y="411120"/>
            <a:ext cx="82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cycle du besoin en fonds de rou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520" y="2505240"/>
            <a:ext cx="102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9680" y="2368440"/>
            <a:ext cx="1179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0560" y="2505240"/>
            <a:ext cx="182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27120" y="2362320"/>
            <a:ext cx="1179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81120" y="2505240"/>
            <a:ext cx="1179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97520" y="4029120"/>
            <a:ext cx="1197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59680" y="48006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cai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1120" y="5486400"/>
            <a:ext cx="1671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ésor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9920" y="51055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écai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1760" y="4027320"/>
            <a:ext cx="2109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ni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2514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514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514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2514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7501200">
            <a:off x="7581600" y="32382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8569800">
            <a:off x="5393880" y="475452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975600">
            <a:off x="2361600" y="4723920"/>
            <a:ext cx="1447560" cy="457200"/>
          </a:xfrm>
          <a:prstGeom prst="rightArrow">
            <a:avLst>
              <a:gd name="adj1" fmla="val 50000"/>
              <a:gd name="adj2" fmla="val 791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3942800">
            <a:off x="571680" y="323856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038480" y="3352680"/>
            <a:ext cx="125748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98800" y="411120"/>
            <a:ext cx="85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olution du besoin en fonds de rou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2120" y="205704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5943600"/>
            <a:ext cx="769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176040" y="24739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11280" y="603396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62120" y="3123720"/>
            <a:ext cx="723888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222640"/>
            <a:ext cx="7086600" cy="2438280"/>
          </a:xfrm>
          <a:custGeom>
            <a:avLst/>
            <a:gdLst/>
            <a:ahLst/>
            <a:rect l="l" t="t" r="r" b="b"/>
            <a:pathLst>
              <a:path w="4464" h="1536">
                <a:moveTo>
                  <a:pt x="0" y="1000"/>
                </a:moveTo>
                <a:cubicBezTo>
                  <a:pt x="40" y="988"/>
                  <a:pt x="80" y="976"/>
                  <a:pt x="144" y="1000"/>
                </a:cubicBezTo>
                <a:cubicBezTo>
                  <a:pt x="208" y="1024"/>
                  <a:pt x="296" y="1072"/>
                  <a:pt x="384" y="1144"/>
                </a:cubicBezTo>
                <a:cubicBezTo>
                  <a:pt x="472" y="1216"/>
                  <a:pt x="584" y="1368"/>
                  <a:pt x="672" y="1432"/>
                </a:cubicBezTo>
                <a:cubicBezTo>
                  <a:pt x="760" y="1496"/>
                  <a:pt x="816" y="1520"/>
                  <a:pt x="912" y="1528"/>
                </a:cubicBezTo>
                <a:cubicBezTo>
                  <a:pt x="1008" y="1536"/>
                  <a:pt x="1144" y="1520"/>
                  <a:pt x="1248" y="1480"/>
                </a:cubicBezTo>
                <a:cubicBezTo>
                  <a:pt x="1352" y="1440"/>
                  <a:pt x="1448" y="1376"/>
                  <a:pt x="1536" y="1288"/>
                </a:cubicBezTo>
                <a:cubicBezTo>
                  <a:pt x="1624" y="1200"/>
                  <a:pt x="1696" y="1064"/>
                  <a:pt x="1776" y="952"/>
                </a:cubicBezTo>
                <a:cubicBezTo>
                  <a:pt x="1856" y="840"/>
                  <a:pt x="1928" y="688"/>
                  <a:pt x="2016" y="616"/>
                </a:cubicBezTo>
                <a:cubicBezTo>
                  <a:pt x="2104" y="544"/>
                  <a:pt x="2208" y="504"/>
                  <a:pt x="2304" y="520"/>
                </a:cubicBezTo>
                <a:cubicBezTo>
                  <a:pt x="2400" y="536"/>
                  <a:pt x="2520" y="656"/>
                  <a:pt x="2592" y="712"/>
                </a:cubicBezTo>
                <a:cubicBezTo>
                  <a:pt x="2664" y="768"/>
                  <a:pt x="2688" y="816"/>
                  <a:pt x="2736" y="856"/>
                </a:cubicBezTo>
                <a:cubicBezTo>
                  <a:pt x="2784" y="896"/>
                  <a:pt x="2832" y="928"/>
                  <a:pt x="2880" y="952"/>
                </a:cubicBezTo>
                <a:cubicBezTo>
                  <a:pt x="2928" y="976"/>
                  <a:pt x="2984" y="1000"/>
                  <a:pt x="3024" y="1000"/>
                </a:cubicBezTo>
                <a:cubicBezTo>
                  <a:pt x="3064" y="1000"/>
                  <a:pt x="3088" y="1008"/>
                  <a:pt x="3120" y="952"/>
                </a:cubicBezTo>
                <a:cubicBezTo>
                  <a:pt x="3152" y="896"/>
                  <a:pt x="3184" y="776"/>
                  <a:pt x="3216" y="664"/>
                </a:cubicBezTo>
                <a:cubicBezTo>
                  <a:pt x="3248" y="552"/>
                  <a:pt x="3280" y="376"/>
                  <a:pt x="3312" y="280"/>
                </a:cubicBezTo>
                <a:cubicBezTo>
                  <a:pt x="3344" y="184"/>
                  <a:pt x="3360" y="128"/>
                  <a:pt x="3408" y="88"/>
                </a:cubicBezTo>
                <a:cubicBezTo>
                  <a:pt x="3456" y="48"/>
                  <a:pt x="3512" y="0"/>
                  <a:pt x="3600" y="40"/>
                </a:cubicBezTo>
                <a:cubicBezTo>
                  <a:pt x="3688" y="80"/>
                  <a:pt x="3832" y="240"/>
                  <a:pt x="3936" y="328"/>
                </a:cubicBezTo>
                <a:cubicBezTo>
                  <a:pt x="4040" y="416"/>
                  <a:pt x="4136" y="528"/>
                  <a:pt x="4224" y="568"/>
                </a:cubicBezTo>
                <a:cubicBezTo>
                  <a:pt x="4312" y="608"/>
                  <a:pt x="4416" y="568"/>
                  <a:pt x="4464" y="5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61560" y="48006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R structu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304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1920" y="260496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R conjonctu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74560" y="38088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Les moyens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0640" y="2438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bjec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080" y="3657600"/>
            <a:ext cx="55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iversité des bes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des modes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01440" y="411120"/>
            <a:ext cx="740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 de moyens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500200"/>
            <a:ext cx="85345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900000" y="2128680"/>
            <a:ext cx="5410440" cy="1143000"/>
            <a:chOff x="900000" y="2128680"/>
            <a:chExt cx="5410440" cy="1143000"/>
          </a:xfrm>
        </p:grpSpPr>
        <p:sp>
          <p:nvSpPr>
            <p:cNvPr id="156" name=""/>
            <p:cNvSpPr/>
            <p:nvPr/>
          </p:nvSpPr>
          <p:spPr>
            <a:xfrm>
              <a:off x="1433880" y="2452680"/>
              <a:ext cx="43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leur de la produ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0000" y="2128680"/>
              <a:ext cx="5410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00000" y="4005360"/>
            <a:ext cx="541044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3240" y="4267080"/>
            <a:ext cx="27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ur ajou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962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20400" y="426708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0520" y="5867280"/>
            <a:ext cx="253080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niss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3429000"/>
            <a:ext cx="7905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320" y="4078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1280" y="1989000"/>
            <a:ext cx="7424640" cy="3311640"/>
            <a:chOff x="611280" y="1989000"/>
            <a:chExt cx="7424640" cy="3311640"/>
          </a:xfrm>
        </p:grpSpPr>
        <p:sp>
          <p:nvSpPr>
            <p:cNvPr id="166" name=""/>
            <p:cNvSpPr/>
            <p:nvPr/>
          </p:nvSpPr>
          <p:spPr>
            <a:xfrm>
              <a:off x="611280" y="1989000"/>
              <a:ext cx="6913440" cy="331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588000" y="2924280"/>
              <a:ext cx="1447920" cy="12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4038480" y="52578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257800"/>
            <a:ext cx="609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083240" y="2637000"/>
            <a:ext cx="1322280" cy="2042280"/>
            <a:chOff x="1083240" y="2637000"/>
            <a:chExt cx="1322280" cy="2042280"/>
          </a:xfrm>
        </p:grpSpPr>
        <p:sp>
          <p:nvSpPr>
            <p:cNvPr id="171" name=""/>
            <p:cNvSpPr/>
            <p:nvPr/>
          </p:nvSpPr>
          <p:spPr>
            <a:xfrm>
              <a:off x="1083240" y="3214800"/>
              <a:ext cx="1322280" cy="1464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mpôts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3648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07400" y="2637000"/>
            <a:ext cx="1854000" cy="2042280"/>
            <a:chOff x="2507400" y="2637000"/>
            <a:chExt cx="1854000" cy="2042280"/>
          </a:xfrm>
        </p:grpSpPr>
        <p:sp>
          <p:nvSpPr>
            <p:cNvPr id="174" name=""/>
            <p:cNvSpPr/>
            <p:nvPr/>
          </p:nvSpPr>
          <p:spPr>
            <a:xfrm>
              <a:off x="2507400" y="3214800"/>
              <a:ext cx="1854000" cy="1464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9248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560840" y="2637000"/>
            <a:ext cx="1007640" cy="2482920"/>
            <a:chOff x="4560840" y="2637000"/>
            <a:chExt cx="1007640" cy="2482920"/>
          </a:xfrm>
        </p:grpSpPr>
        <p:sp>
          <p:nvSpPr>
            <p:cNvPr id="177" name=""/>
            <p:cNvSpPr/>
            <p:nvPr/>
          </p:nvSpPr>
          <p:spPr>
            <a:xfrm rot="16200000">
              <a:off x="4052880" y="3604320"/>
              <a:ext cx="2023200" cy="100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financiè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0520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083280" y="2637000"/>
            <a:ext cx="1007640" cy="2092320"/>
            <a:chOff x="6083280" y="2637000"/>
            <a:chExt cx="1007640" cy="2092320"/>
          </a:xfrm>
        </p:grpSpPr>
        <p:sp>
          <p:nvSpPr>
            <p:cNvPr id="180" name=""/>
            <p:cNvSpPr/>
            <p:nvPr/>
          </p:nvSpPr>
          <p:spPr>
            <a:xfrm rot="16200000">
              <a:off x="5777280" y="3415680"/>
              <a:ext cx="1619280" cy="100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mortis-</a:t>
              </a:r>
              <a:br>
                <a:rPr sz="3000"/>
              </a:b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ement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0072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199280" y="2637000"/>
            <a:ext cx="1854000" cy="1128600"/>
            <a:chOff x="7199280" y="2637000"/>
            <a:chExt cx="1854000" cy="1128600"/>
          </a:xfrm>
        </p:grpSpPr>
        <p:sp>
          <p:nvSpPr>
            <p:cNvPr id="183" name=""/>
            <p:cNvSpPr/>
            <p:nvPr/>
          </p:nvSpPr>
          <p:spPr>
            <a:xfrm>
              <a:off x="7199280" y="3214800"/>
              <a:ext cx="1854000" cy="55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énéfic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652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4320" y="41112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230120" y="4821120"/>
            <a:ext cx="1155960" cy="1704960"/>
            <a:chOff x="1230120" y="4821120"/>
            <a:chExt cx="1155960" cy="1704960"/>
          </a:xfrm>
        </p:grpSpPr>
        <p:sp>
          <p:nvSpPr>
            <p:cNvPr id="187" name=""/>
            <p:cNvSpPr/>
            <p:nvPr/>
          </p:nvSpPr>
          <p:spPr>
            <a:xfrm>
              <a:off x="1230120" y="5975280"/>
              <a:ext cx="1155960" cy="55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36480" y="4821120"/>
              <a:ext cx="505080" cy="936720"/>
            </a:xfrm>
            <a:prstGeom prst="downArrow">
              <a:avLst>
                <a:gd name="adj1" fmla="val 50000"/>
                <a:gd name="adj2" fmla="val 4636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604600" y="5975280"/>
            <a:ext cx="1558440" cy="55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ai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38480" y="482112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359240" y="5257800"/>
            <a:ext cx="1619280" cy="1279440"/>
            <a:chOff x="4359240" y="5257800"/>
            <a:chExt cx="1619280" cy="1279440"/>
          </a:xfrm>
        </p:grpSpPr>
        <p:sp>
          <p:nvSpPr>
            <p:cNvPr id="192" name=""/>
            <p:cNvSpPr/>
            <p:nvPr/>
          </p:nvSpPr>
          <p:spPr>
            <a:xfrm>
              <a:off x="4359240" y="5986440"/>
              <a:ext cx="1619280" cy="550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Prêteur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22920" y="5257800"/>
              <a:ext cx="504720" cy="500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0920" y="1557360"/>
            <a:ext cx="8893080" cy="3743280"/>
            <a:chOff x="250920" y="1557360"/>
            <a:chExt cx="8893080" cy="3743280"/>
          </a:xfrm>
        </p:grpSpPr>
        <p:grpSp>
          <p:nvGrpSpPr>
            <p:cNvPr id="195" name=""/>
            <p:cNvGrpSpPr/>
            <p:nvPr/>
          </p:nvGrpSpPr>
          <p:grpSpPr>
            <a:xfrm>
              <a:off x="1547640" y="1773360"/>
              <a:ext cx="7345440" cy="718920"/>
              <a:chOff x="1547640" y="1773360"/>
              <a:chExt cx="7345440" cy="718920"/>
            </a:xfrm>
          </p:grpSpPr>
          <p:sp>
            <p:nvSpPr>
              <p:cNvPr id="196" name=""/>
              <p:cNvSpPr/>
              <p:nvPr/>
            </p:nvSpPr>
            <p:spPr>
              <a:xfrm>
                <a:off x="1547640" y="1773360"/>
                <a:ext cx="7345440" cy="71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10560" y="1917720"/>
                <a:ext cx="2637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</a:rPr>
                  <a:t>Valeur ajouté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50920" y="1557360"/>
              <a:ext cx="8893080" cy="3743280"/>
              <a:chOff x="250920" y="1557360"/>
              <a:chExt cx="8893080" cy="3743280"/>
            </a:xfrm>
          </p:grpSpPr>
          <p:sp>
            <p:nvSpPr>
              <p:cNvPr id="199" name=""/>
              <p:cNvSpPr/>
              <p:nvPr/>
            </p:nvSpPr>
            <p:spPr>
              <a:xfrm>
                <a:off x="395280" y="1700280"/>
                <a:ext cx="8748720" cy="360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557360"/>
                <a:ext cx="1447560" cy="122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1" name=""/>
          <p:cNvSpPr/>
          <p:nvPr/>
        </p:nvSpPr>
        <p:spPr>
          <a:xfrm>
            <a:off x="6400800" y="4854600"/>
            <a:ext cx="504720" cy="1774800"/>
          </a:xfrm>
          <a:prstGeom prst="downArrow">
            <a:avLst>
              <a:gd name="adj1" fmla="val 50000"/>
              <a:gd name="adj2" fmla="val 8791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3940200"/>
            <a:ext cx="505080" cy="2689200"/>
          </a:xfrm>
          <a:prstGeom prst="downArrow">
            <a:avLst>
              <a:gd name="adj1" fmla="val 50000"/>
              <a:gd name="adj2" fmla="val 133108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1120" y="41112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200400"/>
            <a:ext cx="17762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ô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3789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4797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ser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0920" y="1844640"/>
            <a:ext cx="5976720" cy="4176720"/>
            <a:chOff x="250920" y="1844640"/>
            <a:chExt cx="5976720" cy="4176720"/>
          </a:xfrm>
        </p:grpSpPr>
        <p:sp>
          <p:nvSpPr>
            <p:cNvPr id="208" name=""/>
            <p:cNvSpPr/>
            <p:nvPr/>
          </p:nvSpPr>
          <p:spPr>
            <a:xfrm>
              <a:off x="538200" y="2205000"/>
              <a:ext cx="32418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mortisseme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t provi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38560" y="2205000"/>
              <a:ext cx="17766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énéfi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920" y="1844640"/>
              <a:ext cx="5976720" cy="417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16000" y="4305240"/>
              <a:ext cx="1735200" cy="14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1762200" y="3357720"/>
            <a:ext cx="649080" cy="792000"/>
          </a:xfrm>
          <a:prstGeom prst="downArrow">
            <a:avLst>
              <a:gd name="adj1" fmla="val 50000"/>
              <a:gd name="adj2" fmla="val 305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5013360"/>
            <a:ext cx="863280" cy="576360"/>
          </a:xfrm>
          <a:prstGeom prst="leftArrow">
            <a:avLst>
              <a:gd name="adj1" fmla="val 50000"/>
              <a:gd name="adj2" fmla="val 374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2852640"/>
            <a:ext cx="6494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2997360"/>
            <a:ext cx="22096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tat 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v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0" y="4149720"/>
            <a:ext cx="2354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é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3213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414972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29200" y="411120"/>
            <a:ext cx="80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 de la capacité d ’auto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839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1440" y="411120"/>
            <a:ext cx="740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emples de moyens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500200"/>
            <a:ext cx="85345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83040" y="41112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buts sont doubl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7680" y="2050920"/>
            <a:ext cx="8858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rer les fonds nécessaires à l ’équip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 à l ’exploitation de l ’entreprise en tenant comp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 contraintes de coût et d ’autofin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6240" y="4568760"/>
            <a:ext cx="8170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ôler la bonne utilisation de ses fonds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érifier la rentabilité des opérations financi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32920" y="38088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. La politique financièr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4360" y="2117880"/>
            <a:ext cx="80308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 à assurer l ’équilibre financi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 ressources et des besoins de finan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à court terme et à long term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 tenant compte des investiss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écidés par la direction génér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32920" y="380880"/>
            <a:ext cx="50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. La politique financ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16560" y="2117880"/>
            <a:ext cx="54522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L ’équilibre financier annuel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tableau de finan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68800" y="4098960"/>
            <a:ext cx="6172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L ’équilibre financier pluriannuel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plan de finan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032560" y="380880"/>
            <a:ext cx="561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tableau de financemen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1080" y="1770120"/>
            <a:ext cx="724752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 en évi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nouveaux emplois de l ’exercic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 ’est-à-dire les besoins de finan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és au cours de cette période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moyens de financement mis en œuv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 l ’incidence fin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toutes les opérations réalisé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 la trésorerie de l ’entre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4160" y="38088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éma du tableau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28800" y="1590840"/>
            <a:ext cx="54864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22160" y="3808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. La gestion de la trésor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3040" y="380880"/>
            <a:ext cx="74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onction financière - plan du c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7520" y="2133720"/>
            <a:ext cx="5338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Les besoins de fin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Les moyens de fin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La politique financi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. La gestion de la trésor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64280" y="380880"/>
            <a:ext cx="595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Les besoins de fin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320" y="2478240"/>
            <a:ext cx="894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Analyse du bi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 Besoins de financement du cycle d ’investiss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. Besoins de financement du cycle d ’exploit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37640" y="38088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bilan foncti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138320"/>
            <a:ext cx="845820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28080" y="38088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bilan financ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120760"/>
            <a:ext cx="8153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1360" y="41112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fonds de roulement c ’es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4400" y="2206800"/>
            <a:ext cx="7570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surplus de ressources stables pour fin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partie de l’actif circu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23800" y="4365720"/>
            <a:ext cx="626616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nds de Rou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ux Propres – Actif Immobilis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20320" y="41112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besoin en fonds de roulemen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6000" y="1981080"/>
            <a:ext cx="78861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ésente le besoin de fin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cessité par l’actif circu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n’est pas couvert par les dettes à court te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4400" y="4484520"/>
            <a:ext cx="63910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oin en Fonds de Rou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f circulant – Dettes à court te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8480" y="41112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résoreri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0800" y="2367000"/>
            <a:ext cx="6064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ésente les liquidités dégag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l ’excédent de ressources 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040" y="4379760"/>
            <a:ext cx="895608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résoreri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nds de Roulement – Besoin en Fonds de roul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3:41:34Z</dcterms:created>
  <dc:creator>The Computer</dc:creator>
  <dc:description/>
  <dc:language>en-US</dc:language>
  <cp:lastModifiedBy>LE VOURCH</cp:lastModifiedBy>
  <dcterms:modified xsi:type="dcterms:W3CDTF">2005-02-03T19:11:47Z</dcterms:modified>
  <cp:revision>52</cp:revision>
  <dc:subject/>
  <dc:title>Aucun titre de diapositive</dc:title>
</cp:coreProperties>
</file>