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AD3-668C-4A15-8B85-9E04B9BA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615-A9B9-49A4-87F9-59F9F073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1C1-030F-467C-9595-D9936F31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0C2-7E80-446E-A7EB-ED4E4996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EE0A-74DA-41C7-90B4-EF08DAB5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6472-1005-414F-BA9D-50B7E35C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C57-74C7-48B6-9ECF-AB7295B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7EA2-102D-4AC4-994A-8E8D8AC4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860-C5E8-43EC-82DD-13671785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0576-CB8A-46F3-B252-5A35AFB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DF3-EF35-400A-A4EB-75F82C6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5BB-9E1E-408C-8D95-5791DE9E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511-3F97-485F-88C4-F3BBA59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42BA-94AD-4A6B-A0D2-15A1ED3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7632-29D4-43E5-AAB5-62EE3D50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D796-1C01-40FA-9839-3262DE07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D833-1BA8-4FA1-9C8F-BAA52E54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AE8-0E5F-4634-A6C6-944E7B4F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84B-9117-4D18-8B0C-61EB5A8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6F7-018B-4B1F-8FDC-B18B0AB4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D9E-CE3C-4EEE-BCE6-76EC3C51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E7B-EEAE-49A0-BB9D-72E01E26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664-992E-4B67-8F79-0E35932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40B-ECDE-4252-A594-4DC51DB4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7B2B-D52C-41F0-8891-DC3C2D0C1E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A581-5795-4905-B7FA-5281E02B1D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37560" y="3025800"/>
            <a:ext cx="61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fonction commerci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l ’entrep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3880" y="47304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III - Chapitr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73680" y="41112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phase d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28080" y="3429000"/>
            <a:ext cx="23266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276720"/>
            <a:ext cx="2210040" cy="914400"/>
          </a:xfrm>
          <a:prstGeom prst="rightArrow">
            <a:avLst>
              <a:gd name="adj1" fmla="val 50000"/>
              <a:gd name="adj2" fmla="val 604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38240" y="3429000"/>
            <a:ext cx="128700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0720" y="411120"/>
            <a:ext cx="37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phase de v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8840" y="3173400"/>
            <a:ext cx="18831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124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8120" y="3173400"/>
            <a:ext cx="1368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75960" y="2971800"/>
            <a:ext cx="243792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aiss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3124080"/>
            <a:ext cx="914400" cy="60984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5080" y="4511520"/>
            <a:ext cx="237672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41148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8608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875"/>
                </a:moveTo>
                <a:lnTo>
                  <a:pt x="12775" y="15875"/>
                </a:lnTo>
                <a:lnTo>
                  <a:pt x="12775" y="7200"/>
                </a:lnTo>
                <a:lnTo>
                  <a:pt x="9675" y="7200"/>
                </a:lnTo>
                <a:lnTo>
                  <a:pt x="15638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3771720" y="4228920"/>
            <a:ext cx="1066680" cy="99072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58608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875"/>
                </a:moveTo>
                <a:lnTo>
                  <a:pt x="12775" y="15875"/>
                </a:lnTo>
                <a:lnTo>
                  <a:pt x="12775" y="7200"/>
                </a:lnTo>
                <a:lnTo>
                  <a:pt x="9675" y="7200"/>
                </a:lnTo>
                <a:lnTo>
                  <a:pt x="15638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62320" y="41112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ons com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2286000"/>
            <a:ext cx="808992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s techniques d ’enquêtes et de sond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 des circuits d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éclame remplace la publicité (faire connaî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inciter à acquérir le prod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18520" y="41112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phase mercatique ou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1200" y="2792520"/>
            <a:ext cx="18831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742840" y="2742480"/>
            <a:ext cx="3962520" cy="609480"/>
          </a:xfrm>
          <a:prstGeom prst="rightArrow">
            <a:avLst>
              <a:gd name="adj1" fmla="val 50000"/>
              <a:gd name="adj2" fmla="val 1625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0880" y="2792520"/>
            <a:ext cx="1368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34120" y="4114800"/>
            <a:ext cx="390240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outils commerci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809880"/>
            <a:ext cx="1143000" cy="91440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295280" y="3809880"/>
            <a:ext cx="1067040" cy="914400"/>
          </a:xfrm>
          <a:custGeom>
            <a:avLst/>
            <a:gdLst>
              <a:gd name="textAreaLeft" fmla="*/ 356040 w 1067040"/>
              <a:gd name="textAreaRight" fmla="*/ 91440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90560" y="41112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arketing c ’es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80" y="2589120"/>
            <a:ext cx="916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pratique qui vise à adapter les produi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favoriser la créativité en fonction de l ’é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 besoins du consomm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56040" y="152280"/>
            <a:ext cx="304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glo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27800" y="1214280"/>
            <a:ext cx="350136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d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fs commerci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x straté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6040" y="3673440"/>
            <a:ext cx="5057640" cy="88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d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it, Prix, Place,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65200" y="5105520"/>
            <a:ext cx="2670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65520" y="6172200"/>
            <a:ext cx="1782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1049400" y="2217240"/>
            <a:ext cx="3801600" cy="88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ème d ’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 straté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7128000" y="4453560"/>
            <a:ext cx="2687760" cy="88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6811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1957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456732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56340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3" idx="3"/>
            <a:endCxn id="115" idx="3"/>
          </p:cNvCxnSpPr>
          <p:nvPr/>
        </p:nvCxnSpPr>
        <p:spPr>
          <a:xfrm flipV="1">
            <a:off x="5456160" y="6248160"/>
            <a:ext cx="3015360" cy="189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1"/>
            <a:endCxn id="117" idx="0"/>
          </p:cNvCxnSpPr>
          <p:nvPr/>
        </p:nvCxnSpPr>
        <p:spPr>
          <a:xfrm flipV="1" rot="16200000">
            <a:off x="6631920" y="1706040"/>
            <a:ext cx="7200" cy="3670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3" idx="1"/>
            <a:endCxn id="114" idx="1"/>
          </p:cNvCxnSpPr>
          <p:nvPr/>
        </p:nvCxnSpPr>
        <p:spPr>
          <a:xfrm rot="10800000">
            <a:off x="853200" y="4568040"/>
            <a:ext cx="2804400" cy="18691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3"/>
            <a:endCxn id="109" idx="1"/>
          </p:cNvCxnSpPr>
          <p:nvPr/>
        </p:nvCxnSpPr>
        <p:spPr>
          <a:xfrm flipH="1" flipV="1" rot="5400000">
            <a:off x="1783080" y="-512640"/>
            <a:ext cx="335520" cy="2194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0796400">
            <a:off x="4572000" y="68544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69440" y="411120"/>
            <a:ext cx="63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outils d ’analyse du marc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0880" y="1905120"/>
            <a:ext cx="89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documentation interne et ext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études quantitatives (sondages, panels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études qualitatives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motivation et compor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s des paramètres Product/Price/Place/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prévision de la de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45:11Z</dcterms:created>
  <dc:creator>The Computer</dc:creator>
  <dc:description/>
  <dc:language>en-US</dc:language>
  <cp:lastModifiedBy>The Computer</cp:lastModifiedBy>
  <dcterms:modified xsi:type="dcterms:W3CDTF">2005-01-25T09:42:55Z</dcterms:modified>
  <cp:revision>20</cp:revision>
  <dc:subject/>
  <dc:title>Aucun titre de diapositive</dc:title>
</cp:coreProperties>
</file>