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50D1-87CB-4207-8C16-E69686DB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A611-569F-4B6D-A798-3C04911D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4D96-8FDD-45D3-A159-78E2A5B7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20E2-A01D-4C56-9231-34AF6A5B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EA2B-B07C-4FA4-A05B-257C93E9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9BC9-98AD-4E3F-B098-7D90E791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F42A-EAE4-4764-843B-A1986F72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13C7-B325-4CDD-B9CB-5A0D2BE5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3D91-4D28-4F05-8862-AC1D3EE9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E3B3-D230-42F5-9C2A-BFC36BF6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5A70-6ED0-4383-B440-77C3A6CA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9D03-0FF7-4D74-BDFF-84F0ACC9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E954-BF00-4292-BCDE-B6A41341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C6E6-AD56-4F0C-B03B-B9D38565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3B01-A17A-4B1A-A7B8-86F9D0B8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A719-5F5D-45DE-B55D-BD06DBA54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C979-51D5-41C1-84DA-6B77E953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1DF1-2755-4617-93E9-926EA626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3486-9896-4A5B-A4CD-33262DE3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6636-45B8-4011-A8C1-A69A09A0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F86A-D4F5-43E8-905A-F07BEBD4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F616-F87B-42E4-8A6B-B6C564F9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DAD0-9A44-4565-B46A-6644D396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C723-2D26-430E-BD04-9FE3FAA4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302E-0E91-4D60-A506-34668657BB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5DF1-B8D1-4964-92C6-8E9AC3FF59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90560" y="457200"/>
            <a:ext cx="39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e II - Chapitr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5760" y="2666880"/>
            <a:ext cx="43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 prise de décision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ans l ’entre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45320" y="457200"/>
            <a:ext cx="31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solution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1760" y="1905120"/>
            <a:ext cx="7924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ponses en quête de problè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es « recherchent » une ou des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être mises en œuv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88480" y="4492800"/>
            <a:ext cx="75477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 ’informatique est un bon exemple d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face à de nombreux problè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77480" y="457200"/>
            <a:ext cx="32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7520" y="2286000"/>
            <a:ext cx="6861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 manque de temps, leur prés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e à une opportunité donn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 ’est pas garan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 plus que leur im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41040" y="457200"/>
            <a:ext cx="55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 processus de décisi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89880" y="3373560"/>
            <a:ext cx="65678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 ’est la manière d ’opérer un cho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77720" y="457200"/>
            <a:ext cx="458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 but de ce chapitr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3280" y="2695680"/>
            <a:ext cx="636660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nir une vision claire et pré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u processus décisionnel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t des problèmes qu  ’il pos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ns l ’entre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15000" y="457200"/>
            <a:ext cx="67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tre conceptions de la d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43200" y="2133720"/>
            <a:ext cx="550548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 modèle de l ’acteur u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15360" y="3124080"/>
            <a:ext cx="494028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 modèle organisatio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00720" y="4148280"/>
            <a:ext cx="369828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 modèle poli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5138640"/>
            <a:ext cx="807516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 modèle anarchique ou de « la poubelle 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2600" y="457200"/>
            <a:ext cx="880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actéristiques des modèles fonctions 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2133720"/>
            <a:ext cx="615816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 conception de l ’organ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17680" y="3124080"/>
            <a:ext cx="455616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 ’orientation de l ’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41440" y="4148280"/>
            <a:ext cx="442656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 nature du process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5138640"/>
            <a:ext cx="519012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 conduite du chan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07160" y="457200"/>
            <a:ext cx="828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us de décision de l ’acteur u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2057400"/>
            <a:ext cx="615816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. Formulation du problè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39280" y="2743200"/>
            <a:ext cx="8151480" cy="1145160"/>
            <a:chOff x="539280" y="2743200"/>
            <a:chExt cx="8151480" cy="1145160"/>
          </a:xfrm>
        </p:grpSpPr>
        <p:sp>
          <p:nvSpPr>
            <p:cNvPr id="102" name=""/>
            <p:cNvSpPr/>
            <p:nvPr/>
          </p:nvSpPr>
          <p:spPr>
            <a:xfrm>
              <a:off x="539280" y="3233880"/>
              <a:ext cx="8151480" cy="6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2. Repérage de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toutes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 les actions possibl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91120" y="2743200"/>
              <a:ext cx="83808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697040" y="3886200"/>
            <a:ext cx="5732640" cy="1145160"/>
            <a:chOff x="1697040" y="3886200"/>
            <a:chExt cx="5732640" cy="1145160"/>
          </a:xfrm>
        </p:grpSpPr>
        <p:sp>
          <p:nvSpPr>
            <p:cNvPr id="105" name=""/>
            <p:cNvSpPr/>
            <p:nvPr/>
          </p:nvSpPr>
          <p:spPr>
            <a:xfrm>
              <a:off x="1697040" y="4376880"/>
              <a:ext cx="5732640" cy="6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3. Évaluation de chaque ac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91120" y="3886200"/>
              <a:ext cx="83808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77240" y="5105520"/>
            <a:ext cx="5821200" cy="1144800"/>
            <a:chOff x="1677240" y="5105520"/>
            <a:chExt cx="5821200" cy="1144800"/>
          </a:xfrm>
        </p:grpSpPr>
        <p:sp>
          <p:nvSpPr>
            <p:cNvPr id="108" name=""/>
            <p:cNvSpPr/>
            <p:nvPr/>
          </p:nvSpPr>
          <p:spPr>
            <a:xfrm>
              <a:off x="1677240" y="5595840"/>
              <a:ext cx="5821200" cy="6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4. Choix de la solution optima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91120" y="5105520"/>
              <a:ext cx="838080" cy="533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9680" y="457200"/>
            <a:ext cx="754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santes du modèle anarchiqu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2057400"/>
            <a:ext cx="615816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 opportunités de cho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79720" y="3233880"/>
            <a:ext cx="50846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 problèmes en at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48000" y="4376880"/>
            <a:ext cx="605556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 solutions prêtes à l ’empl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02440" y="5595840"/>
            <a:ext cx="57870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 décideurs ou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28880" y="457200"/>
            <a:ext cx="523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opportunités de cho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" y="2209680"/>
            <a:ext cx="848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occasions par lesquelles une organis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 censée produire une ou des déc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9280" y="4340160"/>
            <a:ext cx="78433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 exemple : signature de contrats, embau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 licenciements, budget, pla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972160" y="457200"/>
            <a:ext cx="30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problè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8320" y="1981080"/>
            <a:ext cx="885996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ut ce qui implique les membres de l ’organis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ns et hors de l ’organis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à un moment donn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21880" y="4495680"/>
            <a:ext cx="76636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 exemple : problèmes de gestion mais aus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cis familiaux ou écologiqu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17:58:42Z</dcterms:created>
  <dc:creator>The Computer</dc:creator>
  <dc:description/>
  <dc:language>en-US</dc:language>
  <cp:lastModifiedBy>The Computer</cp:lastModifiedBy>
  <dcterms:modified xsi:type="dcterms:W3CDTF">2005-01-05T10:39:14Z</dcterms:modified>
  <cp:revision>55</cp:revision>
  <dc:subject/>
  <dc:title>Aucun titre de diapositive</dc:title>
</cp:coreProperties>
</file>