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9E6-BC27-468F-BF86-B167C77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D58-7870-469B-ABEC-9B15C85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AB4-C426-48B2-9530-887AB107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81D-1CB0-4A49-8CD9-192DF136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737B-1939-49C9-8CF3-8F1D4A38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9813-D49B-4ED1-B776-1B1A9BE7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93BA-9946-4823-B6E5-0E370A6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F16D-E681-4615-B21B-67F4CDF6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5891-9E93-450D-9325-557C50C1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D16-4C8F-4D70-BE1B-B3934D61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B042-06E0-4739-8B94-8BA1371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E73-5966-4FC4-A52C-30493CF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E130-85BA-41DD-B7A9-D8A6984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8687-7C80-49F3-AD2D-35F29C4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CFF-E086-4DB8-A04F-1F52C80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C4E7-EF88-48C0-AFF5-47CF8C3E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44A2-760E-4B33-A50F-6F900568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B02-2F12-4BC4-A9F8-6149E1E1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D62-30CC-419A-91D1-88D4E3BA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7C05-0D5D-440E-835B-671A5083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EE3-6D2C-4D83-9EA0-7B0AC87F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DF2-384F-407A-8328-9510189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A19-935E-4377-AADE-D4B0CFDF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FBD-2A07-433D-A3B5-92E8B818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931-DC54-48E8-9F14-A498B61CA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4667-BBA5-44F0-96C9-79E0EE63F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60680" y="45720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 définition de la straté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600" y="2362320"/>
            <a:ext cx="76896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borer la stratégi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 ’est choisir les domaines d ’activité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ns lesquels l ’entreprise entend être présent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louer des ressourc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 façon à ce qu’elle s ’y maintienn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s ’y dévelop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98400" y="45720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5 forces concurrenti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97840" y="3733920"/>
            <a:ext cx="2120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217320"/>
            <a:ext cx="1671480" cy="2061360"/>
            <a:chOff x="1600200" y="3217320"/>
            <a:chExt cx="1671480" cy="2061360"/>
          </a:xfrm>
        </p:grpSpPr>
        <p:sp>
          <p:nvSpPr>
            <p:cNvPr id="171" name=""/>
            <p:cNvSpPr/>
            <p:nvPr/>
          </p:nvSpPr>
          <p:spPr>
            <a:xfrm rot="16200000">
              <a:off x="829800" y="3987720"/>
              <a:ext cx="20613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9920" y="4003560"/>
              <a:ext cx="761760" cy="533520"/>
            </a:xfrm>
            <a:prstGeom prst="rightArrow">
              <a:avLst>
                <a:gd name="adj1" fmla="val 50000"/>
                <a:gd name="adj2" fmla="val 356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9920" y="3597480"/>
            <a:ext cx="1665000" cy="1270080"/>
            <a:chOff x="6019920" y="3597480"/>
            <a:chExt cx="1665000" cy="1270080"/>
          </a:xfrm>
        </p:grpSpPr>
        <p:sp>
          <p:nvSpPr>
            <p:cNvPr id="174" name=""/>
            <p:cNvSpPr/>
            <p:nvPr/>
          </p:nvSpPr>
          <p:spPr>
            <a:xfrm rot="16206600">
              <a:off x="6788520" y="3971880"/>
              <a:ext cx="1269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0800000">
              <a:off x="6019920" y="3962160"/>
              <a:ext cx="761760" cy="533160"/>
            </a:xfrm>
            <a:prstGeom prst="rightArrow">
              <a:avLst>
                <a:gd name="adj1" fmla="val 50000"/>
                <a:gd name="adj2" fmla="val 3571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02040" y="1828800"/>
            <a:ext cx="1706400" cy="1676520"/>
            <a:chOff x="3902040" y="1828800"/>
            <a:chExt cx="1706400" cy="1676520"/>
          </a:xfrm>
        </p:grpSpPr>
        <p:sp>
          <p:nvSpPr>
            <p:cNvPr id="177" name=""/>
            <p:cNvSpPr/>
            <p:nvPr/>
          </p:nvSpPr>
          <p:spPr>
            <a:xfrm>
              <a:off x="3902040" y="1828800"/>
              <a:ext cx="170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enti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4381560" y="29718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25000" y="4876560"/>
            <a:ext cx="1744200" cy="1359000"/>
            <a:chOff x="3825000" y="4876560"/>
            <a:chExt cx="1744200" cy="1359000"/>
          </a:xfrm>
        </p:grpSpPr>
        <p:sp>
          <p:nvSpPr>
            <p:cNvPr id="180" name=""/>
            <p:cNvSpPr/>
            <p:nvPr/>
          </p:nvSpPr>
          <p:spPr>
            <a:xfrm>
              <a:off x="3825000" y="5715000"/>
              <a:ext cx="1744200" cy="520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bstitu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4343400" y="4876200"/>
              <a:ext cx="53316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98400" y="45720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5 forces concurrenti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97840" y="3733920"/>
            <a:ext cx="2120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00200" y="3217320"/>
            <a:ext cx="1671480" cy="2061360"/>
            <a:chOff x="1600200" y="3217320"/>
            <a:chExt cx="1671480" cy="2061360"/>
          </a:xfrm>
        </p:grpSpPr>
        <p:sp>
          <p:nvSpPr>
            <p:cNvPr id="185" name=""/>
            <p:cNvSpPr/>
            <p:nvPr/>
          </p:nvSpPr>
          <p:spPr>
            <a:xfrm rot="16200000">
              <a:off x="829800" y="3987720"/>
              <a:ext cx="2061360" cy="520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9920" y="4003560"/>
              <a:ext cx="761760" cy="533520"/>
            </a:xfrm>
            <a:prstGeom prst="rightArrow">
              <a:avLst>
                <a:gd name="adj1" fmla="val 50000"/>
                <a:gd name="adj2" fmla="val 35695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019920" y="3597480"/>
            <a:ext cx="1665000" cy="1270080"/>
            <a:chOff x="6019920" y="3597480"/>
            <a:chExt cx="1665000" cy="1270080"/>
          </a:xfrm>
        </p:grpSpPr>
        <p:sp>
          <p:nvSpPr>
            <p:cNvPr id="188" name=""/>
            <p:cNvSpPr/>
            <p:nvPr/>
          </p:nvSpPr>
          <p:spPr>
            <a:xfrm rot="16206600">
              <a:off x="6788520" y="3971880"/>
              <a:ext cx="1269000" cy="520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6019920" y="3962160"/>
              <a:ext cx="761760" cy="533160"/>
            </a:xfrm>
            <a:prstGeom prst="rightArrow">
              <a:avLst>
                <a:gd name="adj1" fmla="val 50000"/>
                <a:gd name="adj2" fmla="val 35719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902040" y="1828800"/>
            <a:ext cx="1706400" cy="1676520"/>
            <a:chOff x="3902040" y="1828800"/>
            <a:chExt cx="1706400" cy="1676520"/>
          </a:xfrm>
        </p:grpSpPr>
        <p:sp>
          <p:nvSpPr>
            <p:cNvPr id="191" name=""/>
            <p:cNvSpPr/>
            <p:nvPr/>
          </p:nvSpPr>
          <p:spPr>
            <a:xfrm>
              <a:off x="3902040" y="1828800"/>
              <a:ext cx="170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enti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4381560" y="29718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25000" y="4876560"/>
            <a:ext cx="1744200" cy="1359000"/>
            <a:chOff x="3825000" y="4876560"/>
            <a:chExt cx="1744200" cy="1359000"/>
          </a:xfrm>
        </p:grpSpPr>
        <p:sp>
          <p:nvSpPr>
            <p:cNvPr id="194" name=""/>
            <p:cNvSpPr/>
            <p:nvPr/>
          </p:nvSpPr>
          <p:spPr>
            <a:xfrm>
              <a:off x="3825000" y="571500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bstitu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4343400" y="4876200"/>
              <a:ext cx="53316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96560" y="45720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cycle de vie du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205740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6240" y="20574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8560" y="20574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2640" y="205740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791320"/>
            <a:ext cx="830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143000" y="182844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46680" y="59436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19800">
            <a:off x="-734040" y="30970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ntes et pro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3301920"/>
            <a:ext cx="6858000" cy="2273400"/>
          </a:xfrm>
          <a:custGeom>
            <a:avLst/>
            <a:gdLst/>
            <a:ahLst/>
            <a:rect l="l" t="t" r="r" b="b"/>
            <a:pathLst>
              <a:path w="4320" h="1432">
                <a:moveTo>
                  <a:pt x="0" y="1280"/>
                </a:moveTo>
                <a:cubicBezTo>
                  <a:pt x="96" y="1320"/>
                  <a:pt x="192" y="1360"/>
                  <a:pt x="336" y="1376"/>
                </a:cubicBezTo>
                <a:cubicBezTo>
                  <a:pt x="480" y="1392"/>
                  <a:pt x="688" y="1432"/>
                  <a:pt x="864" y="1376"/>
                </a:cubicBezTo>
                <a:cubicBezTo>
                  <a:pt x="1040" y="1320"/>
                  <a:pt x="1160" y="1224"/>
                  <a:pt x="1392" y="1040"/>
                </a:cubicBezTo>
                <a:cubicBezTo>
                  <a:pt x="1624" y="856"/>
                  <a:pt x="2008" y="432"/>
                  <a:pt x="2256" y="272"/>
                </a:cubicBezTo>
                <a:cubicBezTo>
                  <a:pt x="2504" y="112"/>
                  <a:pt x="2640" y="112"/>
                  <a:pt x="2880" y="80"/>
                </a:cubicBezTo>
                <a:cubicBezTo>
                  <a:pt x="3120" y="48"/>
                  <a:pt x="3456" y="0"/>
                  <a:pt x="3696" y="80"/>
                </a:cubicBezTo>
                <a:cubicBezTo>
                  <a:pt x="3936" y="160"/>
                  <a:pt x="4128" y="360"/>
                  <a:pt x="4320" y="5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699080"/>
            <a:ext cx="7238880" cy="1866960"/>
          </a:xfrm>
          <a:custGeom>
            <a:avLst/>
            <a:gdLst/>
            <a:ahLst/>
            <a:rect l="l" t="t" r="r" b="b"/>
            <a:pathLst>
              <a:path w="4560" h="1176">
                <a:moveTo>
                  <a:pt x="0" y="688"/>
                </a:moveTo>
                <a:cubicBezTo>
                  <a:pt x="12" y="792"/>
                  <a:pt x="24" y="896"/>
                  <a:pt x="192" y="976"/>
                </a:cubicBezTo>
                <a:cubicBezTo>
                  <a:pt x="360" y="1056"/>
                  <a:pt x="736" y="1160"/>
                  <a:pt x="1008" y="1168"/>
                </a:cubicBezTo>
                <a:cubicBezTo>
                  <a:pt x="1280" y="1176"/>
                  <a:pt x="1568" y="1152"/>
                  <a:pt x="1824" y="1024"/>
                </a:cubicBezTo>
                <a:cubicBezTo>
                  <a:pt x="2080" y="896"/>
                  <a:pt x="2344" y="544"/>
                  <a:pt x="2544" y="400"/>
                </a:cubicBezTo>
                <a:cubicBezTo>
                  <a:pt x="2744" y="256"/>
                  <a:pt x="2800" y="224"/>
                  <a:pt x="3024" y="160"/>
                </a:cubicBezTo>
                <a:cubicBezTo>
                  <a:pt x="3248" y="96"/>
                  <a:pt x="3672" y="32"/>
                  <a:pt x="3888" y="16"/>
                </a:cubicBezTo>
                <a:cubicBezTo>
                  <a:pt x="4104" y="0"/>
                  <a:pt x="4208" y="32"/>
                  <a:pt x="4320" y="64"/>
                </a:cubicBezTo>
                <a:cubicBezTo>
                  <a:pt x="4432" y="96"/>
                  <a:pt x="4512" y="176"/>
                  <a:pt x="456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7840" y="449568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4160" y="32767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9680" y="487440"/>
            <a:ext cx="75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érience et position concurrent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219320" y="20570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4038480"/>
            <a:ext cx="624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743200"/>
            <a:ext cx="624816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05120" y="2971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40384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868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52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3612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62840" y="58672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 cumul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-542880" y="252828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ût unit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50160" y="37339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74560" y="5043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372040" y="4874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égie de du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19320" y="17524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9480" y="586728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057400"/>
            <a:ext cx="495288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352680"/>
            <a:ext cx="49528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42670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4680" y="28195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it ex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2560" y="373392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it de sub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1560" y="48769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37800">
            <a:off x="-281880" y="2336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31920" y="48744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égie de do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219320" y="17524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9480" y="586728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2819520"/>
            <a:ext cx="495324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60160" y="496728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37800">
            <a:off x="-281880" y="2336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1981080"/>
            <a:ext cx="495288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12080" y="4191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430360" y="48744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égie d ’ombr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219320" y="17524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9480" y="586728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2819520"/>
            <a:ext cx="495324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60160" y="496728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37800">
            <a:off x="-281880" y="23360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2080" y="4191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752480" y="1981080"/>
            <a:ext cx="5029200" cy="2438640"/>
            <a:chOff x="1752480" y="1981080"/>
            <a:chExt cx="5029200" cy="2438640"/>
          </a:xfrm>
        </p:grpSpPr>
        <p:sp>
          <p:nvSpPr>
            <p:cNvPr id="256" name=""/>
            <p:cNvSpPr/>
            <p:nvPr/>
          </p:nvSpPr>
          <p:spPr>
            <a:xfrm>
              <a:off x="4648320" y="3352680"/>
              <a:ext cx="2133360" cy="1067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2480" y="19810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8480" y="1981080"/>
              <a:ext cx="60984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58520" y="48744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ation des prix et stades de matur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14400" y="175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9480" y="601992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1905120"/>
            <a:ext cx="601992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920" y="51055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37800">
            <a:off x="-507240" y="216576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236232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3809880"/>
            <a:ext cx="129528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480" y="2362320"/>
            <a:ext cx="10670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553080" y="37339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37339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7880" y="312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2320" y="1600200"/>
            <a:ext cx="0" cy="4191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1600200"/>
            <a:ext cx="0" cy="4191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30800" y="3886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52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8920" y="1523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3400" y="3886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124800" y="53352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re différenciée perçue p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06240" y="1371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ensem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6120" y="1371600"/>
            <a:ext cx="186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2640" y="2971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4960" y="48006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3962520"/>
            <a:ext cx="1066680" cy="106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120" y="4343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56272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15000" y="2514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895120" y="4495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32448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324480" y="4495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562720" y="51811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715000" y="51811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3809880"/>
            <a:ext cx="60984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cubicBezTo>
                  <a:pt x="28" y="264"/>
                  <a:pt x="56" y="192"/>
                  <a:pt x="96" y="144"/>
                </a:cubicBezTo>
                <a:cubicBezTo>
                  <a:pt x="136" y="96"/>
                  <a:pt x="192" y="72"/>
                  <a:pt x="240" y="48"/>
                </a:cubicBezTo>
                <a:cubicBezTo>
                  <a:pt x="288" y="24"/>
                  <a:pt x="240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9568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0"/>
                </a:moveTo>
                <a:cubicBezTo>
                  <a:pt x="12" y="48"/>
                  <a:pt x="24" y="96"/>
                  <a:pt x="48" y="144"/>
                </a:cubicBezTo>
                <a:cubicBezTo>
                  <a:pt x="72" y="192"/>
                  <a:pt x="112" y="248"/>
                  <a:pt x="144" y="288"/>
                </a:cubicBezTo>
                <a:cubicBezTo>
                  <a:pt x="176" y="328"/>
                  <a:pt x="200" y="360"/>
                  <a:pt x="240" y="384"/>
                </a:cubicBezTo>
                <a:cubicBezTo>
                  <a:pt x="280" y="408"/>
                  <a:pt x="332" y="420"/>
                  <a:pt x="384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4495680"/>
            <a:ext cx="60948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0" y="432"/>
                </a:moveTo>
                <a:cubicBezTo>
                  <a:pt x="52" y="420"/>
                  <a:pt x="104" y="408"/>
                  <a:pt x="144" y="384"/>
                </a:cubicBezTo>
                <a:cubicBezTo>
                  <a:pt x="184" y="360"/>
                  <a:pt x="208" y="328"/>
                  <a:pt x="240" y="288"/>
                </a:cubicBezTo>
                <a:cubicBezTo>
                  <a:pt x="272" y="248"/>
                  <a:pt x="312" y="192"/>
                  <a:pt x="336" y="144"/>
                </a:cubicBezTo>
                <a:cubicBezTo>
                  <a:pt x="360" y="96"/>
                  <a:pt x="372" y="4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809880"/>
            <a:ext cx="609480" cy="53352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0"/>
                </a:moveTo>
                <a:cubicBezTo>
                  <a:pt x="48" y="12"/>
                  <a:pt x="96" y="24"/>
                  <a:pt x="144" y="48"/>
                </a:cubicBezTo>
                <a:cubicBezTo>
                  <a:pt x="192" y="72"/>
                  <a:pt x="248" y="96"/>
                  <a:pt x="288" y="144"/>
                </a:cubicBezTo>
                <a:cubicBezTo>
                  <a:pt x="328" y="192"/>
                  <a:pt x="356" y="264"/>
                  <a:pt x="38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289512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6477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059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89548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95120" y="25146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2514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0592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61040" y="420516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124800" y="53352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re différenciée perçue p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06240" y="1371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ensem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6120" y="1371600"/>
            <a:ext cx="186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2640" y="2971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4960" y="48006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2514600"/>
            <a:ext cx="26672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 ’amél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251460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449568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4495680"/>
            <a:ext cx="266724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560" y="533520"/>
            <a:ext cx="87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émarche générale de l ’analyse straté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920" y="1905120"/>
            <a:ext cx="81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éfinition des domaines d ’activités straté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44080" y="3429000"/>
            <a:ext cx="6930360" cy="977760"/>
            <a:chOff x="1144080" y="3429000"/>
            <a:chExt cx="6930360" cy="977760"/>
          </a:xfrm>
        </p:grpSpPr>
        <p:sp>
          <p:nvSpPr>
            <p:cNvPr id="88" name=""/>
            <p:cNvSpPr/>
            <p:nvPr/>
          </p:nvSpPr>
          <p:spPr>
            <a:xfrm>
              <a:off x="1144080" y="3886200"/>
              <a:ext cx="69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 Choix d ’une stratégie pour chaque 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3429000"/>
              <a:ext cx="762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680" y="4419720"/>
            <a:ext cx="8219880" cy="977760"/>
            <a:chOff x="463680" y="4419720"/>
            <a:chExt cx="8219880" cy="977760"/>
          </a:xfrm>
        </p:grpSpPr>
        <p:sp>
          <p:nvSpPr>
            <p:cNvPr id="91" name=""/>
            <p:cNvSpPr/>
            <p:nvPr/>
          </p:nvSpPr>
          <p:spPr>
            <a:xfrm>
              <a:off x="463680" y="4876920"/>
              <a:ext cx="821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 Détermination des développements stratégiqu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67080" y="4419720"/>
              <a:ext cx="76212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19520" y="5410080"/>
            <a:ext cx="7131600" cy="977760"/>
            <a:chOff x="1019520" y="5410080"/>
            <a:chExt cx="7131600" cy="977760"/>
          </a:xfrm>
        </p:grpSpPr>
        <p:sp>
          <p:nvSpPr>
            <p:cNvPr id="94" name=""/>
            <p:cNvSpPr/>
            <p:nvPr/>
          </p:nvSpPr>
          <p:spPr>
            <a:xfrm>
              <a:off x="1019520" y="5867280"/>
              <a:ext cx="71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 Management d ’un portefeuille d ’activité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5410080"/>
              <a:ext cx="762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703880" y="2438280"/>
            <a:ext cx="5761440" cy="977760"/>
            <a:chOff x="1703880" y="2438280"/>
            <a:chExt cx="5761440" cy="977760"/>
          </a:xfrm>
        </p:grpSpPr>
        <p:sp>
          <p:nvSpPr>
            <p:cNvPr id="97" name=""/>
            <p:cNvSpPr/>
            <p:nvPr/>
          </p:nvSpPr>
          <p:spPr>
            <a:xfrm>
              <a:off x="1703880" y="2895480"/>
              <a:ext cx="57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 Analyse concurrentielle des D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67080" y="2438280"/>
              <a:ext cx="762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467120" y="2362320"/>
            <a:ext cx="1676880" cy="3886200"/>
            <a:chOff x="7467120" y="2362320"/>
            <a:chExt cx="1676880" cy="3886200"/>
          </a:xfrm>
        </p:grpSpPr>
        <p:sp>
          <p:nvSpPr>
            <p:cNvPr id="100" name=""/>
            <p:cNvSpPr/>
            <p:nvPr/>
          </p:nvSpPr>
          <p:spPr>
            <a:xfrm rot="10800000">
              <a:off x="7467120" y="2362320"/>
              <a:ext cx="762120" cy="9144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8077320" y="3352680"/>
              <a:ext cx="761760" cy="91440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8686800" y="434340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8152920" y="5334120"/>
              <a:ext cx="762120" cy="9144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124800" y="53352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re différenciée perçue p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6240" y="1371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ensem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6120" y="1371600"/>
            <a:ext cx="186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2640" y="2971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4960" y="48006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2514600"/>
            <a:ext cx="259092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éci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449568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449568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71800" y="251460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124800" y="53352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re différenciée perçue p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6240" y="1371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ensem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46120" y="1371600"/>
            <a:ext cx="186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2640" y="2971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4960" y="48006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51460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449568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71800" y="4495680"/>
            <a:ext cx="259092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 ’ép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251460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24800" y="53352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re différenciée perçue p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06240" y="1371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ensem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46120" y="1371600"/>
            <a:ext cx="186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29718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4960" y="480060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251460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15000" y="4495680"/>
            <a:ext cx="259092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449568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2514600"/>
            <a:ext cx="25909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382120" y="45720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 cannes à pèch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4114800"/>
            <a:ext cx="7467840" cy="1905120"/>
          </a:xfrm>
          <a:prstGeom prst="rightArrow">
            <a:avLst>
              <a:gd name="adj1" fmla="val 61000"/>
              <a:gd name="adj2" fmla="val 30252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895480" y="1981080"/>
            <a:ext cx="335304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 actu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1240" y="3124080"/>
            <a:ext cx="17582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ca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09960" y="335268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li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7320" y="335268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ê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30840" y="33526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êch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72428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724280"/>
            <a:ext cx="190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4724280"/>
            <a:ext cx="1447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05720" y="4724280"/>
            <a:ext cx="1218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4038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988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3868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978560" y="48744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pivot de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3200400"/>
            <a:ext cx="7467480" cy="1905120"/>
          </a:xfrm>
          <a:prstGeom prst="rightArrow">
            <a:avLst>
              <a:gd name="adj1" fmla="val 61000"/>
              <a:gd name="adj2" fmla="val 30251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1676520"/>
            <a:ext cx="335304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 actu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2120" y="2514600"/>
            <a:ext cx="17582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ca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95480" y="5867280"/>
            <a:ext cx="335304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velle 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1200" y="274320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li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8200" y="27432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ê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1720" y="27432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êch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2120" y="4844880"/>
            <a:ext cx="17582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ca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8160" y="4844880"/>
            <a:ext cx="177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me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1520" y="502920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écu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7320" y="502920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1519920" y="3889440"/>
            <a:ext cx="372564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de diver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219320" y="1980720"/>
            <a:ext cx="7238880" cy="381240"/>
            <a:chOff x="1219320" y="1980720"/>
            <a:chExt cx="7238880" cy="381240"/>
          </a:xfrm>
        </p:grpSpPr>
        <p:sp>
          <p:nvSpPr>
            <p:cNvPr id="372" name=""/>
            <p:cNvSpPr/>
            <p:nvPr/>
          </p:nvSpPr>
          <p:spPr>
            <a:xfrm flipV="1">
              <a:off x="1219320" y="19807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219320" y="19810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248520" y="19810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8458200" y="19807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5866920"/>
            <a:ext cx="7238880" cy="381600"/>
            <a:chOff x="1219320" y="5866920"/>
            <a:chExt cx="7238880" cy="381600"/>
          </a:xfrm>
        </p:grpSpPr>
        <p:sp>
          <p:nvSpPr>
            <p:cNvPr id="377" name=""/>
            <p:cNvSpPr/>
            <p:nvPr/>
          </p:nvSpPr>
          <p:spPr>
            <a:xfrm flipV="1">
              <a:off x="1219320" y="5866920"/>
              <a:ext cx="1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219320" y="62485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248520" y="62485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458200" y="58669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90720" y="380988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0400" y="38098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3809880"/>
            <a:ext cx="1447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6600" y="380988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3125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54878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45240" y="45720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usion égalitaire est assez r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981080" y="1980720"/>
            <a:ext cx="5257080" cy="4381560"/>
            <a:chOff x="1981080" y="1980720"/>
            <a:chExt cx="5257080" cy="438156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2086920" y="2208240"/>
              <a:ext cx="169956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5486040" y="2208240"/>
              <a:ext cx="169884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3574080" y="4663080"/>
              <a:ext cx="2336400" cy="16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 rot="3801600">
              <a:off x="2815560" y="3495240"/>
              <a:ext cx="1090800" cy="1062360"/>
            </a:xfrm>
            <a:prstGeom prst="rightArrow">
              <a:avLst>
                <a:gd name="adj1" fmla="val 50000"/>
                <a:gd name="adj2" fmla="val 2566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327800">
              <a:off x="5577120" y="3585600"/>
              <a:ext cx="1090800" cy="1062360"/>
            </a:xfrm>
            <a:prstGeom prst="rightArrow">
              <a:avLst>
                <a:gd name="adj1" fmla="val 50000"/>
                <a:gd name="adj2" fmla="val 2566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981080" y="2026440"/>
              <a:ext cx="2017800" cy="1636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326200" y="1980720"/>
              <a:ext cx="1911960" cy="172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flipV="1">
              <a:off x="2511720" y="2026440"/>
              <a:ext cx="1486800" cy="136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698440" y="2117520"/>
              <a:ext cx="1380960" cy="1090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56360" y="457200"/>
            <a:ext cx="76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usion absorption est plus cour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087640" y="2208240"/>
            <a:ext cx="1698480" cy="12351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1700280" cy="12351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3575160" y="4664160"/>
            <a:ext cx="2336760" cy="16984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 rot="3801600">
            <a:off x="2816280" y="3495600"/>
            <a:ext cx="1090440" cy="1062000"/>
          </a:xfrm>
          <a:prstGeom prst="rightArrow">
            <a:avLst>
              <a:gd name="adj1" fmla="val 50000"/>
              <a:gd name="adj2" fmla="val 2566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34520" y="1981080"/>
            <a:ext cx="3204000" cy="1727280"/>
            <a:chOff x="4034520" y="1981080"/>
            <a:chExt cx="3204000" cy="1727280"/>
          </a:xfrm>
        </p:grpSpPr>
        <p:grpSp>
          <p:nvGrpSpPr>
            <p:cNvPr id="404" name=""/>
            <p:cNvGrpSpPr/>
            <p:nvPr/>
          </p:nvGrpSpPr>
          <p:grpSpPr>
            <a:xfrm>
              <a:off x="5327280" y="1981080"/>
              <a:ext cx="1911240" cy="1727280"/>
              <a:chOff x="5327280" y="1981080"/>
              <a:chExt cx="1911240" cy="1727280"/>
            </a:xfrm>
          </p:grpSpPr>
          <p:sp>
            <p:nvSpPr>
              <p:cNvPr id="405" name=""/>
              <p:cNvSpPr/>
              <p:nvPr/>
            </p:nvSpPr>
            <p:spPr>
              <a:xfrm flipH="1" flipV="1">
                <a:off x="5327280" y="1981080"/>
                <a:ext cx="191124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699160" y="2117520"/>
                <a:ext cx="1380960" cy="1090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rot="10826400">
              <a:off x="4038480" y="2286000"/>
              <a:ext cx="1090800" cy="1062000"/>
            </a:xfrm>
            <a:prstGeom prst="rightArrow">
              <a:avLst>
                <a:gd name="adj1" fmla="val 50000"/>
                <a:gd name="adj2" fmla="val 2567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322800" y="45720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011320" y="5103720"/>
            <a:ext cx="1698840" cy="12351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5410080" y="5105520"/>
            <a:ext cx="1700280" cy="1234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336760" cy="169848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3200040" y="1828800"/>
            <a:ext cx="2361960" cy="2057040"/>
            <a:chOff x="3200040" y="1828800"/>
            <a:chExt cx="2361960" cy="2057040"/>
          </a:xfrm>
        </p:grpSpPr>
        <p:sp>
          <p:nvSpPr>
            <p:cNvPr id="413" name=""/>
            <p:cNvSpPr/>
            <p:nvPr/>
          </p:nvSpPr>
          <p:spPr>
            <a:xfrm flipH="1" flipV="1">
              <a:off x="3200040" y="1828800"/>
              <a:ext cx="2361960" cy="205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59400" y="1991160"/>
              <a:ext cx="1706760" cy="1298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 rot="18211800">
            <a:off x="2819160" y="3961800"/>
            <a:ext cx="1219320" cy="914400"/>
          </a:xfrm>
          <a:prstGeom prst="leftArrow">
            <a:avLst>
              <a:gd name="adj1" fmla="val 50000"/>
              <a:gd name="adj2" fmla="val 333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4155800">
            <a:off x="5104800" y="3961800"/>
            <a:ext cx="1219320" cy="914400"/>
          </a:xfrm>
          <a:prstGeom prst="leftArrow">
            <a:avLst>
              <a:gd name="adj1" fmla="val 50000"/>
              <a:gd name="adj2" fmla="val 333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681560" y="457200"/>
            <a:ext cx="57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05320" y="1905120"/>
            <a:ext cx="22096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29000" y="4800600"/>
            <a:ext cx="1447920" cy="1752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76920" y="4800600"/>
            <a:ext cx="91440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3800400">
            <a:off x="4419360" y="380952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680840" y="45720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crois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2895480"/>
            <a:ext cx="221004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4648320"/>
            <a:ext cx="2210040" cy="609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2971800"/>
            <a:ext cx="221004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809880"/>
            <a:ext cx="2210040" cy="1524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3276720"/>
            <a:ext cx="1143000" cy="761760"/>
          </a:xfrm>
          <a:prstGeom prst="rightArrow">
            <a:avLst>
              <a:gd name="adj1" fmla="val 50000"/>
              <a:gd name="adj2" fmla="val 3751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580920" y="434304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44640" y="457200"/>
            <a:ext cx="54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stratégies d 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7560" y="2362320"/>
            <a:ext cx="45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 ’analyse concurr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216800" y="45720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en casc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828800"/>
            <a:ext cx="221004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2680" y="3352680"/>
            <a:ext cx="6858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38480" y="3352680"/>
            <a:ext cx="1676520" cy="175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4480" y="4724280"/>
            <a:ext cx="762120" cy="175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6600" y="4724280"/>
            <a:ext cx="1600200" cy="17528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019240" y="3924360"/>
            <a:ext cx="1067040" cy="83808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5400000">
            <a:off x="4914720" y="5448240"/>
            <a:ext cx="1066680" cy="83808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67000" y="457200"/>
            <a:ext cx="62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circul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1752480"/>
            <a:ext cx="9144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76520" y="4343400"/>
            <a:ext cx="68580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4343400"/>
            <a:ext cx="167616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57800" y="4343400"/>
            <a:ext cx="762120" cy="175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9920" y="4343400"/>
            <a:ext cx="1600200" cy="1752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752480"/>
            <a:ext cx="1295280" cy="17528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4952880"/>
            <a:ext cx="68580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7534800">
            <a:off x="2094840" y="3009240"/>
            <a:ext cx="990720" cy="762120"/>
          </a:xfrm>
          <a:prstGeom prst="rightArrow">
            <a:avLst>
              <a:gd name="adj1" fmla="val 50000"/>
              <a:gd name="adj2" fmla="val 3249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3102800">
            <a:off x="6095880" y="2971440"/>
            <a:ext cx="990720" cy="762120"/>
          </a:xfrm>
          <a:prstGeom prst="rightArrow">
            <a:avLst>
              <a:gd name="adj1" fmla="val 50000"/>
              <a:gd name="adj2" fmla="val 32499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3276720" y="1599840"/>
            <a:ext cx="4724280" cy="4876920"/>
            <a:chOff x="3276720" y="1599840"/>
            <a:chExt cx="4724280" cy="4876920"/>
          </a:xfrm>
        </p:grpSpPr>
        <p:sp>
          <p:nvSpPr>
            <p:cNvPr id="448" name=""/>
            <p:cNvSpPr/>
            <p:nvPr/>
          </p:nvSpPr>
          <p:spPr>
            <a:xfrm>
              <a:off x="3276720" y="1600200"/>
              <a:ext cx="4714560" cy="486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672160" y="1599840"/>
              <a:ext cx="0" cy="487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76720" y="4003920"/>
              <a:ext cx="472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116960" y="30492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de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7080" y="3276720"/>
            <a:ext cx="19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iss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72520" y="99072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ev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26640" y="99072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3000">
            <a:off x="2325960" y="249876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ev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4200">
            <a:off x="2410560" y="505836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659040" y="17524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det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47200" y="17524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e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354120" y="579132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hes à l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3120" y="57913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ds m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324480" y="4191120"/>
            <a:ext cx="946440" cy="1523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3882960" y="4191120"/>
            <a:ext cx="1222560" cy="15238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3809880" y="2362320"/>
            <a:ext cx="1322640" cy="15238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6325920" y="228600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1905120" y="1599840"/>
            <a:ext cx="6095520" cy="4876920"/>
            <a:chOff x="1905120" y="1599840"/>
            <a:chExt cx="6095520" cy="4876920"/>
          </a:xfrm>
        </p:grpSpPr>
        <p:sp>
          <p:nvSpPr>
            <p:cNvPr id="466" name=""/>
            <p:cNvSpPr/>
            <p:nvPr/>
          </p:nvSpPr>
          <p:spPr>
            <a:xfrm>
              <a:off x="1905120" y="1600200"/>
              <a:ext cx="6082920" cy="486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995720" y="1599840"/>
              <a:ext cx="0" cy="487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05120" y="4003920"/>
              <a:ext cx="609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3050280" y="22860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de marché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-2143440" y="3757680"/>
            <a:ext cx="49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issance relative du mar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2000" y="10666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00960" y="1066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02200" y="1066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8000" y="11174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9112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712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7680" y="10666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3888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60160" y="1117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2800" y="374796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2800" y="138600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02800" y="304812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828800" y="32767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91360" y="61866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208520" y="49672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828800" y="5257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79720" y="5460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841400" y="57006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44800" y="59436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806480" y="6183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25680" y="2197080"/>
            <a:ext cx="4280040" cy="2527200"/>
          </a:xfrm>
          <a:custGeom>
            <a:avLst/>
            <a:gdLst/>
            <a:ahLst/>
            <a:rect l="l" t="t" r="r" b="b"/>
            <a:pathLst>
              <a:path w="2696" h="1592">
                <a:moveTo>
                  <a:pt x="2696" y="56"/>
                </a:moveTo>
                <a:cubicBezTo>
                  <a:pt x="1904" y="28"/>
                  <a:pt x="1112" y="0"/>
                  <a:pt x="680" y="56"/>
                </a:cubicBezTo>
                <a:cubicBezTo>
                  <a:pt x="248" y="112"/>
                  <a:pt x="208" y="136"/>
                  <a:pt x="104" y="392"/>
                </a:cubicBezTo>
                <a:cubicBezTo>
                  <a:pt x="0" y="648"/>
                  <a:pt x="28" y="1120"/>
                  <a:pt x="56" y="15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82720" y="2286000"/>
            <a:ext cx="302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de la réus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17840" y="1676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D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64520" y="167652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LEM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13280" y="594360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HES A L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46840" y="594360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91520" y="22860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427520" y="3352680"/>
            <a:ext cx="1299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 ’éch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81280" y="3200400"/>
            <a:ext cx="1979640" cy="1979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5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3048120"/>
            <a:ext cx="610920" cy="610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0" y="5257800"/>
            <a:ext cx="755640" cy="75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5943600"/>
            <a:ext cx="611280" cy="61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514600" y="1828800"/>
            <a:ext cx="6629400" cy="4800600"/>
            <a:chOff x="2514600" y="1828800"/>
            <a:chExt cx="6629400" cy="4800600"/>
          </a:xfrm>
        </p:grpSpPr>
        <p:sp>
          <p:nvSpPr>
            <p:cNvPr id="505" name=""/>
            <p:cNvSpPr/>
            <p:nvPr/>
          </p:nvSpPr>
          <p:spPr>
            <a:xfrm>
              <a:off x="2514600" y="1828800"/>
              <a:ext cx="6629400" cy="4800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14600" y="28638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14600" y="38052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14600" y="47466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56880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6744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4360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012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3814200" y="39528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urité 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00200" y="12193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mar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44760" y="121932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81480" y="1219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849440" y="1219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c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9160" y="22096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7960" y="3124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53000" y="4038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7960" y="50292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68400" y="5943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-1762200" y="406404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 concurr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2514600"/>
            <a:ext cx="18003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3200400"/>
            <a:ext cx="99072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4419720"/>
            <a:ext cx="99072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286000"/>
            <a:ext cx="684360" cy="68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48769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3962520"/>
            <a:ext cx="3603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6248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9880" y="6095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5257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2508120" y="1828800"/>
            <a:ext cx="6629400" cy="4800600"/>
            <a:chOff x="2508120" y="1828800"/>
            <a:chExt cx="6629400" cy="4800600"/>
          </a:xfrm>
        </p:grpSpPr>
        <p:sp>
          <p:nvSpPr>
            <p:cNvPr id="535" name=""/>
            <p:cNvSpPr/>
            <p:nvPr/>
          </p:nvSpPr>
          <p:spPr>
            <a:xfrm>
              <a:off x="2508120" y="1828800"/>
              <a:ext cx="6629400" cy="4800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08120" y="28638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08120" y="38052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08120" y="47466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08120" y="56880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6096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3712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1364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807720" y="39528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urité 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94080" y="12193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mar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38280" y="121932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75360" y="1219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843320" y="1219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c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33040" y="22096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1480" y="3124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6880" y="4038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840" y="50292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961920" y="5943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-1768680" y="406404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 concurr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267080" y="2819160"/>
            <a:ext cx="48769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514600" y="4190760"/>
            <a:ext cx="662940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590920" y="6248520"/>
            <a:ext cx="40384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629400" y="4724280"/>
            <a:ext cx="251460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2819520"/>
            <a:ext cx="4876920" cy="3124080"/>
          </a:xfrm>
          <a:custGeom>
            <a:avLst/>
            <a:gdLst/>
            <a:ahLst/>
            <a:rect l="l" t="t" r="r" b="b"/>
            <a:pathLst>
              <a:path w="3024" h="1968">
                <a:moveTo>
                  <a:pt x="0" y="1200"/>
                </a:moveTo>
                <a:lnTo>
                  <a:pt x="3024" y="0"/>
                </a:lnTo>
                <a:lnTo>
                  <a:pt x="3024" y="912"/>
                </a:lnTo>
                <a:lnTo>
                  <a:pt x="0" y="1968"/>
                </a:lnTo>
                <a:lnTo>
                  <a:pt x="0" y="1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724280"/>
            <a:ext cx="6705720" cy="1905120"/>
          </a:xfrm>
          <a:custGeom>
            <a:avLst/>
            <a:gdLst/>
            <a:ahLst/>
            <a:rect l="l" t="t" r="r" b="b"/>
            <a:pathLst>
              <a:path w="4128" h="1200">
                <a:moveTo>
                  <a:pt x="0" y="1200"/>
                </a:moveTo>
                <a:lnTo>
                  <a:pt x="2592" y="960"/>
                </a:lnTo>
                <a:lnTo>
                  <a:pt x="4128" y="0"/>
                </a:lnTo>
                <a:lnTo>
                  <a:pt x="4128" y="120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932800" y="3886200"/>
            <a:ext cx="267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le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79480" y="5805360"/>
            <a:ext cx="229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ori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18080" y="59580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a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299120" y="152280"/>
            <a:ext cx="31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eur 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-1758960" y="424656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 concurr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27920" y="11700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0760" y="117000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y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53000" y="117000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2120" y="2330280"/>
            <a:ext cx="830556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957400" y="2330280"/>
            <a:ext cx="6110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2120" y="3781440"/>
            <a:ext cx="8305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5234040"/>
            <a:ext cx="830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57400" y="6858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57640" y="6858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157880" y="6858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9067680" y="68544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57400" y="685800"/>
            <a:ext cx="61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42000" y="271764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18800" y="416880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y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147320" y="571824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9600" y="243828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51080" y="2606760"/>
            <a:ext cx="22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08280" y="2438280"/>
            <a:ext cx="18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ire 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he à la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321720" y="405432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oî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18200" y="3886200"/>
            <a:ext cx="17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434360" y="411480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99960" y="5410080"/>
            <a:ext cx="18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ise 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ndo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251680" y="541008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sé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42480" y="579132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sinves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68240" y="45720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critères de seg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0640" y="2076480"/>
            <a:ext cx="7613280" cy="3461760"/>
            <a:chOff x="80640" y="2076480"/>
            <a:chExt cx="7613280" cy="3461760"/>
          </a:xfrm>
        </p:grpSpPr>
        <p:sp>
          <p:nvSpPr>
            <p:cNvPr id="108" name=""/>
            <p:cNvSpPr/>
            <p:nvPr/>
          </p:nvSpPr>
          <p:spPr>
            <a:xfrm>
              <a:off x="309960" y="2762280"/>
              <a:ext cx="2055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ritères d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écoupa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40" y="4591080"/>
              <a:ext cx="2568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ritères d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groupem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4360" y="2076480"/>
              <a:ext cx="177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man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2880" y="209088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ff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591640" y="2711520"/>
            <a:ext cx="28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de clientè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5760" y="4616280"/>
            <a:ext cx="228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abilit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 pre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6920" y="4591080"/>
            <a:ext cx="315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ergies ressour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compé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1680" y="2711520"/>
            <a:ext cx="282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de coû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844640" y="457200"/>
            <a:ext cx="5463000" cy="2425680"/>
            <a:chOff x="1844640" y="457200"/>
            <a:chExt cx="5463000" cy="2425680"/>
          </a:xfrm>
        </p:grpSpPr>
        <p:sp>
          <p:nvSpPr>
            <p:cNvPr id="117" name=""/>
            <p:cNvSpPr/>
            <p:nvPr/>
          </p:nvSpPr>
          <p:spPr>
            <a:xfrm>
              <a:off x="1844640" y="457200"/>
              <a:ext cx="546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es stratégies d ’entrepri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57560" y="2362320"/>
              <a:ext cx="459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 L ’analyse concurrentiel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221480" y="351936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oix et développements straté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8840" y="47386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nagement d ’un portefeuille d ’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98400" y="45720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5 forces concurrenti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97840" y="3733920"/>
            <a:ext cx="2120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00200" y="3217320"/>
            <a:ext cx="1671480" cy="2061360"/>
            <a:chOff x="1600200" y="3217320"/>
            <a:chExt cx="1671480" cy="2061360"/>
          </a:xfrm>
        </p:grpSpPr>
        <p:sp>
          <p:nvSpPr>
            <p:cNvPr id="124" name=""/>
            <p:cNvSpPr/>
            <p:nvPr/>
          </p:nvSpPr>
          <p:spPr>
            <a:xfrm rot="16200000">
              <a:off x="829800" y="3987720"/>
              <a:ext cx="20613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9920" y="4003560"/>
              <a:ext cx="761760" cy="533520"/>
            </a:xfrm>
            <a:prstGeom prst="rightArrow">
              <a:avLst>
                <a:gd name="adj1" fmla="val 50000"/>
                <a:gd name="adj2" fmla="val 356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019920" y="3597480"/>
            <a:ext cx="1665000" cy="1270080"/>
            <a:chOff x="6019920" y="3597480"/>
            <a:chExt cx="1665000" cy="1270080"/>
          </a:xfrm>
        </p:grpSpPr>
        <p:sp>
          <p:nvSpPr>
            <p:cNvPr id="127" name=""/>
            <p:cNvSpPr/>
            <p:nvPr/>
          </p:nvSpPr>
          <p:spPr>
            <a:xfrm rot="16206600">
              <a:off x="6788520" y="3971880"/>
              <a:ext cx="1269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6019920" y="3962160"/>
              <a:ext cx="761760" cy="533160"/>
            </a:xfrm>
            <a:prstGeom prst="rightArrow">
              <a:avLst>
                <a:gd name="adj1" fmla="val 50000"/>
                <a:gd name="adj2" fmla="val 3571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02040" y="1828800"/>
            <a:ext cx="1706400" cy="1676520"/>
            <a:chOff x="3902040" y="1828800"/>
            <a:chExt cx="1706400" cy="1676520"/>
          </a:xfrm>
        </p:grpSpPr>
        <p:sp>
          <p:nvSpPr>
            <p:cNvPr id="130" name=""/>
            <p:cNvSpPr/>
            <p:nvPr/>
          </p:nvSpPr>
          <p:spPr>
            <a:xfrm>
              <a:off x="3902040" y="1828800"/>
              <a:ext cx="170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enti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560" y="29718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25000" y="4876560"/>
            <a:ext cx="1744200" cy="1359000"/>
            <a:chOff x="3825000" y="4876560"/>
            <a:chExt cx="1744200" cy="1359000"/>
          </a:xfrm>
        </p:grpSpPr>
        <p:sp>
          <p:nvSpPr>
            <p:cNvPr id="133" name=""/>
            <p:cNvSpPr/>
            <p:nvPr/>
          </p:nvSpPr>
          <p:spPr>
            <a:xfrm>
              <a:off x="3825000" y="571500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bstitu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4343400" y="4876200"/>
              <a:ext cx="53316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3000" y="533520"/>
            <a:ext cx="787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e de la dynamique concurrent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5360" y="2286000"/>
            <a:ext cx="6617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nsité de la rivalité entre concur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360" y="3276720"/>
            <a:ext cx="857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nace de nouveaux entrants et barrière à l ’ent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7880" y="4343400"/>
            <a:ext cx="657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nace de prestations de sub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200" y="5410080"/>
            <a:ext cx="891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ouvoir de négociation des fournisseurs et des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98400" y="45720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5 forces concurrenti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97840" y="3733920"/>
            <a:ext cx="2120760" cy="94716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3217320"/>
            <a:ext cx="1671480" cy="2061360"/>
            <a:chOff x="1600200" y="3217320"/>
            <a:chExt cx="1671480" cy="2061360"/>
          </a:xfrm>
        </p:grpSpPr>
        <p:sp>
          <p:nvSpPr>
            <p:cNvPr id="143" name=""/>
            <p:cNvSpPr/>
            <p:nvPr/>
          </p:nvSpPr>
          <p:spPr>
            <a:xfrm rot="16200000">
              <a:off x="829800" y="3987720"/>
              <a:ext cx="20613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09920" y="4003560"/>
              <a:ext cx="761760" cy="533520"/>
            </a:xfrm>
            <a:prstGeom prst="rightArrow">
              <a:avLst>
                <a:gd name="adj1" fmla="val 50000"/>
                <a:gd name="adj2" fmla="val 356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019920" y="3597480"/>
            <a:ext cx="1665000" cy="1270080"/>
            <a:chOff x="6019920" y="3597480"/>
            <a:chExt cx="1665000" cy="1270080"/>
          </a:xfrm>
        </p:grpSpPr>
        <p:sp>
          <p:nvSpPr>
            <p:cNvPr id="146" name=""/>
            <p:cNvSpPr/>
            <p:nvPr/>
          </p:nvSpPr>
          <p:spPr>
            <a:xfrm rot="16206600">
              <a:off x="6788520" y="3971880"/>
              <a:ext cx="1269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6019920" y="3962160"/>
              <a:ext cx="761760" cy="533160"/>
            </a:xfrm>
            <a:prstGeom prst="rightArrow">
              <a:avLst>
                <a:gd name="adj1" fmla="val 50000"/>
                <a:gd name="adj2" fmla="val 3571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02040" y="1828800"/>
            <a:ext cx="1706400" cy="1676520"/>
            <a:chOff x="3902040" y="1828800"/>
            <a:chExt cx="1706400" cy="1676520"/>
          </a:xfrm>
        </p:grpSpPr>
        <p:sp>
          <p:nvSpPr>
            <p:cNvPr id="149" name=""/>
            <p:cNvSpPr/>
            <p:nvPr/>
          </p:nvSpPr>
          <p:spPr>
            <a:xfrm>
              <a:off x="3902040" y="1828800"/>
              <a:ext cx="170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enti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81560" y="29718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25000" y="4876560"/>
            <a:ext cx="1744200" cy="1359000"/>
            <a:chOff x="3825000" y="4876560"/>
            <a:chExt cx="1744200" cy="1359000"/>
          </a:xfrm>
        </p:grpSpPr>
        <p:sp>
          <p:nvSpPr>
            <p:cNvPr id="152" name=""/>
            <p:cNvSpPr/>
            <p:nvPr/>
          </p:nvSpPr>
          <p:spPr>
            <a:xfrm>
              <a:off x="3825000" y="571500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bstitu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4343400" y="4876200"/>
              <a:ext cx="53316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98400" y="45720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5 forces concurrenti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97840" y="3733920"/>
            <a:ext cx="2120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sec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00200" y="3217320"/>
            <a:ext cx="1671480" cy="2061360"/>
            <a:chOff x="1600200" y="3217320"/>
            <a:chExt cx="1671480" cy="2061360"/>
          </a:xfrm>
        </p:grpSpPr>
        <p:sp>
          <p:nvSpPr>
            <p:cNvPr id="157" name=""/>
            <p:cNvSpPr/>
            <p:nvPr/>
          </p:nvSpPr>
          <p:spPr>
            <a:xfrm rot="16200000">
              <a:off x="829800" y="3987720"/>
              <a:ext cx="20613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09920" y="4003560"/>
              <a:ext cx="761760" cy="533520"/>
            </a:xfrm>
            <a:prstGeom prst="rightArrow">
              <a:avLst>
                <a:gd name="adj1" fmla="val 50000"/>
                <a:gd name="adj2" fmla="val 356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19920" y="3597480"/>
            <a:ext cx="1665000" cy="1270080"/>
            <a:chOff x="6019920" y="3597480"/>
            <a:chExt cx="1665000" cy="1270080"/>
          </a:xfrm>
        </p:grpSpPr>
        <p:sp>
          <p:nvSpPr>
            <p:cNvPr id="160" name=""/>
            <p:cNvSpPr/>
            <p:nvPr/>
          </p:nvSpPr>
          <p:spPr>
            <a:xfrm rot="16206600">
              <a:off x="6788520" y="3971880"/>
              <a:ext cx="1269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019920" y="3962160"/>
              <a:ext cx="761760" cy="533160"/>
            </a:xfrm>
            <a:prstGeom prst="rightArrow">
              <a:avLst>
                <a:gd name="adj1" fmla="val 50000"/>
                <a:gd name="adj2" fmla="val 3571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902040" y="1828800"/>
            <a:ext cx="1706400" cy="1676520"/>
            <a:chOff x="3902040" y="1828800"/>
            <a:chExt cx="1706400" cy="1676520"/>
          </a:xfrm>
        </p:grpSpPr>
        <p:sp>
          <p:nvSpPr>
            <p:cNvPr id="163" name=""/>
            <p:cNvSpPr/>
            <p:nvPr/>
          </p:nvSpPr>
          <p:spPr>
            <a:xfrm>
              <a:off x="3902040" y="1828800"/>
              <a:ext cx="1706400" cy="9471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entie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560" y="29718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825000" y="4876560"/>
            <a:ext cx="1744200" cy="1359000"/>
            <a:chOff x="3825000" y="4876560"/>
            <a:chExt cx="1744200" cy="1359000"/>
          </a:xfrm>
        </p:grpSpPr>
        <p:sp>
          <p:nvSpPr>
            <p:cNvPr id="166" name=""/>
            <p:cNvSpPr/>
            <p:nvPr/>
          </p:nvSpPr>
          <p:spPr>
            <a:xfrm>
              <a:off x="3825000" y="571500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bstitu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4343400" y="4876200"/>
              <a:ext cx="53316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17:58:42Z</dcterms:created>
  <dc:creator>The Computer</dc:creator>
  <dc:description/>
  <dc:language>en-US</dc:language>
  <cp:lastModifiedBy>LE VOURCH</cp:lastModifiedBy>
  <dcterms:modified xsi:type="dcterms:W3CDTF">2004-10-19T05:36:45Z</dcterms:modified>
  <cp:revision>16</cp:revision>
  <dc:subject/>
  <dc:title>Aucun titre de diapositive</dc:title>
</cp:coreProperties>
</file>