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B2D-4249-491A-A9DA-B85F2F1A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C0F-955F-4553-A01B-ED3D430C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291-519F-417D-BA4C-435481F2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223-4B68-47B0-8D3A-A01A96BF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44C8-2240-4B40-B05B-124A364E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05BA-5A50-47D2-848F-2A0FDA38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837D-539D-44FE-99CA-4D9817E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C73E-BDFC-4980-978B-917CECE6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98B9-C1FE-4A00-B74F-8A57C269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7E33-6B19-4F71-84D1-A4D9966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6CA2-D75B-43D7-B23C-92DE3DB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071-DEA1-453A-A05E-9C04F54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B1DE-AF65-44FD-B0F1-027787AB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30EC-9F16-42F5-B787-46824B82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384F-0B7B-4AF6-BC2A-FC30B76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4AC1-B377-4552-B637-005DF59E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8217-3FEA-4F2D-9D44-B413A78B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A6499-BE8C-49D6-A52C-C2944550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05368-2541-427B-BBB3-2CB42AB8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7DAC-DCDF-4C51-B33C-F4C037DE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FB08-BD0A-4831-9ADF-480D216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E889-29BF-4B3B-A04F-DDB5AE9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F83-6EA6-47E9-AC56-E76A7F7B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8BF0-C742-4FE9-A3E3-9909EF95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7733C-7B43-4CA5-B1FD-DF2644B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C3D4-15AE-40A5-A043-D0F8098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F83F-85A2-4369-A111-C6044791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97AB-F88D-4AC6-8887-1F78612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7787-E051-4B12-93E1-C78F16AA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31D2B-33C7-4C03-B517-EBCBFC48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F37-3A90-41F8-BDD7-0B7011C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52A-7BD8-44B0-B23F-6BA4914E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314-FAC3-412A-AD74-98F18E24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5F6-88E9-4983-85C3-A786F45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914-C3FE-47CB-9ECC-9F8442A4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7FD-3C62-4E62-98FA-71661EB0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46AE-6FD5-4A27-B90C-91892C2DD1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4E53-C693-425D-9978-A70F90AA8D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9775-DCA7-41B4-AD69-EE3448BD58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88960" y="473040"/>
            <a:ext cx="76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lles fonctions de l ’ingéni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880" y="21337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é managériale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tion et encad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travail 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2080" y="3505320"/>
            <a:ext cx="90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entre différentes fonctions de l ’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1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drement d ’ équipes d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80" y="4495680"/>
            <a:ext cx="62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age d ’un projet ou d ’une af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33000" y="17524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9720" y="1752480"/>
            <a:ext cx="569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, chasse, sylv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22860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9000" y="2286000"/>
            <a:ext cx="686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êche, aquaculture, services ann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080" y="2819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0440" y="2819520"/>
            <a:ext cx="381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extra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5080" y="33526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1880" y="3352680"/>
            <a:ext cx="437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 manufactur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3000" y="38862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1160" y="3886200"/>
            <a:ext cx="7855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et distribution électricité gaz 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0560" y="441972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2600" y="4419720"/>
            <a:ext cx="22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6440" y="495288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1160" y="4952880"/>
            <a:ext cx="6905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e ; réparations automobile 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ticles dome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080" y="60199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1160" y="6019920"/>
            <a:ext cx="3749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ôtels et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228600"/>
            <a:ext cx="7562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7 niv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9240" y="17524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3760" y="1752480"/>
            <a:ext cx="5442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s 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9000" y="22860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5560" y="2286000"/>
            <a:ext cx="3592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financi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56680" y="2819520"/>
            <a:ext cx="8683200" cy="487800"/>
            <a:chOff x="256680" y="2819520"/>
            <a:chExt cx="8683200" cy="487800"/>
          </a:xfrm>
        </p:grpSpPr>
        <p:sp>
          <p:nvSpPr>
            <p:cNvPr id="269" name=""/>
            <p:cNvSpPr/>
            <p:nvPr/>
          </p:nvSpPr>
          <p:spPr>
            <a:xfrm>
              <a:off x="256680" y="28195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2819520"/>
              <a:ext cx="8106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mmobilier, location, services aux entrepri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70720" y="3352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7720" y="3352680"/>
            <a:ext cx="421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720" y="38862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7360" y="3886200"/>
            <a:ext cx="180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8760" y="44197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6280" y="4419720"/>
            <a:ext cx="408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é et action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480" y="495288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2320" y="4952880"/>
            <a:ext cx="738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collectifs, sociaux et perso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6680" y="54864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5200" y="5486400"/>
            <a:ext cx="40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des mén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480" y="601992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4480" y="6019920"/>
            <a:ext cx="4676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extra-territo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4800" y="304920"/>
            <a:ext cx="7562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7 niv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4120" y="2514600"/>
            <a:ext cx="2842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s-section 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2520" y="609480"/>
            <a:ext cx="756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960" y="1752480"/>
            <a:ext cx="839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K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obilier, location, services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4240" y="3276720"/>
            <a:ext cx="158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3920" y="3809880"/>
            <a:ext cx="816192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Activités immobiliè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Location sans 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 Activités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 Recherche et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 Services fournis principalement aux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2520" y="609480"/>
            <a:ext cx="756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5400" y="1752480"/>
            <a:ext cx="67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sion 72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infor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040" y="2514600"/>
            <a:ext cx="70434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1 Conseil en systèmes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2 Réalisation de logic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3 Traitement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4 Activités de banques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5 Entretien et réparation machines d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matériel infor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6 Autres activités rattachées à l'informa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15160" cy="4637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49000" y="281160"/>
            <a:ext cx="77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s entreprises en fon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 nombre de salarié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nvi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3640" y="304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'emploi salarié par ta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'entrepris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99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31040" cy="4749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2200" y="304920"/>
            <a:ext cx="785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TP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2200" y="304920"/>
            <a:ext cx="785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PM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6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9360" y="304920"/>
            <a:ext cx="80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grandes entreprises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63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4724280" cy="39924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42400" y="515880"/>
            <a:ext cx="62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 la grande entrepris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7520" y="45720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48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34440" y="1905120"/>
            <a:ext cx="8291160" cy="4254120"/>
            <a:chOff x="334440" y="1905120"/>
            <a:chExt cx="8291160" cy="4254120"/>
          </a:xfrm>
        </p:grpSpPr>
        <p:sp>
          <p:nvSpPr>
            <p:cNvPr id="132" name=""/>
            <p:cNvSpPr/>
            <p:nvPr/>
          </p:nvSpPr>
          <p:spPr>
            <a:xfrm>
              <a:off x="60948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12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190512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1500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60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39800" y="2286000"/>
              <a:ext cx="15858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0800000">
              <a:off x="6248160" y="243792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440" y="563868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tho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31520" y="5638680"/>
              <a:ext cx="19425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17880" y="5638680"/>
              <a:ext cx="22197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" y="1752480"/>
            <a:ext cx="8686800" cy="4876920"/>
            <a:chOff x="228600" y="1752480"/>
            <a:chExt cx="8686800" cy="4876920"/>
          </a:xfrm>
        </p:grpSpPr>
        <p:sp>
          <p:nvSpPr>
            <p:cNvPr id="154" name=""/>
            <p:cNvSpPr/>
            <p:nvPr/>
          </p:nvSpPr>
          <p:spPr>
            <a:xfrm>
              <a:off x="228600" y="1752480"/>
              <a:ext cx="8686800" cy="487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7238880" y="3581280"/>
              <a:ext cx="1590840" cy="163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40960" y="515880"/>
            <a:ext cx="49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à la PME filial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5800" y="3615840"/>
            <a:ext cx="2262960" cy="1280160"/>
            <a:chOff x="685800" y="3615840"/>
            <a:chExt cx="2262960" cy="1280160"/>
          </a:xfrm>
        </p:grpSpPr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685800" y="37339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rot="9048600">
              <a:off x="1980720" y="38098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34080" y="38098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666880" y="4069800"/>
            <a:ext cx="1183680" cy="2273760"/>
            <a:chOff x="2666880" y="4069800"/>
            <a:chExt cx="1183680" cy="2273760"/>
          </a:xfrm>
        </p:grpSpPr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2666880" y="51814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6354000">
              <a:off x="3048120" y="434340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42670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724640" y="4070880"/>
            <a:ext cx="1285560" cy="2272680"/>
            <a:chOff x="4724640" y="4070880"/>
            <a:chExt cx="1285560" cy="2272680"/>
          </a:xfrm>
        </p:grpSpPr>
        <p:pic>
          <p:nvPicPr>
            <p:cNvPr id="315" name="" descr=""/>
            <p:cNvPicPr/>
            <p:nvPr/>
          </p:nvPicPr>
          <p:blipFill>
            <a:blip r:embed="rId4"/>
            <a:stretch/>
          </p:blipFill>
          <p:spPr>
            <a:xfrm>
              <a:off x="4876920" y="5181480"/>
              <a:ext cx="11332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rot="4491600">
              <a:off x="4647960" y="434304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4640" y="42670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49400" y="3693240"/>
            <a:ext cx="2746800" cy="1278720"/>
            <a:chOff x="5549400" y="3693240"/>
            <a:chExt cx="2746800" cy="1278720"/>
          </a:xfrm>
        </p:grpSpPr>
        <p:pic>
          <p:nvPicPr>
            <p:cNvPr id="319" name="" descr=""/>
            <p:cNvPicPr/>
            <p:nvPr/>
          </p:nvPicPr>
          <p:blipFill>
            <a:blip r:embed="rId5"/>
            <a:stretch/>
          </p:blipFill>
          <p:spPr>
            <a:xfrm>
              <a:off x="7162920" y="3809880"/>
              <a:ext cx="11332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 rot="908400">
              <a:off x="5562720" y="3885840"/>
              <a:ext cx="1517400" cy="304920"/>
            </a:xfrm>
            <a:prstGeom prst="rightArrow">
              <a:avLst>
                <a:gd name="adj1" fmla="val 50000"/>
                <a:gd name="adj2" fmla="val 12441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1680" y="38098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VDE_Chap1_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4479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5258520" y="3276720"/>
            <a:ext cx="1904400" cy="612000"/>
            <a:chOff x="5258520" y="3276720"/>
            <a:chExt cx="1904400" cy="612000"/>
          </a:xfrm>
        </p:grpSpPr>
        <p:sp>
          <p:nvSpPr>
            <p:cNvPr id="325" name=""/>
            <p:cNvSpPr/>
            <p:nvPr/>
          </p:nvSpPr>
          <p:spPr>
            <a:xfrm>
              <a:off x="5334120" y="3276720"/>
              <a:ext cx="1828800" cy="228600"/>
            </a:xfrm>
            <a:prstGeom prst="rightArrow">
              <a:avLst>
                <a:gd name="adj1" fmla="val 50000"/>
                <a:gd name="adj2" fmla="val 20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58520" y="3429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162920" y="2590920"/>
            <a:ext cx="1752480" cy="1600200"/>
            <a:chOff x="7162920" y="2590920"/>
            <a:chExt cx="1752480" cy="1600200"/>
          </a:xfrm>
        </p:grpSpPr>
        <p:sp>
          <p:nvSpPr>
            <p:cNvPr id="328" name=""/>
            <p:cNvSpPr/>
            <p:nvPr/>
          </p:nvSpPr>
          <p:spPr>
            <a:xfrm>
              <a:off x="7318080" y="3124080"/>
              <a:ext cx="14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ch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62920" y="2590920"/>
              <a:ext cx="1752480" cy="160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343400" y="1143000"/>
            <a:ext cx="4038480" cy="1371600"/>
            <a:chOff x="4343400" y="1143000"/>
            <a:chExt cx="4038480" cy="1371600"/>
          </a:xfrm>
        </p:grpSpPr>
        <p:sp>
          <p:nvSpPr>
            <p:cNvPr id="331" name=""/>
            <p:cNvSpPr/>
            <p:nvPr/>
          </p:nvSpPr>
          <p:spPr>
            <a:xfrm flipH="1">
              <a:off x="4343400" y="1600200"/>
              <a:ext cx="4038480" cy="914400"/>
            </a:xfrm>
            <a:custGeom>
              <a:avLst/>
              <a:gdLst>
                <a:gd name="textAreaLeft" fmla="*/ 706680 w 4038480"/>
                <a:gd name="textAreaRight" fmla="*/ 2927880 w 4038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2520" y="1143000"/>
              <a:ext cx="26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ffre d ’aff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49360" y="1143000"/>
            <a:ext cx="3358800" cy="1515960"/>
            <a:chOff x="549360" y="1143000"/>
            <a:chExt cx="3358800" cy="1515960"/>
          </a:xfrm>
        </p:grpSpPr>
        <p:sp>
          <p:nvSpPr>
            <p:cNvPr id="334" name=""/>
            <p:cNvSpPr/>
            <p:nvPr/>
          </p:nvSpPr>
          <p:spPr>
            <a:xfrm>
              <a:off x="549360" y="1143000"/>
              <a:ext cx="162684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rch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u trav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915800">
              <a:off x="2220480" y="1960560"/>
              <a:ext cx="1752840" cy="254160"/>
            </a:xfrm>
            <a:prstGeom prst="leftRightArrow">
              <a:avLst>
                <a:gd name="adj1" fmla="val 50000"/>
                <a:gd name="adj2" fmla="val 13729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5160" y="2666880"/>
            <a:ext cx="3412440" cy="825480"/>
            <a:chOff x="245160" y="2666880"/>
            <a:chExt cx="3412440" cy="825480"/>
          </a:xfrm>
        </p:grpSpPr>
        <p:sp>
          <p:nvSpPr>
            <p:cNvPr id="337" name=""/>
            <p:cNvSpPr/>
            <p:nvPr/>
          </p:nvSpPr>
          <p:spPr>
            <a:xfrm>
              <a:off x="245160" y="2666880"/>
              <a:ext cx="25671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omm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médi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95480" y="297180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49360" y="3851640"/>
            <a:ext cx="3267000" cy="1012320"/>
            <a:chOff x="549360" y="3851640"/>
            <a:chExt cx="3267000" cy="1012320"/>
          </a:xfrm>
        </p:grpSpPr>
        <p:sp>
          <p:nvSpPr>
            <p:cNvPr id="340" name=""/>
            <p:cNvSpPr/>
            <p:nvPr/>
          </p:nvSpPr>
          <p:spPr>
            <a:xfrm>
              <a:off x="549360" y="4038480"/>
              <a:ext cx="209340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ip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if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9900800">
              <a:off x="2666520" y="4114440"/>
              <a:ext cx="1165320" cy="227160"/>
            </a:xfrm>
            <a:prstGeom prst="leftRightArrow">
              <a:avLst>
                <a:gd name="adj1" fmla="val 50000"/>
                <a:gd name="adj2" fmla="val 1021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2840" y="3835080"/>
            <a:ext cx="3312360" cy="2781720"/>
            <a:chOff x="1122840" y="3835080"/>
            <a:chExt cx="3312360" cy="2781720"/>
          </a:xfrm>
        </p:grpSpPr>
        <p:sp>
          <p:nvSpPr>
            <p:cNvPr id="344" name=""/>
            <p:cNvSpPr/>
            <p:nvPr/>
          </p:nvSpPr>
          <p:spPr>
            <a:xfrm>
              <a:off x="1122840" y="5791320"/>
              <a:ext cx="202644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ch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s capit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8119400">
              <a:off x="2705760" y="4685400"/>
              <a:ext cx="2133360" cy="230040"/>
            </a:xfrm>
            <a:prstGeom prst="leftRightArrow">
              <a:avLst>
                <a:gd name="adj1" fmla="val 50000"/>
                <a:gd name="adj2" fmla="val 18461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91680" y="22860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és 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0240" y="228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és a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900000" y="2128680"/>
            <a:ext cx="5410440" cy="1143000"/>
            <a:chOff x="900000" y="2128680"/>
            <a:chExt cx="5410440" cy="1143000"/>
          </a:xfrm>
        </p:grpSpPr>
        <p:sp>
          <p:nvSpPr>
            <p:cNvPr id="349" name=""/>
            <p:cNvSpPr/>
            <p:nvPr/>
          </p:nvSpPr>
          <p:spPr>
            <a:xfrm>
              <a:off x="1433880" y="2357280"/>
              <a:ext cx="43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leur de la p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0" y="2128680"/>
              <a:ext cx="5410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900000" y="4005360"/>
            <a:ext cx="5410440" cy="1143000"/>
            <a:chOff x="900000" y="4005360"/>
            <a:chExt cx="5410440" cy="1143000"/>
          </a:xfrm>
        </p:grpSpPr>
        <p:sp>
          <p:nvSpPr>
            <p:cNvPr id="352" name=""/>
            <p:cNvSpPr/>
            <p:nvPr/>
          </p:nvSpPr>
          <p:spPr>
            <a:xfrm>
              <a:off x="900000" y="4005360"/>
              <a:ext cx="5410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8720" y="4292640"/>
              <a:ext cx="279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leur ajouté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4720" y="40053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33800" y="429264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.I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388920" y="5589720"/>
            <a:ext cx="2239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n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3429000"/>
            <a:ext cx="7905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0800000">
            <a:off x="5002560" y="5229360"/>
            <a:ext cx="1081080" cy="1008000"/>
          </a:xfrm>
          <a:custGeom>
            <a:avLst/>
            <a:gdLst>
              <a:gd name="textAreaLeft" fmla="*/ -360 w 1081080"/>
              <a:gd name="textAreaRight" fmla="*/ 1081080 w 108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1280" y="1989000"/>
            <a:ext cx="7424640" cy="3311640"/>
            <a:chOff x="611280" y="1989000"/>
            <a:chExt cx="7424640" cy="3311640"/>
          </a:xfrm>
        </p:grpSpPr>
        <p:sp>
          <p:nvSpPr>
            <p:cNvPr id="361" name=""/>
            <p:cNvSpPr/>
            <p:nvPr/>
          </p:nvSpPr>
          <p:spPr>
            <a:xfrm>
              <a:off x="611280" y="1989000"/>
              <a:ext cx="6913440" cy="331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588000" y="2924280"/>
              <a:ext cx="1447920" cy="1228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492200" y="2637000"/>
            <a:ext cx="1249200" cy="1878480"/>
            <a:chOff x="1492200" y="2637000"/>
            <a:chExt cx="1249200" cy="1878480"/>
          </a:xfrm>
        </p:grpSpPr>
        <p:sp>
          <p:nvSpPr>
            <p:cNvPr id="364" name=""/>
            <p:cNvSpPr/>
            <p:nvPr/>
          </p:nvSpPr>
          <p:spPr>
            <a:xfrm>
              <a:off x="1492200" y="3141720"/>
              <a:ext cx="1249200" cy="1373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mpô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800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932920" y="2637000"/>
            <a:ext cx="1746000" cy="1878480"/>
            <a:chOff x="2932920" y="2637000"/>
            <a:chExt cx="1746000" cy="1878480"/>
          </a:xfrm>
        </p:grpSpPr>
        <p:sp>
          <p:nvSpPr>
            <p:cNvPr id="367" name=""/>
            <p:cNvSpPr/>
            <p:nvPr/>
          </p:nvSpPr>
          <p:spPr>
            <a:xfrm>
              <a:off x="2932920" y="3141720"/>
              <a:ext cx="1746000" cy="1373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61080" y="2637000"/>
            <a:ext cx="947160" cy="2425320"/>
            <a:chOff x="4861080" y="2637000"/>
            <a:chExt cx="947160" cy="2425320"/>
          </a:xfrm>
        </p:grpSpPr>
        <p:sp>
          <p:nvSpPr>
            <p:cNvPr id="370" name=""/>
            <p:cNvSpPr/>
            <p:nvPr/>
          </p:nvSpPr>
          <p:spPr>
            <a:xfrm rot="16200000">
              <a:off x="4382280" y="3636360"/>
              <a:ext cx="1904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anciè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7672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012000" y="2637000"/>
            <a:ext cx="947160" cy="2047320"/>
            <a:chOff x="6012000" y="2637000"/>
            <a:chExt cx="947160" cy="2047320"/>
          </a:xfrm>
        </p:grpSpPr>
        <p:sp>
          <p:nvSpPr>
            <p:cNvPr id="373" name=""/>
            <p:cNvSpPr/>
            <p:nvPr/>
          </p:nvSpPr>
          <p:spPr>
            <a:xfrm rot="16200000">
              <a:off x="5722200" y="3447360"/>
              <a:ext cx="152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ortis-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0072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80560" y="2637000"/>
            <a:ext cx="1744200" cy="1025280"/>
            <a:chOff x="7180560" y="2637000"/>
            <a:chExt cx="1744200" cy="1025280"/>
          </a:xfrm>
        </p:grpSpPr>
        <p:sp>
          <p:nvSpPr>
            <p:cNvPr id="376" name=""/>
            <p:cNvSpPr/>
            <p:nvPr/>
          </p:nvSpPr>
          <p:spPr>
            <a:xfrm>
              <a:off x="7180560" y="314172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énéf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1200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636560" y="4653000"/>
            <a:ext cx="1086120" cy="1601640"/>
            <a:chOff x="1636560" y="4653000"/>
            <a:chExt cx="1086120" cy="1601640"/>
          </a:xfrm>
        </p:grpSpPr>
        <p:sp>
          <p:nvSpPr>
            <p:cNvPr id="380" name=""/>
            <p:cNvSpPr/>
            <p:nvPr/>
          </p:nvSpPr>
          <p:spPr>
            <a:xfrm>
              <a:off x="1636560" y="5734080"/>
              <a:ext cx="108612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8000" y="4653000"/>
              <a:ext cx="505080" cy="936720"/>
            </a:xfrm>
            <a:prstGeom prst="downArrow">
              <a:avLst>
                <a:gd name="adj1" fmla="val 50000"/>
                <a:gd name="adj2" fmla="val 4636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75840" y="4653000"/>
            <a:ext cx="1467000" cy="1601640"/>
            <a:chOff x="3075840" y="4653000"/>
            <a:chExt cx="1467000" cy="1601640"/>
          </a:xfrm>
        </p:grpSpPr>
        <p:sp>
          <p:nvSpPr>
            <p:cNvPr id="383" name=""/>
            <p:cNvSpPr/>
            <p:nvPr/>
          </p:nvSpPr>
          <p:spPr>
            <a:xfrm>
              <a:off x="3075840" y="5734080"/>
              <a:ext cx="1467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ai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64000" y="4653000"/>
              <a:ext cx="504720" cy="936720"/>
            </a:xfrm>
            <a:prstGeom prst="downArrow">
              <a:avLst>
                <a:gd name="adj1" fmla="val 50000"/>
                <a:gd name="adj2" fmla="val 4639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659480" y="5157720"/>
            <a:ext cx="1526400" cy="1096920"/>
            <a:chOff x="4659480" y="5157720"/>
            <a:chExt cx="1526400" cy="1096920"/>
          </a:xfrm>
        </p:grpSpPr>
        <p:sp>
          <p:nvSpPr>
            <p:cNvPr id="386" name=""/>
            <p:cNvSpPr/>
            <p:nvPr/>
          </p:nvSpPr>
          <p:spPr>
            <a:xfrm>
              <a:off x="4659480" y="5734080"/>
              <a:ext cx="15264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êt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76720" y="5157720"/>
              <a:ext cx="505080" cy="43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50920" y="1557360"/>
            <a:ext cx="8893080" cy="3743280"/>
            <a:chOff x="250920" y="1557360"/>
            <a:chExt cx="8893080" cy="3743280"/>
          </a:xfrm>
        </p:grpSpPr>
        <p:grpSp>
          <p:nvGrpSpPr>
            <p:cNvPr id="389" name=""/>
            <p:cNvGrpSpPr/>
            <p:nvPr/>
          </p:nvGrpSpPr>
          <p:grpSpPr>
            <a:xfrm>
              <a:off x="1547640" y="1773360"/>
              <a:ext cx="7345440" cy="718920"/>
              <a:chOff x="1547640" y="1773360"/>
              <a:chExt cx="7345440" cy="718920"/>
            </a:xfrm>
          </p:grpSpPr>
          <p:sp>
            <p:nvSpPr>
              <p:cNvPr id="390" name=""/>
              <p:cNvSpPr/>
              <p:nvPr/>
            </p:nvSpPr>
            <p:spPr>
              <a:xfrm>
                <a:off x="1547640" y="1773360"/>
                <a:ext cx="7345440" cy="71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14160" y="1844640"/>
                <a:ext cx="247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Valeur ajouté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50920" y="1557360"/>
              <a:ext cx="8893080" cy="3743280"/>
              <a:chOff x="250920" y="1557360"/>
              <a:chExt cx="8893080" cy="3743280"/>
            </a:xfrm>
          </p:grpSpPr>
          <p:sp>
            <p:nvSpPr>
              <p:cNvPr id="393" name=""/>
              <p:cNvSpPr/>
              <p:nvPr/>
            </p:nvSpPr>
            <p:spPr>
              <a:xfrm>
                <a:off x="395280" y="1700280"/>
                <a:ext cx="8748720" cy="360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557360"/>
                <a:ext cx="1447560" cy="122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11640" y="3213000"/>
            <a:ext cx="17762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ô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1640" y="3789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1640" y="4797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er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0920" y="1844640"/>
            <a:ext cx="5976720" cy="4176720"/>
            <a:chOff x="250920" y="1844640"/>
            <a:chExt cx="5976720" cy="4176720"/>
          </a:xfrm>
        </p:grpSpPr>
        <p:sp>
          <p:nvSpPr>
            <p:cNvPr id="400" name=""/>
            <p:cNvSpPr/>
            <p:nvPr/>
          </p:nvSpPr>
          <p:spPr>
            <a:xfrm>
              <a:off x="538200" y="2205000"/>
              <a:ext cx="32418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ortisseme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 provis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8560" y="2205000"/>
              <a:ext cx="17766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énéf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920" y="1844640"/>
              <a:ext cx="5976720" cy="417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1116000" y="4305240"/>
              <a:ext cx="1735200" cy="14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1762200" y="3357720"/>
            <a:ext cx="649080" cy="792000"/>
          </a:xfrm>
          <a:prstGeom prst="downArrow">
            <a:avLst>
              <a:gd name="adj1" fmla="val 50000"/>
              <a:gd name="adj2" fmla="val 305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5013360"/>
            <a:ext cx="863280" cy="576360"/>
          </a:xfrm>
          <a:prstGeom prst="leftArrow">
            <a:avLst>
              <a:gd name="adj1" fmla="val 50000"/>
              <a:gd name="adj2" fmla="val 374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2852640"/>
            <a:ext cx="6494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32720" y="2997360"/>
            <a:ext cx="22096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0" y="4149720"/>
            <a:ext cx="2354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é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4720" y="3213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4720" y="414972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78000" y="6094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Vie de l ’entreprise » - plan du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3480" y="228600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200" y="3505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2760" y="464832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3 : les grandes fonctions de l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02040" y="457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360" y="20574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: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7080" y="32004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Straté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343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: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5640" y="548640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Prise de dé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971080" y="45720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30280" y="1905120"/>
            <a:ext cx="7696800" cy="3305160"/>
            <a:chOff x="1430280" y="1905120"/>
            <a:chExt cx="7696800" cy="3305160"/>
          </a:xfrm>
        </p:grpSpPr>
        <p:sp>
          <p:nvSpPr>
            <p:cNvPr id="158" name=""/>
            <p:cNvSpPr/>
            <p:nvPr/>
          </p:nvSpPr>
          <p:spPr>
            <a:xfrm>
              <a:off x="192564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30280" y="2960640"/>
              <a:ext cx="106200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4472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8932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3248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38280" y="3200400"/>
              <a:ext cx="77616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38680" y="3200400"/>
              <a:ext cx="77796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95880" y="3200400"/>
              <a:ext cx="77760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51280" y="3200400"/>
              <a:ext cx="77760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468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05120" y="1905120"/>
              <a:ext cx="412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564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896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136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1136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41760" y="2327400"/>
              <a:ext cx="42408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452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5452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1508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2784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784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41280" y="2209680"/>
              <a:ext cx="15858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6400800" y="2361960"/>
              <a:ext cx="1060560" cy="352440"/>
            </a:xfrm>
            <a:prstGeom prst="rightArrow">
              <a:avLst>
                <a:gd name="adj1" fmla="val 50000"/>
                <a:gd name="adj2" fmla="val 7523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6560" y="1905120"/>
            <a:ext cx="8930520" cy="4925160"/>
            <a:chOff x="16560" y="1905120"/>
            <a:chExt cx="8930520" cy="4925160"/>
          </a:xfrm>
        </p:grpSpPr>
        <p:sp>
          <p:nvSpPr>
            <p:cNvPr id="182" name=""/>
            <p:cNvSpPr/>
            <p:nvPr/>
          </p:nvSpPr>
          <p:spPr>
            <a:xfrm>
              <a:off x="7559280" y="3200400"/>
              <a:ext cx="13878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eur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0800000">
              <a:off x="6629040" y="3428640"/>
              <a:ext cx="849240" cy="352440"/>
            </a:xfrm>
            <a:prstGeom prst="rightArrow">
              <a:avLst>
                <a:gd name="adj1" fmla="val 50000"/>
                <a:gd name="adj2" fmla="val 6024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17320" y="4367160"/>
              <a:ext cx="111024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ef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6681600" y="4647960"/>
              <a:ext cx="919080" cy="352440"/>
            </a:xfrm>
            <a:prstGeom prst="rightArrow">
              <a:avLst>
                <a:gd name="adj1" fmla="val 50000"/>
                <a:gd name="adj2" fmla="val 6519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31960" y="4578480"/>
              <a:ext cx="4237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16240" y="4578480"/>
              <a:ext cx="4237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59400" y="4578480"/>
              <a:ext cx="4255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32360" y="4578480"/>
              <a:ext cx="42408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3962520"/>
              <a:ext cx="6594480" cy="1981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4495680"/>
              <a:ext cx="685800" cy="6098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8080" y="1905120"/>
              <a:ext cx="0" cy="25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8120" y="5562720"/>
              <a:ext cx="1295280" cy="7617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0600" y="5334120"/>
              <a:ext cx="68580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68560" y="5638680"/>
              <a:ext cx="21420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terven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xtéri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5562360" y="5943240"/>
              <a:ext cx="919080" cy="352440"/>
            </a:xfrm>
            <a:prstGeom prst="rightArrow">
              <a:avLst>
                <a:gd name="adj1" fmla="val 50000"/>
                <a:gd name="adj2" fmla="val 6519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560" y="5883120"/>
              <a:ext cx="1625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eu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181480"/>
              <a:ext cx="457200" cy="609840"/>
            </a:xfrm>
            <a:prstGeom prst="upArrow">
              <a:avLst>
                <a:gd name="adj1" fmla="val 50000"/>
                <a:gd name="adj2" fmla="val 3334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19051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8000" y="6094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Vie de l ’entreprise » - plan du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3480" y="228600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200" y="3505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2760" y="46483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3 : Les grandes fonctions de l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1320" y="457200"/>
            <a:ext cx="75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0680" y="243828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: Une grande diversité d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1760" y="3657600"/>
            <a:ext cx="69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: Quelques définitions élé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9240" y="45720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teur et branche d ’activ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1133640" cy="1162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038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5486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5146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962520"/>
            <a:ext cx="2133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5410080"/>
            <a:ext cx="6858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410080"/>
            <a:ext cx="3429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6520" y="2514600"/>
            <a:ext cx="1911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8520" y="45720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teur d ’activité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5800" y="2133720"/>
            <a:ext cx="6858000" cy="4057560"/>
            <a:chOff x="685800" y="2133720"/>
            <a:chExt cx="6858000" cy="40575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85800" y="502920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6000" y="259092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0" y="40384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54864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4360" y="2514600"/>
              <a:ext cx="19350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3962520"/>
              <a:ext cx="213372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5410080"/>
              <a:ext cx="6858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14800" y="5410080"/>
              <a:ext cx="34290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8440" y="2514600"/>
              <a:ext cx="191196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8160" y="45720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nche d ’activité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5800" y="2133720"/>
            <a:ext cx="6858000" cy="4057560"/>
            <a:chOff x="685800" y="2133720"/>
            <a:chExt cx="6858000" cy="40575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85800" y="502920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86000" y="259092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40384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86000" y="54864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4360" y="2492280"/>
              <a:ext cx="19350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962520"/>
              <a:ext cx="213372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5410080"/>
              <a:ext cx="6858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5410080"/>
              <a:ext cx="34290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4400" y="2514600"/>
              <a:ext cx="19119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080" y="22860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bre d ’entreprise françaises par s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 ’activité ICS -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008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3:56:01Z</dcterms:created>
  <dc:creator>LE VOURCH</dc:creator>
  <dc:description/>
  <dc:language>en-US</dc:language>
  <cp:lastModifiedBy>The Computer</cp:lastModifiedBy>
  <dcterms:modified xsi:type="dcterms:W3CDTF">2004-09-28T15:38:55Z</dcterms:modified>
  <cp:revision>17</cp:revision>
  <dc:subject/>
  <dc:title>Diapositive 1</dc:title>
</cp:coreProperties>
</file>